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chimes.wav" ContentType="audio/x-wav"/>
  <Override PartName="/ppt/media/image4.png" ContentType="image/png"/>
  <Override PartName="/ppt/media/applause.wav" ContentType="audio/x-wav"/>
  <Override PartName="/ppt/media/drumroll.wav" ContentType="audio/x-wav"/>
  <Override PartName="/ppt/media/cashreg.wav" ContentType="audio/x-wav"/>
  <Override PartName="/ppt/media/image6.png" ContentType="image/png"/>
  <Override PartName="/ppt/media/image7.png" ContentType="image/png"/>
  <Override PartName="/ppt/media/hammer.wav" ContentType="audio/x-wav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BD6A6-0964-4910-AD44-D54BCA4BDE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time to go over how to find missing ang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you explain how to use the angles learned in the les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1F44F-614E-495B-8916-F5FC32BF7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4AF85-9848-42CF-9F2E-412ACD2CB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BA110-9EEC-4F52-802C-BE9A52A96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CA014-9FEE-403B-B9CB-722FC398E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78C5D-F2D7-4D97-9972-C03FA9D39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42E61-A036-455E-9BB4-122D82BB5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475C5-8AE3-44B6-A450-4E5876988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E529D-3F4F-451D-8E05-46F9E0BAF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E4A7A-E6FE-41AF-A381-C122E230F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EBEB6-1836-4EA4-A965-800BC6009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FC1A8-2D01-4FCC-A8AB-DA432EA9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BCA8D-38F2-45C8-99B7-BE9A9C193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6DA93-6FCD-4FF0-96E0-9842C2399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56486-F1A6-4F03-BF11-569FE2151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BE4AC-698E-4F2B-9E68-1A10A936E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80564-6FD7-44D7-9D50-608D543EA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A773F-4D8F-4195-91AB-6C918A4A1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EFEB7-64E5-4861-BB46-2C00AD794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5A232-E601-4463-99AC-0E361BD0B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3E961-12F0-4679-AA29-815E525E4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CDBB9-C29E-4748-A8D0-5ECE0F84B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4F131-3C86-475D-9CDA-89F6F0323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8FB5D-59F0-43E9-BA69-0E024371B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DBF90-47AE-44FA-B779-AAA921E3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b3b095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dddc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a9a78b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9d9b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b0ac90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b0ac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b0ac90"/>
                </a:gs>
                <a:gs pos="50000">
                  <a:srgbClr val="b1ad92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05c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30927-0B84-40C8-A4EA-3EA312B165B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b3b095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dddc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a9a78b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9d9b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b0ac90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b0ac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b0ac90"/>
                </a:gs>
                <a:gs pos="50000">
                  <a:srgbClr val="b1ad92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7A7B7-78B7-4938-9A91-ED0489CC84D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Warm-up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1828800" y="297180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23520" y="29718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543800" y="2971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48680" y="2398680"/>
            <a:ext cx="561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                          B                          C                     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27280" y="3618000"/>
            <a:ext cx="4542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two line segments abo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two rays abo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as many lines above as possi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94120" y="2928960"/>
            <a:ext cx="61920" cy="63360"/>
          </a:xfrm>
          <a:custGeom>
            <a:avLst/>
            <a:gdLst/>
            <a:ahLst/>
            <a:rect l="l" t="t" r="r" b="b"/>
            <a:pathLst>
              <a:path w="174" h="175">
                <a:moveTo>
                  <a:pt x="10840" y="8235"/>
                </a:moveTo>
                <a:cubicBezTo>
                  <a:pt x="10889" y="8222"/>
                  <a:pt x="10889" y="8211"/>
                  <a:pt x="10889" y="8161"/>
                </a:cubicBezTo>
                <a:cubicBezTo>
                  <a:pt x="10861" y="8203"/>
                  <a:pt x="10807" y="8253"/>
                  <a:pt x="10939" y="8235"/>
                </a:cubicBezTo>
                <a:cubicBezTo>
                  <a:pt x="10964" y="8210"/>
                  <a:pt x="10972" y="8202"/>
                  <a:pt x="10988" y="8186"/>
                </a:cubicBezTo>
                <a:cubicBezTo>
                  <a:pt x="10963" y="8152"/>
                  <a:pt x="10870" y="8100"/>
                  <a:pt x="10840" y="8186"/>
                </a:cubicBezTo>
                <a:cubicBezTo>
                  <a:pt x="10814" y="8260"/>
                  <a:pt x="10910" y="8307"/>
                  <a:pt x="10964" y="8260"/>
                </a:cubicBezTo>
                <a:cubicBezTo>
                  <a:pt x="10964" y="8252"/>
                  <a:pt x="10964" y="8243"/>
                  <a:pt x="10964" y="8235"/>
                </a:cubicBezTo>
                <a:cubicBezTo>
                  <a:pt x="10952" y="8223"/>
                  <a:pt x="10778" y="8193"/>
                  <a:pt x="10815" y="8285"/>
                </a:cubicBezTo>
                <a:cubicBezTo>
                  <a:pt x="10831" y="8293"/>
                  <a:pt x="10848" y="8302"/>
                  <a:pt x="10864" y="831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044960" y="2973240"/>
            <a:ext cx="1440" cy="9720"/>
          </a:xfrm>
          <a:custGeom>
            <a:avLst/>
            <a:gdLst/>
            <a:ahLst/>
            <a:rect l="l" t="t" r="r" b="b"/>
            <a:pathLst>
              <a:path w="1" h="26">
                <a:moveTo>
                  <a:pt x="11237" y="8260"/>
                </a:moveTo>
                <a:cubicBezTo>
                  <a:pt x="11237" y="8268"/>
                  <a:pt x="11237" y="8277"/>
                  <a:pt x="11237" y="828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749920" y="2938320"/>
            <a:ext cx="54000" cy="54000"/>
          </a:xfrm>
          <a:custGeom>
            <a:avLst/>
            <a:gdLst/>
            <a:ahLst/>
            <a:rect l="l" t="t" r="r" b="b"/>
            <a:pathLst>
              <a:path w="150" h="150">
                <a:moveTo>
                  <a:pt x="16123" y="8285"/>
                </a:moveTo>
                <a:cubicBezTo>
                  <a:pt x="16123" y="8235"/>
                  <a:pt x="16114" y="8216"/>
                  <a:pt x="16049" y="8235"/>
                </a:cubicBezTo>
                <a:cubicBezTo>
                  <a:pt x="15987" y="8253"/>
                  <a:pt x="15999" y="8262"/>
                  <a:pt x="15999" y="8310"/>
                </a:cubicBezTo>
                <a:cubicBezTo>
                  <a:pt x="16098" y="8300"/>
                  <a:pt x="16115" y="8292"/>
                  <a:pt x="16123" y="8186"/>
                </a:cubicBezTo>
                <a:cubicBezTo>
                  <a:pt x="16129" y="8113"/>
                  <a:pt x="16020" y="8203"/>
                  <a:pt x="15974" y="8260"/>
                </a:cubicBezTo>
                <a:cubicBezTo>
                  <a:pt x="16003" y="8303"/>
                  <a:pt x="16027" y="8212"/>
                  <a:pt x="16073" y="8235"/>
                </a:cubicBezTo>
                <a:cubicBezTo>
                  <a:pt x="16073" y="8243"/>
                  <a:pt x="16073" y="8252"/>
                  <a:pt x="16073" y="826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269120" y="2928960"/>
            <a:ext cx="81000" cy="44280"/>
          </a:xfrm>
          <a:custGeom>
            <a:avLst/>
            <a:gdLst/>
            <a:ahLst/>
            <a:rect l="l" t="t" r="r" b="b"/>
            <a:pathLst>
              <a:path w="224" h="125">
                <a:moveTo>
                  <a:pt x="20315" y="8210"/>
                </a:moveTo>
                <a:cubicBezTo>
                  <a:pt x="20350" y="8199"/>
                  <a:pt x="20340" y="8203"/>
                  <a:pt x="20340" y="8161"/>
                </a:cubicBezTo>
                <a:cubicBezTo>
                  <a:pt x="20304" y="8140"/>
                  <a:pt x="20225" y="8120"/>
                  <a:pt x="20191" y="8161"/>
                </a:cubicBezTo>
                <a:cubicBezTo>
                  <a:pt x="20129" y="8236"/>
                  <a:pt x="20315" y="8264"/>
                  <a:pt x="20340" y="8260"/>
                </a:cubicBezTo>
                <a:cubicBezTo>
                  <a:pt x="20401" y="8250"/>
                  <a:pt x="20468" y="8181"/>
                  <a:pt x="20365" y="8161"/>
                </a:cubicBezTo>
                <a:cubicBezTo>
                  <a:pt x="20297" y="8161"/>
                  <a:pt x="20278" y="8158"/>
                  <a:pt x="20241" y="8186"/>
                </a:cubicBezTo>
                <a:cubicBezTo>
                  <a:pt x="20271" y="8216"/>
                  <a:pt x="20457" y="8242"/>
                  <a:pt x="20414" y="8186"/>
                </a:cubicBezTo>
                <a:cubicBezTo>
                  <a:pt x="20369" y="8128"/>
                  <a:pt x="20315" y="8151"/>
                  <a:pt x="20315" y="821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94200" y="3402000"/>
            <a:ext cx="446040" cy="509760"/>
          </a:xfrm>
          <a:custGeom>
            <a:avLst/>
            <a:gdLst/>
            <a:ahLst/>
            <a:rect l="l" t="t" r="r" b="b"/>
            <a:pathLst>
              <a:path w="1241" h="1414">
                <a:moveTo>
                  <a:pt x="13791" y="10344"/>
                </a:moveTo>
                <a:cubicBezTo>
                  <a:pt x="13781" y="10312"/>
                  <a:pt x="13776" y="10290"/>
                  <a:pt x="13767" y="10319"/>
                </a:cubicBezTo>
                <a:cubicBezTo>
                  <a:pt x="13715" y="10493"/>
                  <a:pt x="13698" y="10674"/>
                  <a:pt x="13618" y="10840"/>
                </a:cubicBezTo>
                <a:cubicBezTo>
                  <a:pt x="13596" y="10862"/>
                  <a:pt x="13587" y="10873"/>
                  <a:pt x="13593" y="10840"/>
                </a:cubicBezTo>
                <a:cubicBezTo>
                  <a:pt x="13603" y="10615"/>
                  <a:pt x="13616" y="10385"/>
                  <a:pt x="13692" y="10170"/>
                </a:cubicBezTo>
                <a:cubicBezTo>
                  <a:pt x="13725" y="10077"/>
                  <a:pt x="13769" y="10026"/>
                  <a:pt x="13841" y="9971"/>
                </a:cubicBezTo>
                <a:cubicBezTo>
                  <a:pt x="13976" y="10096"/>
                  <a:pt x="14055" y="10254"/>
                  <a:pt x="14089" y="10443"/>
                </a:cubicBezTo>
                <a:cubicBezTo>
                  <a:pt x="14105" y="10531"/>
                  <a:pt x="14083" y="10617"/>
                  <a:pt x="14064" y="10691"/>
                </a:cubicBezTo>
              </a:path>
              <a:path w="1241" h="1414">
                <a:moveTo>
                  <a:pt x="13692" y="10393"/>
                </a:moveTo>
                <a:cubicBezTo>
                  <a:pt x="13797" y="10393"/>
                  <a:pt x="13888" y="10369"/>
                  <a:pt x="13990" y="10344"/>
                </a:cubicBezTo>
                <a:cubicBezTo>
                  <a:pt x="14078" y="10322"/>
                  <a:pt x="14148" y="10319"/>
                  <a:pt x="14238" y="10319"/>
                </a:cubicBezTo>
              </a:path>
              <a:path w="1241" h="1414">
                <a:moveTo>
                  <a:pt x="14436" y="10269"/>
                </a:moveTo>
                <a:cubicBezTo>
                  <a:pt x="14436" y="10405"/>
                  <a:pt x="14455" y="10532"/>
                  <a:pt x="14461" y="10666"/>
                </a:cubicBezTo>
                <a:cubicBezTo>
                  <a:pt x="14461" y="10674"/>
                  <a:pt x="14461" y="10683"/>
                  <a:pt x="14461" y="10691"/>
                </a:cubicBezTo>
                <a:cubicBezTo>
                  <a:pt x="14408" y="10557"/>
                  <a:pt x="14375" y="10362"/>
                  <a:pt x="14412" y="10220"/>
                </a:cubicBezTo>
                <a:cubicBezTo>
                  <a:pt x="14424" y="10176"/>
                  <a:pt x="14540" y="9886"/>
                  <a:pt x="14635" y="9971"/>
                </a:cubicBezTo>
                <a:cubicBezTo>
                  <a:pt x="14769" y="10091"/>
                  <a:pt x="14631" y="10240"/>
                  <a:pt x="14560" y="10344"/>
                </a:cubicBezTo>
                <a:cubicBezTo>
                  <a:pt x="14544" y="10352"/>
                  <a:pt x="14527" y="10360"/>
                  <a:pt x="14511" y="10368"/>
                </a:cubicBezTo>
                <a:cubicBezTo>
                  <a:pt x="14556" y="10256"/>
                  <a:pt x="14645" y="10277"/>
                  <a:pt x="14734" y="10344"/>
                </a:cubicBezTo>
                <a:cubicBezTo>
                  <a:pt x="14846" y="10428"/>
                  <a:pt x="14877" y="10574"/>
                  <a:pt x="14734" y="10641"/>
                </a:cubicBezTo>
                <a:cubicBezTo>
                  <a:pt x="14663" y="10674"/>
                  <a:pt x="14472" y="10672"/>
                  <a:pt x="14412" y="10616"/>
                </a:cubicBezTo>
                <a:cubicBezTo>
                  <a:pt x="14420" y="10616"/>
                  <a:pt x="14428" y="10616"/>
                  <a:pt x="14436" y="10616"/>
                </a:cubicBezTo>
              </a:path>
              <a:path w="1241" h="1414">
                <a:moveTo>
                  <a:pt x="13667" y="9475"/>
                </a:moveTo>
                <a:cubicBezTo>
                  <a:pt x="13667" y="9467"/>
                  <a:pt x="13667" y="9459"/>
                  <a:pt x="13667" y="9451"/>
                </a:cubicBezTo>
                <a:cubicBezTo>
                  <a:pt x="13720" y="9468"/>
                  <a:pt x="13679" y="9537"/>
                  <a:pt x="13692" y="9599"/>
                </a:cubicBezTo>
                <a:cubicBezTo>
                  <a:pt x="13720" y="9725"/>
                  <a:pt x="13884" y="9574"/>
                  <a:pt x="13891" y="9500"/>
                </a:cubicBezTo>
                <a:cubicBezTo>
                  <a:pt x="13883" y="9500"/>
                  <a:pt x="13874" y="9500"/>
                  <a:pt x="13866" y="9500"/>
                </a:cubicBezTo>
                <a:cubicBezTo>
                  <a:pt x="13833" y="9514"/>
                  <a:pt x="13733" y="9583"/>
                  <a:pt x="13816" y="9624"/>
                </a:cubicBezTo>
                <a:cubicBezTo>
                  <a:pt x="13855" y="9643"/>
                  <a:pt x="13888" y="9566"/>
                  <a:pt x="13841" y="9550"/>
                </a:cubicBezTo>
              </a:path>
              <a:path w="1241" h="1414">
                <a:moveTo>
                  <a:pt x="14734" y="9599"/>
                </a:moveTo>
                <a:cubicBezTo>
                  <a:pt x="14774" y="9586"/>
                  <a:pt x="14781" y="9584"/>
                  <a:pt x="14759" y="9550"/>
                </a:cubicBezTo>
                <a:cubicBezTo>
                  <a:pt x="14702" y="9618"/>
                  <a:pt x="14698" y="9640"/>
                  <a:pt x="14684" y="9723"/>
                </a:cubicBezTo>
                <a:cubicBezTo>
                  <a:pt x="14735" y="9713"/>
                  <a:pt x="14814" y="9680"/>
                  <a:pt x="14833" y="9624"/>
                </a:cubicBezTo>
                <a:cubicBezTo>
                  <a:pt x="14857" y="9553"/>
                  <a:pt x="14758" y="9554"/>
                  <a:pt x="14709" y="9550"/>
                </a:cubicBezTo>
                <a:cubicBezTo>
                  <a:pt x="14663" y="9546"/>
                  <a:pt x="14652" y="9614"/>
                  <a:pt x="14635" y="9649"/>
                </a:cubicBezTo>
                <a:cubicBezTo>
                  <a:pt x="14682" y="9641"/>
                  <a:pt x="14739" y="9603"/>
                  <a:pt x="14734" y="9525"/>
                </a:cubicBezTo>
                <a:cubicBezTo>
                  <a:pt x="14728" y="9434"/>
                  <a:pt x="14640" y="9591"/>
                  <a:pt x="14635" y="9599"/>
                </a:cubicBezTo>
              </a:path>
              <a:path w="1241" h="1414">
                <a:moveTo>
                  <a:pt x="13940" y="9575"/>
                </a:moveTo>
                <a:cubicBezTo>
                  <a:pt x="14001" y="9575"/>
                  <a:pt x="14044" y="9584"/>
                  <a:pt x="14089" y="9575"/>
                </a:cubicBezTo>
                <a:cubicBezTo>
                  <a:pt x="14127" y="9568"/>
                  <a:pt x="14135" y="9578"/>
                  <a:pt x="14163" y="9599"/>
                </a:cubicBezTo>
                <a:cubicBezTo>
                  <a:pt x="14201" y="9572"/>
                  <a:pt x="14215" y="9575"/>
                  <a:pt x="14263" y="9575"/>
                </a:cubicBezTo>
                <a:cubicBezTo>
                  <a:pt x="14286" y="9575"/>
                  <a:pt x="14357" y="9600"/>
                  <a:pt x="14362" y="9599"/>
                </a:cubicBezTo>
                <a:cubicBezTo>
                  <a:pt x="14410" y="9592"/>
                  <a:pt x="14435" y="9575"/>
                  <a:pt x="14486" y="9575"/>
                </a:cubicBezTo>
                <a:cubicBezTo>
                  <a:pt x="14571" y="9575"/>
                  <a:pt x="14638" y="9576"/>
                  <a:pt x="14709" y="9599"/>
                </a:cubicBezTo>
                <a:cubicBezTo>
                  <a:pt x="14735" y="9607"/>
                  <a:pt x="14760" y="9581"/>
                  <a:pt x="14784" y="957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840280" y="3419640"/>
            <a:ext cx="320760" cy="349200"/>
          </a:xfrm>
          <a:custGeom>
            <a:avLst/>
            <a:gdLst/>
            <a:ahLst/>
            <a:rect l="l" t="t" r="r" b="b"/>
            <a:pathLst>
              <a:path w="894" h="969">
                <a:moveTo>
                  <a:pt x="16247" y="10046"/>
                </a:moveTo>
                <a:cubicBezTo>
                  <a:pt x="16247" y="9968"/>
                  <a:pt x="16297" y="10317"/>
                  <a:pt x="16297" y="10319"/>
                </a:cubicBezTo>
                <a:cubicBezTo>
                  <a:pt x="16316" y="10494"/>
                  <a:pt x="16279" y="10317"/>
                  <a:pt x="16272" y="10294"/>
                </a:cubicBezTo>
                <a:cubicBezTo>
                  <a:pt x="16249" y="10110"/>
                  <a:pt x="16198" y="9905"/>
                  <a:pt x="16371" y="9773"/>
                </a:cubicBezTo>
                <a:cubicBezTo>
                  <a:pt x="16563" y="9626"/>
                  <a:pt x="16441" y="10007"/>
                  <a:pt x="16421" y="10046"/>
                </a:cubicBezTo>
                <a:cubicBezTo>
                  <a:pt x="16404" y="10071"/>
                  <a:pt x="16388" y="10095"/>
                  <a:pt x="16371" y="10120"/>
                </a:cubicBezTo>
                <a:cubicBezTo>
                  <a:pt x="16363" y="10120"/>
                  <a:pt x="16354" y="10120"/>
                  <a:pt x="16346" y="10120"/>
                </a:cubicBezTo>
                <a:cubicBezTo>
                  <a:pt x="16440" y="10028"/>
                  <a:pt x="16533" y="9994"/>
                  <a:pt x="16619" y="10145"/>
                </a:cubicBezTo>
                <a:cubicBezTo>
                  <a:pt x="16718" y="10320"/>
                  <a:pt x="16510" y="10485"/>
                  <a:pt x="16346" y="10468"/>
                </a:cubicBezTo>
                <a:cubicBezTo>
                  <a:pt x="16123" y="10446"/>
                  <a:pt x="16281" y="10258"/>
                  <a:pt x="16321" y="10170"/>
                </a:cubicBezTo>
              </a:path>
              <a:path w="894" h="969">
                <a:moveTo>
                  <a:pt x="17090" y="9798"/>
                </a:moveTo>
                <a:cubicBezTo>
                  <a:pt x="17098" y="9806"/>
                  <a:pt x="17107" y="9815"/>
                  <a:pt x="17115" y="9823"/>
                </a:cubicBezTo>
                <a:cubicBezTo>
                  <a:pt x="17115" y="9857"/>
                  <a:pt x="17081" y="9766"/>
                  <a:pt x="17016" y="9748"/>
                </a:cubicBezTo>
                <a:cubicBezTo>
                  <a:pt x="16877" y="9708"/>
                  <a:pt x="16786" y="9861"/>
                  <a:pt x="16768" y="9971"/>
                </a:cubicBezTo>
                <a:cubicBezTo>
                  <a:pt x="16747" y="10099"/>
                  <a:pt x="16788" y="10395"/>
                  <a:pt x="16991" y="10344"/>
                </a:cubicBezTo>
                <a:cubicBezTo>
                  <a:pt x="17075" y="10323"/>
                  <a:pt x="17081" y="10282"/>
                  <a:pt x="17090" y="10220"/>
                </a:cubicBezTo>
              </a:path>
              <a:path w="894" h="969">
                <a:moveTo>
                  <a:pt x="16222" y="9550"/>
                </a:moveTo>
                <a:cubicBezTo>
                  <a:pt x="16305" y="9500"/>
                  <a:pt x="16419" y="9502"/>
                  <a:pt x="16520" y="9500"/>
                </a:cubicBezTo>
                <a:cubicBezTo>
                  <a:pt x="16667" y="9497"/>
                  <a:pt x="16789" y="9498"/>
                  <a:pt x="16892" y="9550"/>
                </a:cubicBezTo>
                <a:cubicBezTo>
                  <a:pt x="16900" y="9550"/>
                  <a:pt x="16909" y="9550"/>
                  <a:pt x="16917" y="955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446880" y="3411360"/>
            <a:ext cx="393480" cy="312840"/>
          </a:xfrm>
          <a:custGeom>
            <a:avLst/>
            <a:gdLst/>
            <a:ahLst/>
            <a:rect l="l" t="t" r="r" b="b"/>
            <a:pathLst>
              <a:path w="1092" h="870">
                <a:moveTo>
                  <a:pt x="18207" y="9897"/>
                </a:moveTo>
                <a:cubicBezTo>
                  <a:pt x="18253" y="9931"/>
                  <a:pt x="18300" y="9944"/>
                  <a:pt x="18256" y="9922"/>
                </a:cubicBezTo>
                <a:cubicBezTo>
                  <a:pt x="18208" y="9810"/>
                  <a:pt x="18148" y="9676"/>
                  <a:pt x="18033" y="9823"/>
                </a:cubicBezTo>
                <a:cubicBezTo>
                  <a:pt x="17926" y="9960"/>
                  <a:pt x="17933" y="10129"/>
                  <a:pt x="17909" y="10294"/>
                </a:cubicBezTo>
                <a:cubicBezTo>
                  <a:pt x="18173" y="10388"/>
                  <a:pt x="18234" y="10259"/>
                  <a:pt x="18430" y="10071"/>
                </a:cubicBezTo>
              </a:path>
              <a:path w="1092" h="870">
                <a:moveTo>
                  <a:pt x="18554" y="9773"/>
                </a:moveTo>
                <a:cubicBezTo>
                  <a:pt x="18597" y="9921"/>
                  <a:pt x="18597" y="10073"/>
                  <a:pt x="18628" y="10220"/>
                </a:cubicBezTo>
                <a:cubicBezTo>
                  <a:pt x="18648" y="10260"/>
                  <a:pt x="18657" y="10286"/>
                  <a:pt x="18653" y="10244"/>
                </a:cubicBezTo>
              </a:path>
              <a:path w="1092" h="870">
                <a:moveTo>
                  <a:pt x="18554" y="9674"/>
                </a:moveTo>
                <a:cubicBezTo>
                  <a:pt x="18698" y="9708"/>
                  <a:pt x="18971" y="9732"/>
                  <a:pt x="19000" y="9922"/>
                </a:cubicBezTo>
                <a:cubicBezTo>
                  <a:pt x="19028" y="10106"/>
                  <a:pt x="18752" y="10238"/>
                  <a:pt x="18604" y="10170"/>
                </a:cubicBezTo>
                <a:cubicBezTo>
                  <a:pt x="18579" y="10137"/>
                  <a:pt x="18554" y="10104"/>
                  <a:pt x="18529" y="10071"/>
                </a:cubicBezTo>
              </a:path>
              <a:path w="1092" h="870">
                <a:moveTo>
                  <a:pt x="18033" y="9475"/>
                </a:moveTo>
                <a:cubicBezTo>
                  <a:pt x="18186" y="9475"/>
                  <a:pt x="18329" y="9482"/>
                  <a:pt x="18479" y="9475"/>
                </a:cubicBezTo>
                <a:cubicBezTo>
                  <a:pt x="18570" y="9475"/>
                  <a:pt x="18578" y="9475"/>
                  <a:pt x="18628" y="947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32760" y="3259080"/>
            <a:ext cx="403200" cy="376200"/>
          </a:xfrm>
          <a:custGeom>
            <a:avLst/>
            <a:gdLst/>
            <a:ahLst/>
            <a:rect l="l" t="t" r="r" b="b"/>
            <a:pathLst>
              <a:path w="1117" h="1043">
                <a:moveTo>
                  <a:pt x="20117" y="9475"/>
                </a:moveTo>
                <a:cubicBezTo>
                  <a:pt x="20117" y="9635"/>
                  <a:pt x="20101" y="9788"/>
                  <a:pt x="20092" y="9947"/>
                </a:cubicBezTo>
                <a:cubicBezTo>
                  <a:pt x="20089" y="10005"/>
                  <a:pt x="20092" y="10129"/>
                  <a:pt x="20092" y="10071"/>
                </a:cubicBezTo>
                <a:cubicBezTo>
                  <a:pt x="20092" y="9854"/>
                  <a:pt x="20106" y="9699"/>
                  <a:pt x="20191" y="9500"/>
                </a:cubicBezTo>
                <a:cubicBezTo>
                  <a:pt x="20231" y="9406"/>
                  <a:pt x="20231" y="9393"/>
                  <a:pt x="20315" y="9376"/>
                </a:cubicBezTo>
                <a:cubicBezTo>
                  <a:pt x="20395" y="9578"/>
                  <a:pt x="20436" y="9777"/>
                  <a:pt x="20464" y="9996"/>
                </a:cubicBezTo>
                <a:cubicBezTo>
                  <a:pt x="20480" y="10127"/>
                  <a:pt x="20440" y="9961"/>
                  <a:pt x="20439" y="9947"/>
                </a:cubicBezTo>
              </a:path>
              <a:path w="1117" h="1043">
                <a:moveTo>
                  <a:pt x="20141" y="9847"/>
                </a:moveTo>
                <a:cubicBezTo>
                  <a:pt x="20264" y="9813"/>
                  <a:pt x="20386" y="9779"/>
                  <a:pt x="20513" y="9773"/>
                </a:cubicBezTo>
                <a:cubicBezTo>
                  <a:pt x="20530" y="9773"/>
                  <a:pt x="20546" y="9773"/>
                  <a:pt x="20563" y="9773"/>
                </a:cubicBezTo>
              </a:path>
              <a:path w="1117" h="1043">
                <a:moveTo>
                  <a:pt x="20737" y="9575"/>
                </a:moveTo>
                <a:cubicBezTo>
                  <a:pt x="20760" y="9664"/>
                  <a:pt x="20786" y="9774"/>
                  <a:pt x="20811" y="9872"/>
                </a:cubicBezTo>
                <a:cubicBezTo>
                  <a:pt x="20830" y="9930"/>
                  <a:pt x="20839" y="9936"/>
                  <a:pt x="20836" y="9971"/>
                </a:cubicBezTo>
              </a:path>
              <a:path w="1117" h="1043">
                <a:moveTo>
                  <a:pt x="20786" y="9401"/>
                </a:moveTo>
                <a:cubicBezTo>
                  <a:pt x="20961" y="9443"/>
                  <a:pt x="21182" y="9472"/>
                  <a:pt x="21208" y="9699"/>
                </a:cubicBezTo>
                <a:cubicBezTo>
                  <a:pt x="21223" y="9835"/>
                  <a:pt x="21122" y="10013"/>
                  <a:pt x="20985" y="9971"/>
                </a:cubicBezTo>
                <a:cubicBezTo>
                  <a:pt x="20952" y="9955"/>
                  <a:pt x="20919" y="9938"/>
                  <a:pt x="20886" y="9922"/>
                </a:cubicBezTo>
              </a:path>
              <a:path w="1117" h="1043">
                <a:moveTo>
                  <a:pt x="20290" y="9128"/>
                </a:moveTo>
                <a:cubicBezTo>
                  <a:pt x="20310" y="9069"/>
                  <a:pt x="20427" y="9080"/>
                  <a:pt x="20489" y="9079"/>
                </a:cubicBezTo>
                <a:cubicBezTo>
                  <a:pt x="20649" y="9076"/>
                  <a:pt x="20803" y="9064"/>
                  <a:pt x="20960" y="9054"/>
                </a:cubicBezTo>
                <a:cubicBezTo>
                  <a:pt x="21012" y="9054"/>
                  <a:pt x="21001" y="9073"/>
                  <a:pt x="20910" y="912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688000" y="3867120"/>
            <a:ext cx="366840" cy="285840"/>
          </a:xfrm>
          <a:custGeom>
            <a:avLst/>
            <a:gdLst/>
            <a:ahLst/>
            <a:rect l="l" t="t" r="r" b="b"/>
            <a:pathLst>
              <a:path w="1018" h="795">
                <a:moveTo>
                  <a:pt x="15801" y="11013"/>
                </a:moveTo>
                <a:cubicBezTo>
                  <a:pt x="15824" y="10942"/>
                  <a:pt x="15848" y="11055"/>
                  <a:pt x="15850" y="11088"/>
                </a:cubicBezTo>
                <a:cubicBezTo>
                  <a:pt x="15861" y="11232"/>
                  <a:pt x="15847" y="11369"/>
                  <a:pt x="15825" y="11509"/>
                </a:cubicBezTo>
                <a:cubicBezTo>
                  <a:pt x="15825" y="11553"/>
                  <a:pt x="15845" y="11234"/>
                  <a:pt x="15850" y="11212"/>
                </a:cubicBezTo>
                <a:cubicBezTo>
                  <a:pt x="15886" y="11047"/>
                  <a:pt x="15906" y="10975"/>
                  <a:pt x="16024" y="10889"/>
                </a:cubicBezTo>
                <a:cubicBezTo>
                  <a:pt x="16180" y="10981"/>
                  <a:pt x="16231" y="11078"/>
                  <a:pt x="16247" y="11261"/>
                </a:cubicBezTo>
                <a:cubicBezTo>
                  <a:pt x="16247" y="11329"/>
                  <a:pt x="16250" y="11348"/>
                  <a:pt x="16222" y="11385"/>
                </a:cubicBezTo>
              </a:path>
              <a:path w="1018" h="795">
                <a:moveTo>
                  <a:pt x="15974" y="11162"/>
                </a:moveTo>
                <a:cubicBezTo>
                  <a:pt x="16139" y="11096"/>
                  <a:pt x="16305" y="11030"/>
                  <a:pt x="16470" y="10964"/>
                </a:cubicBezTo>
              </a:path>
              <a:path w="1018" h="795">
                <a:moveTo>
                  <a:pt x="16619" y="10790"/>
                </a:moveTo>
                <a:cubicBezTo>
                  <a:pt x="16638" y="10771"/>
                  <a:pt x="16520" y="10775"/>
                  <a:pt x="16470" y="10889"/>
                </a:cubicBezTo>
                <a:cubicBezTo>
                  <a:pt x="16398" y="11052"/>
                  <a:pt x="16406" y="11276"/>
                  <a:pt x="16644" y="11187"/>
                </a:cubicBezTo>
                <a:cubicBezTo>
                  <a:pt x="16784" y="11134"/>
                  <a:pt x="16798" y="11085"/>
                  <a:pt x="16818" y="10964"/>
                </a:cubicBezTo>
              </a:path>
              <a:path w="1018" h="795">
                <a:moveTo>
                  <a:pt x="15949" y="10790"/>
                </a:moveTo>
                <a:cubicBezTo>
                  <a:pt x="15967" y="10737"/>
                  <a:pt x="16095" y="10765"/>
                  <a:pt x="16148" y="10765"/>
                </a:cubicBezTo>
                <a:cubicBezTo>
                  <a:pt x="16263" y="10765"/>
                  <a:pt x="16500" y="10724"/>
                  <a:pt x="16594" y="10740"/>
                </a:cubicBezTo>
                <a:cubicBezTo>
                  <a:pt x="16602" y="10748"/>
                  <a:pt x="16611" y="10757"/>
                  <a:pt x="16619" y="1076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465960" y="3751200"/>
            <a:ext cx="374400" cy="276120"/>
          </a:xfrm>
          <a:custGeom>
            <a:avLst/>
            <a:gdLst/>
            <a:ahLst/>
            <a:rect l="l" t="t" r="r" b="b"/>
            <a:pathLst>
              <a:path w="1042" h="770">
                <a:moveTo>
                  <a:pt x="17959" y="10864"/>
                </a:moveTo>
                <a:cubicBezTo>
                  <a:pt x="17959" y="10810"/>
                  <a:pt x="17968" y="10811"/>
                  <a:pt x="17983" y="10864"/>
                </a:cubicBezTo>
                <a:cubicBezTo>
                  <a:pt x="18009" y="10960"/>
                  <a:pt x="18033" y="11062"/>
                  <a:pt x="18033" y="11162"/>
                </a:cubicBezTo>
                <a:cubicBezTo>
                  <a:pt x="18010" y="11070"/>
                  <a:pt x="17986" y="10997"/>
                  <a:pt x="17983" y="10889"/>
                </a:cubicBezTo>
                <a:cubicBezTo>
                  <a:pt x="17981" y="10808"/>
                  <a:pt x="18032" y="10536"/>
                  <a:pt x="18182" y="10592"/>
                </a:cubicBezTo>
                <a:cubicBezTo>
                  <a:pt x="18349" y="10654"/>
                  <a:pt x="18216" y="10816"/>
                  <a:pt x="18157" y="10889"/>
                </a:cubicBezTo>
                <a:cubicBezTo>
                  <a:pt x="18134" y="10912"/>
                  <a:pt x="18126" y="10923"/>
                  <a:pt x="18132" y="10889"/>
                </a:cubicBezTo>
                <a:cubicBezTo>
                  <a:pt x="18242" y="10840"/>
                  <a:pt x="18376" y="10814"/>
                  <a:pt x="18430" y="10964"/>
                </a:cubicBezTo>
                <a:cubicBezTo>
                  <a:pt x="18492" y="11137"/>
                  <a:pt x="18298" y="11180"/>
                  <a:pt x="18182" y="11187"/>
                </a:cubicBezTo>
                <a:cubicBezTo>
                  <a:pt x="18048" y="11194"/>
                  <a:pt x="18077" y="11191"/>
                  <a:pt x="18107" y="11088"/>
                </a:cubicBezTo>
              </a:path>
              <a:path w="1042" h="770">
                <a:moveTo>
                  <a:pt x="18579" y="10616"/>
                </a:moveTo>
                <a:cubicBezTo>
                  <a:pt x="18579" y="10608"/>
                  <a:pt x="18579" y="10600"/>
                  <a:pt x="18579" y="10592"/>
                </a:cubicBezTo>
                <a:cubicBezTo>
                  <a:pt x="18632" y="10678"/>
                  <a:pt x="18646" y="10809"/>
                  <a:pt x="18678" y="10914"/>
                </a:cubicBezTo>
                <a:cubicBezTo>
                  <a:pt x="18697" y="10971"/>
                  <a:pt x="18706" y="11014"/>
                  <a:pt x="18703" y="10964"/>
                </a:cubicBezTo>
              </a:path>
              <a:path w="1042" h="770">
                <a:moveTo>
                  <a:pt x="18455" y="10542"/>
                </a:moveTo>
                <a:cubicBezTo>
                  <a:pt x="18657" y="10497"/>
                  <a:pt x="18813" y="10468"/>
                  <a:pt x="18951" y="10666"/>
                </a:cubicBezTo>
                <a:cubicBezTo>
                  <a:pt x="19064" y="10828"/>
                  <a:pt x="18966" y="10980"/>
                  <a:pt x="18802" y="11038"/>
                </a:cubicBezTo>
                <a:cubicBezTo>
                  <a:pt x="18686" y="11061"/>
                  <a:pt x="18653" y="11072"/>
                  <a:pt x="18579" y="11038"/>
                </a:cubicBezTo>
              </a:path>
              <a:path w="1042" h="770">
                <a:moveTo>
                  <a:pt x="17983" y="10542"/>
                </a:moveTo>
                <a:cubicBezTo>
                  <a:pt x="18068" y="10491"/>
                  <a:pt x="18280" y="10453"/>
                  <a:pt x="18380" y="10443"/>
                </a:cubicBezTo>
                <a:cubicBezTo>
                  <a:pt x="18495" y="10431"/>
                  <a:pt x="18634" y="10418"/>
                  <a:pt x="18752" y="1041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153200" y="3714840"/>
            <a:ext cx="463680" cy="295200"/>
          </a:xfrm>
          <a:custGeom>
            <a:avLst/>
            <a:gdLst/>
            <a:ahLst/>
            <a:rect l="l" t="t" r="r" b="b"/>
            <a:pathLst>
              <a:path w="1290" h="819">
                <a:moveTo>
                  <a:pt x="20216" y="10567"/>
                </a:moveTo>
                <a:cubicBezTo>
                  <a:pt x="20216" y="10671"/>
                  <a:pt x="20224" y="10760"/>
                  <a:pt x="20241" y="10864"/>
                </a:cubicBezTo>
                <a:cubicBezTo>
                  <a:pt x="20256" y="10955"/>
                  <a:pt x="20290" y="11044"/>
                  <a:pt x="20290" y="11137"/>
                </a:cubicBezTo>
              </a:path>
              <a:path w="1290" h="819">
                <a:moveTo>
                  <a:pt x="19993" y="10592"/>
                </a:moveTo>
                <a:cubicBezTo>
                  <a:pt x="20226" y="10551"/>
                  <a:pt x="20480" y="10478"/>
                  <a:pt x="20638" y="10716"/>
                </a:cubicBezTo>
                <a:cubicBezTo>
                  <a:pt x="20728" y="10851"/>
                  <a:pt x="20614" y="11040"/>
                  <a:pt x="20489" y="11088"/>
                </a:cubicBezTo>
                <a:cubicBezTo>
                  <a:pt x="20447" y="11104"/>
                  <a:pt x="20200" y="11112"/>
                  <a:pt x="20241" y="11112"/>
                </a:cubicBezTo>
              </a:path>
              <a:path w="1290" h="819">
                <a:moveTo>
                  <a:pt x="20886" y="10542"/>
                </a:moveTo>
                <a:cubicBezTo>
                  <a:pt x="20936" y="10571"/>
                  <a:pt x="20945" y="10597"/>
                  <a:pt x="20960" y="10567"/>
                </a:cubicBezTo>
                <a:cubicBezTo>
                  <a:pt x="20834" y="10511"/>
                  <a:pt x="20798" y="10495"/>
                  <a:pt x="20737" y="10641"/>
                </a:cubicBezTo>
                <a:cubicBezTo>
                  <a:pt x="20668" y="10806"/>
                  <a:pt x="20618" y="11071"/>
                  <a:pt x="20861" y="11088"/>
                </a:cubicBezTo>
                <a:cubicBezTo>
                  <a:pt x="20986" y="11097"/>
                  <a:pt x="21044" y="10988"/>
                  <a:pt x="21158" y="10988"/>
                </a:cubicBezTo>
              </a:path>
              <a:path w="1290" h="819">
                <a:moveTo>
                  <a:pt x="19893" y="10393"/>
                </a:moveTo>
                <a:cubicBezTo>
                  <a:pt x="19860" y="10342"/>
                  <a:pt x="20032" y="10352"/>
                  <a:pt x="20092" y="10344"/>
                </a:cubicBezTo>
                <a:cubicBezTo>
                  <a:pt x="20269" y="10320"/>
                  <a:pt x="20451" y="10306"/>
                  <a:pt x="20613" y="10344"/>
                </a:cubicBezTo>
                <a:cubicBezTo>
                  <a:pt x="20621" y="10344"/>
                  <a:pt x="20630" y="10344"/>
                  <a:pt x="20638" y="10344"/>
                </a:cubicBezTo>
                <a:cubicBezTo>
                  <a:pt x="20481" y="10344"/>
                  <a:pt x="20367" y="10376"/>
                  <a:pt x="20216" y="10418"/>
                </a:cubicBezTo>
                <a:cubicBezTo>
                  <a:pt x="20134" y="10439"/>
                  <a:pt x="20118" y="10447"/>
                  <a:pt x="20067" y="10443"/>
                </a:cubicBezTo>
                <a:cubicBezTo>
                  <a:pt x="20232" y="10422"/>
                  <a:pt x="20398" y="10391"/>
                  <a:pt x="20563" y="10368"/>
                </a:cubicBezTo>
                <a:cubicBezTo>
                  <a:pt x="20707" y="10348"/>
                  <a:pt x="20840" y="10344"/>
                  <a:pt x="20985" y="1034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46680" y="4000680"/>
            <a:ext cx="536400" cy="660240"/>
          </a:xfrm>
          <a:custGeom>
            <a:avLst/>
            <a:gdLst/>
            <a:ahLst/>
            <a:rect l="l" t="t" r="r" b="b"/>
            <a:pathLst>
              <a:path w="1489" h="1837">
                <a:moveTo>
                  <a:pt x="11187" y="12278"/>
                </a:moveTo>
                <a:cubicBezTo>
                  <a:pt x="11187" y="12187"/>
                  <a:pt x="11177" y="12412"/>
                  <a:pt x="11162" y="12502"/>
                </a:cubicBezTo>
                <a:cubicBezTo>
                  <a:pt x="11141" y="12623"/>
                  <a:pt x="11154" y="12747"/>
                  <a:pt x="11088" y="12849"/>
                </a:cubicBezTo>
                <a:cubicBezTo>
                  <a:pt x="11088" y="12729"/>
                  <a:pt x="11089" y="12620"/>
                  <a:pt x="11112" y="12502"/>
                </a:cubicBezTo>
                <a:cubicBezTo>
                  <a:pt x="11145" y="12332"/>
                  <a:pt x="11189" y="12219"/>
                  <a:pt x="11311" y="12105"/>
                </a:cubicBezTo>
                <a:cubicBezTo>
                  <a:pt x="11345" y="12074"/>
                  <a:pt x="11390" y="12072"/>
                  <a:pt x="11435" y="12055"/>
                </a:cubicBezTo>
                <a:cubicBezTo>
                  <a:pt x="11517" y="12219"/>
                  <a:pt x="11569" y="12365"/>
                  <a:pt x="11584" y="12551"/>
                </a:cubicBezTo>
                <a:cubicBezTo>
                  <a:pt x="11591" y="12641"/>
                  <a:pt x="11584" y="12734"/>
                  <a:pt x="11584" y="12824"/>
                </a:cubicBezTo>
              </a:path>
              <a:path w="1489" h="1837">
                <a:moveTo>
                  <a:pt x="11162" y="12576"/>
                </a:moveTo>
                <a:cubicBezTo>
                  <a:pt x="11193" y="12530"/>
                  <a:pt x="11290" y="12528"/>
                  <a:pt x="11361" y="12526"/>
                </a:cubicBezTo>
                <a:cubicBezTo>
                  <a:pt x="11426" y="12524"/>
                  <a:pt x="11472" y="12541"/>
                  <a:pt x="11534" y="12551"/>
                </a:cubicBezTo>
              </a:path>
              <a:path w="1489" h="1837">
                <a:moveTo>
                  <a:pt x="11956" y="11509"/>
                </a:moveTo>
                <a:cubicBezTo>
                  <a:pt x="11969" y="11470"/>
                  <a:pt x="11968" y="11499"/>
                  <a:pt x="11981" y="11460"/>
                </a:cubicBezTo>
                <a:cubicBezTo>
                  <a:pt x="11847" y="11460"/>
                  <a:pt x="11684" y="11426"/>
                  <a:pt x="11559" y="11435"/>
                </a:cubicBezTo>
                <a:cubicBezTo>
                  <a:pt x="11483" y="11441"/>
                  <a:pt x="11410" y="11500"/>
                  <a:pt x="11336" y="11509"/>
                </a:cubicBezTo>
                <a:cubicBezTo>
                  <a:pt x="11275" y="11517"/>
                  <a:pt x="11222" y="11534"/>
                  <a:pt x="11162" y="11534"/>
                </a:cubicBezTo>
                <a:cubicBezTo>
                  <a:pt x="11154" y="11534"/>
                  <a:pt x="11145" y="11534"/>
                  <a:pt x="11137" y="11534"/>
                </a:cubicBezTo>
              </a:path>
              <a:path w="1489" h="1837">
                <a:moveTo>
                  <a:pt x="11237" y="11112"/>
                </a:moveTo>
                <a:cubicBezTo>
                  <a:pt x="11237" y="11214"/>
                  <a:pt x="11216" y="11296"/>
                  <a:pt x="11162" y="11385"/>
                </a:cubicBezTo>
                <a:cubicBezTo>
                  <a:pt x="11108" y="11474"/>
                  <a:pt x="11042" y="11547"/>
                  <a:pt x="10964" y="11609"/>
                </a:cubicBezTo>
                <a:cubicBezTo>
                  <a:pt x="10991" y="11663"/>
                  <a:pt x="11079" y="11717"/>
                  <a:pt x="11137" y="11757"/>
                </a:cubicBezTo>
                <a:cubicBezTo>
                  <a:pt x="11189" y="11793"/>
                  <a:pt x="11253" y="11833"/>
                  <a:pt x="11286" y="11857"/>
                </a:cubicBezTo>
                <a:cubicBezTo>
                  <a:pt x="11309" y="11879"/>
                  <a:pt x="11314" y="11887"/>
                  <a:pt x="11336" y="11881"/>
                </a:cubicBezTo>
              </a:path>
              <a:path w="1489" h="1837">
                <a:moveTo>
                  <a:pt x="11931" y="12278"/>
                </a:moveTo>
                <a:cubicBezTo>
                  <a:pt x="11931" y="12253"/>
                  <a:pt x="11931" y="12229"/>
                  <a:pt x="11931" y="12204"/>
                </a:cubicBezTo>
                <a:cubicBezTo>
                  <a:pt x="11985" y="12186"/>
                  <a:pt x="11946" y="12184"/>
                  <a:pt x="11956" y="12254"/>
                </a:cubicBezTo>
                <a:cubicBezTo>
                  <a:pt x="11978" y="12407"/>
                  <a:pt x="12005" y="12545"/>
                  <a:pt x="12005" y="12700"/>
                </a:cubicBezTo>
                <a:cubicBezTo>
                  <a:pt x="12005" y="12692"/>
                  <a:pt x="12005" y="12683"/>
                  <a:pt x="12005" y="12675"/>
                </a:cubicBezTo>
                <a:cubicBezTo>
                  <a:pt x="11964" y="12528"/>
                  <a:pt x="11956" y="12414"/>
                  <a:pt x="11956" y="12254"/>
                </a:cubicBezTo>
                <a:cubicBezTo>
                  <a:pt x="11956" y="12122"/>
                  <a:pt x="11949" y="11967"/>
                  <a:pt x="12105" y="11931"/>
                </a:cubicBezTo>
                <a:cubicBezTo>
                  <a:pt x="12130" y="11931"/>
                  <a:pt x="12154" y="11931"/>
                  <a:pt x="12179" y="11931"/>
                </a:cubicBezTo>
                <a:cubicBezTo>
                  <a:pt x="12267" y="12058"/>
                  <a:pt x="12284" y="12138"/>
                  <a:pt x="12179" y="12278"/>
                </a:cubicBezTo>
                <a:cubicBezTo>
                  <a:pt x="12140" y="12317"/>
                  <a:pt x="12139" y="12334"/>
                  <a:pt x="12105" y="12328"/>
                </a:cubicBezTo>
                <a:cubicBezTo>
                  <a:pt x="12150" y="12253"/>
                  <a:pt x="12282" y="12186"/>
                  <a:pt x="12378" y="12254"/>
                </a:cubicBezTo>
                <a:cubicBezTo>
                  <a:pt x="12552" y="12378"/>
                  <a:pt x="12422" y="12585"/>
                  <a:pt x="12278" y="12650"/>
                </a:cubicBezTo>
                <a:cubicBezTo>
                  <a:pt x="12157" y="12705"/>
                  <a:pt x="12004" y="12661"/>
                  <a:pt x="11956" y="12576"/>
                </a:cubicBezTo>
              </a:path>
              <a:path w="1489" h="1837">
                <a:moveTo>
                  <a:pt x="10964" y="12005"/>
                </a:moveTo>
                <a:lnTo>
                  <a:pt x="10964" y="12005"/>
                </a:lnTo>
                <a:lnTo>
                  <a:pt x="10964" y="12005"/>
                </a:lnTo>
              </a:path>
              <a:path w="1489" h="1837">
                <a:moveTo>
                  <a:pt x="11460" y="12898"/>
                </a:moveTo>
                <a:cubicBezTo>
                  <a:pt x="11460" y="12860"/>
                  <a:pt x="11467" y="12820"/>
                  <a:pt x="11485" y="12874"/>
                </a:cubicBezTo>
              </a:path>
              <a:path w="1489" h="1837">
                <a:moveTo>
                  <a:pt x="11633" y="12551"/>
                </a:moveTo>
                <a:cubicBezTo>
                  <a:pt x="11593" y="12489"/>
                  <a:pt x="11644" y="12605"/>
                  <a:pt x="11658" y="12675"/>
                </a:cubicBezTo>
                <a:cubicBezTo>
                  <a:pt x="11676" y="12767"/>
                  <a:pt x="11699" y="12856"/>
                  <a:pt x="11708" y="12948"/>
                </a:cubicBezTo>
                <a:cubicBezTo>
                  <a:pt x="11696" y="12901"/>
                  <a:pt x="11654" y="12828"/>
                  <a:pt x="11658" y="12774"/>
                </a:cubicBezTo>
                <a:cubicBezTo>
                  <a:pt x="11664" y="12691"/>
                  <a:pt x="11683" y="12614"/>
                  <a:pt x="11683" y="12526"/>
                </a:cubicBezTo>
                <a:cubicBezTo>
                  <a:pt x="11683" y="12518"/>
                  <a:pt x="11683" y="12510"/>
                  <a:pt x="11683" y="1250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749840" y="4106880"/>
            <a:ext cx="411120" cy="411120"/>
          </a:xfrm>
          <a:custGeom>
            <a:avLst/>
            <a:gdLst/>
            <a:ahLst/>
            <a:rect l="l" t="t" r="r" b="b"/>
            <a:pathLst>
              <a:path w="1142" h="1142">
                <a:moveTo>
                  <a:pt x="13320" y="12030"/>
                </a:moveTo>
                <a:cubicBezTo>
                  <a:pt x="13335" y="12178"/>
                  <a:pt x="13358" y="12327"/>
                  <a:pt x="13370" y="12477"/>
                </a:cubicBezTo>
                <a:cubicBezTo>
                  <a:pt x="13370" y="12502"/>
                  <a:pt x="13370" y="12526"/>
                  <a:pt x="13370" y="12551"/>
                </a:cubicBezTo>
                <a:cubicBezTo>
                  <a:pt x="13324" y="12460"/>
                  <a:pt x="13284" y="12233"/>
                  <a:pt x="13295" y="12129"/>
                </a:cubicBezTo>
                <a:cubicBezTo>
                  <a:pt x="13306" y="12022"/>
                  <a:pt x="13464" y="11737"/>
                  <a:pt x="13593" y="11881"/>
                </a:cubicBezTo>
                <a:cubicBezTo>
                  <a:pt x="13674" y="11971"/>
                  <a:pt x="13539" y="12089"/>
                  <a:pt x="13494" y="12154"/>
                </a:cubicBezTo>
                <a:cubicBezTo>
                  <a:pt x="13477" y="12171"/>
                  <a:pt x="13461" y="12187"/>
                  <a:pt x="13444" y="12204"/>
                </a:cubicBezTo>
                <a:cubicBezTo>
                  <a:pt x="13509" y="12188"/>
                  <a:pt x="13620" y="12103"/>
                  <a:pt x="13692" y="12179"/>
                </a:cubicBezTo>
                <a:cubicBezTo>
                  <a:pt x="13802" y="12294"/>
                  <a:pt x="13559" y="12544"/>
                  <a:pt x="13444" y="12551"/>
                </a:cubicBezTo>
                <a:cubicBezTo>
                  <a:pt x="13353" y="12528"/>
                  <a:pt x="13322" y="12527"/>
                  <a:pt x="13320" y="12452"/>
                </a:cubicBezTo>
              </a:path>
              <a:path w="1142" h="1142">
                <a:moveTo>
                  <a:pt x="13915" y="12080"/>
                </a:moveTo>
                <a:cubicBezTo>
                  <a:pt x="13935" y="12209"/>
                  <a:pt x="13954" y="12327"/>
                  <a:pt x="13990" y="12452"/>
                </a:cubicBezTo>
                <a:cubicBezTo>
                  <a:pt x="13961" y="12481"/>
                  <a:pt x="13938" y="12249"/>
                  <a:pt x="13940" y="12204"/>
                </a:cubicBezTo>
                <a:cubicBezTo>
                  <a:pt x="13945" y="12081"/>
                  <a:pt x="13971" y="11985"/>
                  <a:pt x="14039" y="11906"/>
                </a:cubicBezTo>
                <a:cubicBezTo>
                  <a:pt x="14200" y="11959"/>
                  <a:pt x="14261" y="12103"/>
                  <a:pt x="14312" y="12278"/>
                </a:cubicBezTo>
                <a:cubicBezTo>
                  <a:pt x="14317" y="12294"/>
                  <a:pt x="14337" y="12621"/>
                  <a:pt x="14337" y="12477"/>
                </a:cubicBezTo>
              </a:path>
              <a:path w="1142" h="1142">
                <a:moveTo>
                  <a:pt x="14039" y="12229"/>
                </a:moveTo>
                <a:cubicBezTo>
                  <a:pt x="14144" y="12205"/>
                  <a:pt x="14196" y="12183"/>
                  <a:pt x="14288" y="12204"/>
                </a:cubicBezTo>
              </a:path>
              <a:path w="1142" h="1142">
                <a:moveTo>
                  <a:pt x="13221" y="11683"/>
                </a:moveTo>
                <a:cubicBezTo>
                  <a:pt x="13210" y="11649"/>
                  <a:pt x="13186" y="11641"/>
                  <a:pt x="13295" y="11633"/>
                </a:cubicBezTo>
                <a:cubicBezTo>
                  <a:pt x="13504" y="11617"/>
                  <a:pt x="13711" y="11629"/>
                  <a:pt x="13915" y="11584"/>
                </a:cubicBezTo>
                <a:cubicBezTo>
                  <a:pt x="13972" y="11572"/>
                  <a:pt x="13973" y="11532"/>
                  <a:pt x="13990" y="11584"/>
                </a:cubicBezTo>
              </a:path>
              <a:path w="1142" h="1142">
                <a:moveTo>
                  <a:pt x="13494" y="11410"/>
                </a:moveTo>
                <a:cubicBezTo>
                  <a:pt x="13673" y="11410"/>
                  <a:pt x="13839" y="11449"/>
                  <a:pt x="14015" y="11485"/>
                </a:cubicBezTo>
                <a:cubicBezTo>
                  <a:pt x="14119" y="11506"/>
                  <a:pt x="14180" y="11549"/>
                  <a:pt x="14114" y="11658"/>
                </a:cubicBezTo>
                <a:cubicBezTo>
                  <a:pt x="14050" y="11764"/>
                  <a:pt x="13943" y="11844"/>
                  <a:pt x="13915" y="1195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554800" y="4197240"/>
            <a:ext cx="401400" cy="401760"/>
          </a:xfrm>
          <a:custGeom>
            <a:avLst/>
            <a:gdLst/>
            <a:ahLst/>
            <a:rect l="l" t="t" r="r" b="b"/>
            <a:pathLst>
              <a:path w="1117" h="1117">
                <a:moveTo>
                  <a:pt x="15602" y="12204"/>
                </a:moveTo>
                <a:cubicBezTo>
                  <a:pt x="15652" y="12212"/>
                  <a:pt x="15685" y="12227"/>
                  <a:pt x="15726" y="12254"/>
                </a:cubicBezTo>
                <a:cubicBezTo>
                  <a:pt x="15720" y="12235"/>
                  <a:pt x="15609" y="12134"/>
                  <a:pt x="15577" y="12129"/>
                </a:cubicBezTo>
                <a:cubicBezTo>
                  <a:pt x="15408" y="12102"/>
                  <a:pt x="15417" y="12527"/>
                  <a:pt x="15429" y="12601"/>
                </a:cubicBezTo>
                <a:cubicBezTo>
                  <a:pt x="15471" y="12851"/>
                  <a:pt x="15678" y="12767"/>
                  <a:pt x="15825" y="12675"/>
                </a:cubicBezTo>
                <a:cubicBezTo>
                  <a:pt x="15858" y="12650"/>
                  <a:pt x="15892" y="12626"/>
                  <a:pt x="15925" y="12601"/>
                </a:cubicBezTo>
              </a:path>
              <a:path w="1117" h="1117">
                <a:moveTo>
                  <a:pt x="16148" y="12105"/>
                </a:moveTo>
                <a:cubicBezTo>
                  <a:pt x="16168" y="12240"/>
                  <a:pt x="16224" y="12367"/>
                  <a:pt x="16247" y="12502"/>
                </a:cubicBezTo>
                <a:cubicBezTo>
                  <a:pt x="16247" y="12543"/>
                  <a:pt x="16247" y="12551"/>
                  <a:pt x="16247" y="12576"/>
                </a:cubicBezTo>
              </a:path>
              <a:path w="1117" h="1117">
                <a:moveTo>
                  <a:pt x="15999" y="12080"/>
                </a:moveTo>
                <a:cubicBezTo>
                  <a:pt x="16187" y="12099"/>
                  <a:pt x="16381" y="12151"/>
                  <a:pt x="16495" y="12328"/>
                </a:cubicBezTo>
                <a:cubicBezTo>
                  <a:pt x="16590" y="12477"/>
                  <a:pt x="16416" y="12586"/>
                  <a:pt x="16297" y="12626"/>
                </a:cubicBezTo>
                <a:cubicBezTo>
                  <a:pt x="16181" y="12649"/>
                  <a:pt x="16147" y="12658"/>
                  <a:pt x="16073" y="12626"/>
                </a:cubicBezTo>
              </a:path>
              <a:path w="1117" h="1117">
                <a:moveTo>
                  <a:pt x="15577" y="11857"/>
                </a:moveTo>
                <a:cubicBezTo>
                  <a:pt x="15742" y="11840"/>
                  <a:pt x="15906" y="11793"/>
                  <a:pt x="16073" y="11782"/>
                </a:cubicBezTo>
                <a:cubicBezTo>
                  <a:pt x="16124" y="11779"/>
                  <a:pt x="16377" y="11749"/>
                  <a:pt x="16396" y="11807"/>
                </a:cubicBezTo>
              </a:path>
              <a:path w="1117" h="1117">
                <a:moveTo>
                  <a:pt x="16024" y="11683"/>
                </a:moveTo>
                <a:cubicBezTo>
                  <a:pt x="16170" y="11639"/>
                  <a:pt x="16256" y="11681"/>
                  <a:pt x="16396" y="11733"/>
                </a:cubicBezTo>
                <a:cubicBezTo>
                  <a:pt x="16440" y="11749"/>
                  <a:pt x="16531" y="11779"/>
                  <a:pt x="16545" y="11807"/>
                </a:cubicBezTo>
                <a:cubicBezTo>
                  <a:pt x="16545" y="11815"/>
                  <a:pt x="16545" y="11824"/>
                  <a:pt x="16545" y="11832"/>
                </a:cubicBezTo>
                <a:cubicBezTo>
                  <a:pt x="16452" y="11901"/>
                  <a:pt x="16407" y="11986"/>
                  <a:pt x="16346" y="12080"/>
                </a:cubicBezTo>
                <a:cubicBezTo>
                  <a:pt x="16324" y="12102"/>
                  <a:pt x="16315" y="12107"/>
                  <a:pt x="16321" y="1212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276960" y="4187880"/>
            <a:ext cx="465120" cy="384120"/>
          </a:xfrm>
          <a:custGeom>
            <a:avLst/>
            <a:gdLst/>
            <a:ahLst/>
            <a:rect l="l" t="t" r="r" b="b"/>
            <a:pathLst>
              <a:path w="1291" h="1068">
                <a:moveTo>
                  <a:pt x="17611" y="12204"/>
                </a:moveTo>
                <a:cubicBezTo>
                  <a:pt x="17611" y="12179"/>
                  <a:pt x="17611" y="12171"/>
                  <a:pt x="17611" y="12154"/>
                </a:cubicBezTo>
                <a:cubicBezTo>
                  <a:pt x="17611" y="12044"/>
                  <a:pt x="17636" y="12320"/>
                  <a:pt x="17661" y="12427"/>
                </a:cubicBezTo>
                <a:cubicBezTo>
                  <a:pt x="17701" y="12568"/>
                  <a:pt x="17708" y="12593"/>
                  <a:pt x="17735" y="12675"/>
                </a:cubicBezTo>
              </a:path>
              <a:path w="1291" h="1068">
                <a:moveTo>
                  <a:pt x="17438" y="12129"/>
                </a:moveTo>
                <a:cubicBezTo>
                  <a:pt x="17522" y="12089"/>
                  <a:pt x="17832" y="11912"/>
                  <a:pt x="17884" y="12105"/>
                </a:cubicBezTo>
                <a:cubicBezTo>
                  <a:pt x="17896" y="12149"/>
                  <a:pt x="17832" y="12378"/>
                  <a:pt x="17760" y="12378"/>
                </a:cubicBezTo>
                <a:cubicBezTo>
                  <a:pt x="17760" y="12370"/>
                  <a:pt x="17760" y="12361"/>
                  <a:pt x="17760" y="12353"/>
                </a:cubicBezTo>
                <a:cubicBezTo>
                  <a:pt x="17846" y="12310"/>
                  <a:pt x="18038" y="12272"/>
                  <a:pt x="18033" y="12452"/>
                </a:cubicBezTo>
                <a:cubicBezTo>
                  <a:pt x="18028" y="12626"/>
                  <a:pt x="17817" y="12744"/>
                  <a:pt x="17661" y="12700"/>
                </a:cubicBezTo>
                <a:cubicBezTo>
                  <a:pt x="17536" y="12664"/>
                  <a:pt x="17595" y="12620"/>
                  <a:pt x="17636" y="12551"/>
                </a:cubicBezTo>
              </a:path>
              <a:path w="1291" h="1068">
                <a:moveTo>
                  <a:pt x="18281" y="12105"/>
                </a:moveTo>
                <a:cubicBezTo>
                  <a:pt x="18295" y="12243"/>
                  <a:pt x="18355" y="12347"/>
                  <a:pt x="18405" y="12477"/>
                </a:cubicBezTo>
                <a:cubicBezTo>
                  <a:pt x="18424" y="12534"/>
                  <a:pt x="18433" y="12541"/>
                  <a:pt x="18430" y="12576"/>
                </a:cubicBezTo>
              </a:path>
              <a:path w="1291" h="1068">
                <a:moveTo>
                  <a:pt x="18083" y="12055"/>
                </a:moveTo>
                <a:cubicBezTo>
                  <a:pt x="18256" y="12073"/>
                  <a:pt x="18585" y="12098"/>
                  <a:pt x="18703" y="12254"/>
                </a:cubicBezTo>
                <a:cubicBezTo>
                  <a:pt x="18856" y="12456"/>
                  <a:pt x="18531" y="12562"/>
                  <a:pt x="18405" y="12576"/>
                </a:cubicBezTo>
                <a:cubicBezTo>
                  <a:pt x="18269" y="12576"/>
                  <a:pt x="18230" y="12582"/>
                  <a:pt x="18157" y="12526"/>
                </a:cubicBezTo>
              </a:path>
              <a:path w="1291" h="1068">
                <a:moveTo>
                  <a:pt x="17587" y="11857"/>
                </a:moveTo>
                <a:cubicBezTo>
                  <a:pt x="17755" y="11857"/>
                  <a:pt x="17916" y="11840"/>
                  <a:pt x="18083" y="11832"/>
                </a:cubicBezTo>
                <a:cubicBezTo>
                  <a:pt x="18203" y="11826"/>
                  <a:pt x="18303" y="11832"/>
                  <a:pt x="18405" y="11857"/>
                </a:cubicBezTo>
              </a:path>
              <a:path w="1291" h="1068">
                <a:moveTo>
                  <a:pt x="18058" y="11633"/>
                </a:moveTo>
                <a:cubicBezTo>
                  <a:pt x="18180" y="11651"/>
                  <a:pt x="18290" y="11689"/>
                  <a:pt x="18405" y="11733"/>
                </a:cubicBezTo>
                <a:cubicBezTo>
                  <a:pt x="18512" y="11774"/>
                  <a:pt x="18532" y="11785"/>
                  <a:pt x="18604" y="11857"/>
                </a:cubicBezTo>
                <a:cubicBezTo>
                  <a:pt x="18519" y="11877"/>
                  <a:pt x="18444" y="11968"/>
                  <a:pt x="18380" y="12030"/>
                </a:cubicBezTo>
                <a:cubicBezTo>
                  <a:pt x="18342" y="12069"/>
                  <a:pt x="18325" y="12071"/>
                  <a:pt x="18331" y="1210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71760" y="5000760"/>
            <a:ext cx="696600" cy="554040"/>
          </a:xfrm>
          <a:custGeom>
            <a:avLst/>
            <a:gdLst/>
            <a:ahLst/>
            <a:rect l="l" t="t" r="r" b="b"/>
            <a:pathLst>
              <a:path w="1935" h="1539">
                <a:moveTo>
                  <a:pt x="4936" y="14635"/>
                </a:moveTo>
                <a:cubicBezTo>
                  <a:pt x="4936" y="14493"/>
                  <a:pt x="4968" y="14866"/>
                  <a:pt x="4986" y="15007"/>
                </a:cubicBezTo>
                <a:cubicBezTo>
                  <a:pt x="5003" y="15145"/>
                  <a:pt x="5011" y="15267"/>
                  <a:pt x="5011" y="15404"/>
                </a:cubicBezTo>
                <a:cubicBezTo>
                  <a:pt x="5011" y="15193"/>
                  <a:pt x="5003" y="14992"/>
                  <a:pt x="5011" y="14784"/>
                </a:cubicBezTo>
                <a:cubicBezTo>
                  <a:pt x="5016" y="14647"/>
                  <a:pt x="5009" y="14636"/>
                  <a:pt x="5110" y="14560"/>
                </a:cubicBezTo>
                <a:cubicBezTo>
                  <a:pt x="5302" y="14681"/>
                  <a:pt x="5395" y="14819"/>
                  <a:pt x="5432" y="15056"/>
                </a:cubicBezTo>
                <a:cubicBezTo>
                  <a:pt x="5446" y="15148"/>
                  <a:pt x="5432" y="15259"/>
                  <a:pt x="5432" y="15354"/>
                </a:cubicBezTo>
              </a:path>
              <a:path w="1935" h="1539">
                <a:moveTo>
                  <a:pt x="5035" y="15056"/>
                </a:moveTo>
                <a:cubicBezTo>
                  <a:pt x="5155" y="15056"/>
                  <a:pt x="5265" y="15077"/>
                  <a:pt x="5383" y="15081"/>
                </a:cubicBezTo>
                <a:cubicBezTo>
                  <a:pt x="5416" y="15081"/>
                  <a:pt x="5449" y="15081"/>
                  <a:pt x="5482" y="15081"/>
                </a:cubicBezTo>
              </a:path>
              <a:path w="1935" h="1539">
                <a:moveTo>
                  <a:pt x="5680" y="14858"/>
                </a:moveTo>
                <a:cubicBezTo>
                  <a:pt x="5748" y="15008"/>
                  <a:pt x="5764" y="15141"/>
                  <a:pt x="5779" y="15304"/>
                </a:cubicBezTo>
                <a:cubicBezTo>
                  <a:pt x="5779" y="15346"/>
                  <a:pt x="5779" y="15354"/>
                  <a:pt x="5779" y="15379"/>
                </a:cubicBezTo>
              </a:path>
              <a:path w="1935" h="1539">
                <a:moveTo>
                  <a:pt x="5631" y="14635"/>
                </a:moveTo>
                <a:cubicBezTo>
                  <a:pt x="5813" y="14661"/>
                  <a:pt x="6007" y="14757"/>
                  <a:pt x="6127" y="14908"/>
                </a:cubicBezTo>
                <a:cubicBezTo>
                  <a:pt x="6239" y="15049"/>
                  <a:pt x="6291" y="15309"/>
                  <a:pt x="6102" y="15404"/>
                </a:cubicBezTo>
                <a:cubicBezTo>
                  <a:pt x="6048" y="15431"/>
                  <a:pt x="5727" y="15480"/>
                  <a:pt x="5755" y="15379"/>
                </a:cubicBezTo>
                <a:cubicBezTo>
                  <a:pt x="5771" y="15354"/>
                  <a:pt x="5788" y="15329"/>
                  <a:pt x="5804" y="15304"/>
                </a:cubicBezTo>
              </a:path>
              <a:path w="1935" h="1539">
                <a:moveTo>
                  <a:pt x="4787" y="14263"/>
                </a:moveTo>
                <a:cubicBezTo>
                  <a:pt x="4926" y="14286"/>
                  <a:pt x="5067" y="14319"/>
                  <a:pt x="5209" y="14337"/>
                </a:cubicBezTo>
                <a:cubicBezTo>
                  <a:pt x="5437" y="14366"/>
                  <a:pt x="5680" y="14343"/>
                  <a:pt x="5904" y="14387"/>
                </a:cubicBezTo>
                <a:cubicBezTo>
                  <a:pt x="5944" y="14407"/>
                  <a:pt x="5950" y="14416"/>
                  <a:pt x="5978" y="14412"/>
                </a:cubicBezTo>
              </a:path>
              <a:path w="1935" h="1539">
                <a:moveTo>
                  <a:pt x="5804" y="14064"/>
                </a:moveTo>
                <a:cubicBezTo>
                  <a:pt x="5826" y="14151"/>
                  <a:pt x="5975" y="14229"/>
                  <a:pt x="6052" y="14263"/>
                </a:cubicBezTo>
                <a:cubicBezTo>
                  <a:pt x="6165" y="14314"/>
                  <a:pt x="6212" y="14312"/>
                  <a:pt x="6300" y="14387"/>
                </a:cubicBezTo>
                <a:cubicBezTo>
                  <a:pt x="6212" y="14410"/>
                  <a:pt x="6084" y="14492"/>
                  <a:pt x="6003" y="14536"/>
                </a:cubicBezTo>
                <a:cubicBezTo>
                  <a:pt x="5900" y="14597"/>
                  <a:pt x="5876" y="14605"/>
                  <a:pt x="5829" y="14660"/>
                </a:cubicBezTo>
              </a:path>
              <a:path w="1935" h="1539">
                <a:moveTo>
                  <a:pt x="4738" y="13915"/>
                </a:moveTo>
                <a:cubicBezTo>
                  <a:pt x="4738" y="13907"/>
                  <a:pt x="4738" y="13899"/>
                  <a:pt x="4738" y="13891"/>
                </a:cubicBezTo>
                <a:cubicBezTo>
                  <a:pt x="4670" y="13907"/>
                  <a:pt x="4577" y="13977"/>
                  <a:pt x="4514" y="14015"/>
                </a:cubicBezTo>
                <a:cubicBezTo>
                  <a:pt x="4490" y="14029"/>
                  <a:pt x="4353" y="14112"/>
                  <a:pt x="4366" y="14139"/>
                </a:cubicBezTo>
                <a:cubicBezTo>
                  <a:pt x="4425" y="14259"/>
                  <a:pt x="4512" y="14374"/>
                  <a:pt x="4589" y="14486"/>
                </a:cubicBezTo>
                <a:cubicBezTo>
                  <a:pt x="4623" y="14536"/>
                  <a:pt x="4670" y="14621"/>
                  <a:pt x="4713" y="1463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67040" y="4626000"/>
            <a:ext cx="554040" cy="990720"/>
          </a:xfrm>
          <a:custGeom>
            <a:avLst/>
            <a:gdLst/>
            <a:ahLst/>
            <a:rect l="l" t="t" r="r" b="b"/>
            <a:pathLst>
              <a:path w="1539" h="2754">
                <a:moveTo>
                  <a:pt x="8235" y="12874"/>
                </a:moveTo>
                <a:cubicBezTo>
                  <a:pt x="8235" y="12866"/>
                  <a:pt x="8235" y="12857"/>
                  <a:pt x="8235" y="12849"/>
                </a:cubicBezTo>
              </a:path>
              <a:path w="1539" h="2754">
                <a:moveTo>
                  <a:pt x="8334" y="14784"/>
                </a:moveTo>
                <a:cubicBezTo>
                  <a:pt x="8361" y="14968"/>
                  <a:pt x="8420" y="15140"/>
                  <a:pt x="8434" y="15329"/>
                </a:cubicBezTo>
                <a:cubicBezTo>
                  <a:pt x="8438" y="15387"/>
                  <a:pt x="8492" y="15666"/>
                  <a:pt x="8409" y="15503"/>
                </a:cubicBezTo>
                <a:cubicBezTo>
                  <a:pt x="8340" y="15289"/>
                  <a:pt x="8217" y="14948"/>
                  <a:pt x="8384" y="14734"/>
                </a:cubicBezTo>
                <a:cubicBezTo>
                  <a:pt x="8425" y="14709"/>
                  <a:pt x="8467" y="14685"/>
                  <a:pt x="8508" y="14660"/>
                </a:cubicBezTo>
                <a:cubicBezTo>
                  <a:pt x="8681" y="14746"/>
                  <a:pt x="8687" y="14846"/>
                  <a:pt x="8582" y="15032"/>
                </a:cubicBezTo>
                <a:cubicBezTo>
                  <a:pt x="8521" y="15140"/>
                  <a:pt x="8648" y="15060"/>
                  <a:pt x="8756" y="15180"/>
                </a:cubicBezTo>
                <a:cubicBezTo>
                  <a:pt x="8919" y="15361"/>
                  <a:pt x="8697" y="15551"/>
                  <a:pt x="8533" y="15602"/>
                </a:cubicBezTo>
                <a:cubicBezTo>
                  <a:pt x="8336" y="15663"/>
                  <a:pt x="8384" y="15481"/>
                  <a:pt x="8384" y="15379"/>
                </a:cubicBezTo>
              </a:path>
              <a:path w="1539" h="2754">
                <a:moveTo>
                  <a:pt x="9227" y="14883"/>
                </a:moveTo>
                <a:cubicBezTo>
                  <a:pt x="9227" y="14789"/>
                  <a:pt x="9171" y="14764"/>
                  <a:pt x="9103" y="14709"/>
                </a:cubicBezTo>
                <a:cubicBezTo>
                  <a:pt x="8996" y="14859"/>
                  <a:pt x="8747" y="15199"/>
                  <a:pt x="8954" y="15379"/>
                </a:cubicBezTo>
                <a:cubicBezTo>
                  <a:pt x="9158" y="15556"/>
                  <a:pt x="9424" y="15275"/>
                  <a:pt x="9500" y="15131"/>
                </a:cubicBezTo>
              </a:path>
              <a:path w="1539" h="2754">
                <a:moveTo>
                  <a:pt x="8235" y="14238"/>
                </a:moveTo>
                <a:cubicBezTo>
                  <a:pt x="8227" y="14238"/>
                  <a:pt x="8218" y="14238"/>
                  <a:pt x="8210" y="14238"/>
                </a:cubicBezTo>
                <a:cubicBezTo>
                  <a:pt x="8221" y="14204"/>
                  <a:pt x="8498" y="14281"/>
                  <a:pt x="8533" y="14288"/>
                </a:cubicBezTo>
                <a:cubicBezTo>
                  <a:pt x="8718" y="14326"/>
                  <a:pt x="8964" y="14325"/>
                  <a:pt x="9128" y="14387"/>
                </a:cubicBezTo>
              </a:path>
              <a:path w="1539" h="2754">
                <a:moveTo>
                  <a:pt x="8756" y="14039"/>
                </a:moveTo>
                <a:cubicBezTo>
                  <a:pt x="8947" y="14092"/>
                  <a:pt x="9130" y="14140"/>
                  <a:pt x="9302" y="14238"/>
                </a:cubicBezTo>
                <a:cubicBezTo>
                  <a:pt x="9437" y="14315"/>
                  <a:pt x="9398" y="14425"/>
                  <a:pt x="9277" y="14511"/>
                </a:cubicBezTo>
                <a:cubicBezTo>
                  <a:pt x="9156" y="14597"/>
                  <a:pt x="9024" y="14722"/>
                  <a:pt x="8954" y="14610"/>
                </a:cubicBezTo>
              </a:path>
              <a:path w="1539" h="2754">
                <a:moveTo>
                  <a:pt x="8458" y="14015"/>
                </a:moveTo>
                <a:cubicBezTo>
                  <a:pt x="8292" y="14120"/>
                  <a:pt x="8164" y="14266"/>
                  <a:pt x="8012" y="14387"/>
                </a:cubicBezTo>
                <a:cubicBezTo>
                  <a:pt x="7995" y="14395"/>
                  <a:pt x="7979" y="14404"/>
                  <a:pt x="7962" y="14412"/>
                </a:cubicBezTo>
                <a:cubicBezTo>
                  <a:pt x="8047" y="14412"/>
                  <a:pt x="8076" y="14415"/>
                  <a:pt x="8161" y="14461"/>
                </a:cubicBezTo>
                <a:cubicBezTo>
                  <a:pt x="8264" y="14517"/>
                  <a:pt x="8428" y="14620"/>
                  <a:pt x="8483" y="14709"/>
                </a:cubicBezTo>
                <a:cubicBezTo>
                  <a:pt x="8483" y="14717"/>
                  <a:pt x="8483" y="14726"/>
                  <a:pt x="8483" y="1473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741840" y="5037120"/>
            <a:ext cx="669960" cy="446040"/>
          </a:xfrm>
          <a:custGeom>
            <a:avLst/>
            <a:gdLst/>
            <a:ahLst/>
            <a:rect l="l" t="t" r="r" b="b"/>
            <a:pathLst>
              <a:path w="1862" h="1241">
                <a:moveTo>
                  <a:pt x="11286" y="14784"/>
                </a:moveTo>
                <a:cubicBezTo>
                  <a:pt x="11294" y="14800"/>
                  <a:pt x="11303" y="14817"/>
                  <a:pt x="11311" y="14833"/>
                </a:cubicBezTo>
                <a:cubicBezTo>
                  <a:pt x="11369" y="14756"/>
                  <a:pt x="11312" y="14664"/>
                  <a:pt x="11237" y="14610"/>
                </a:cubicBezTo>
                <a:cubicBezTo>
                  <a:pt x="11056" y="14480"/>
                  <a:pt x="10988" y="14917"/>
                  <a:pt x="11013" y="15007"/>
                </a:cubicBezTo>
                <a:cubicBezTo>
                  <a:pt x="11111" y="15354"/>
                  <a:pt x="11442" y="15197"/>
                  <a:pt x="11633" y="15081"/>
                </a:cubicBezTo>
              </a:path>
              <a:path w="1862" h="1241">
                <a:moveTo>
                  <a:pt x="11683" y="14635"/>
                </a:moveTo>
                <a:cubicBezTo>
                  <a:pt x="11756" y="14780"/>
                  <a:pt x="11807" y="14938"/>
                  <a:pt x="11881" y="15081"/>
                </a:cubicBezTo>
                <a:cubicBezTo>
                  <a:pt x="11909" y="15109"/>
                  <a:pt x="11918" y="15113"/>
                  <a:pt x="11906" y="15056"/>
                </a:cubicBezTo>
              </a:path>
              <a:path w="1862" h="1241">
                <a:moveTo>
                  <a:pt x="11757" y="14536"/>
                </a:moveTo>
                <a:cubicBezTo>
                  <a:pt x="11986" y="14650"/>
                  <a:pt x="12145" y="14727"/>
                  <a:pt x="12254" y="14957"/>
                </a:cubicBezTo>
                <a:cubicBezTo>
                  <a:pt x="12099" y="15153"/>
                  <a:pt x="12010" y="15117"/>
                  <a:pt x="11782" y="15032"/>
                </a:cubicBezTo>
              </a:path>
              <a:path w="1862" h="1241">
                <a:moveTo>
                  <a:pt x="10815" y="14337"/>
                </a:moveTo>
                <a:cubicBezTo>
                  <a:pt x="10938" y="14337"/>
                  <a:pt x="11064" y="14258"/>
                  <a:pt x="11187" y="14238"/>
                </a:cubicBezTo>
                <a:cubicBezTo>
                  <a:pt x="11295" y="14220"/>
                  <a:pt x="11696" y="14126"/>
                  <a:pt x="11807" y="14188"/>
                </a:cubicBezTo>
                <a:cubicBezTo>
                  <a:pt x="11807" y="14196"/>
                  <a:pt x="11807" y="14205"/>
                  <a:pt x="11807" y="14213"/>
                </a:cubicBezTo>
              </a:path>
              <a:path w="1862" h="1241">
                <a:moveTo>
                  <a:pt x="11485" y="13990"/>
                </a:moveTo>
                <a:cubicBezTo>
                  <a:pt x="11679" y="14049"/>
                  <a:pt x="11922" y="14048"/>
                  <a:pt x="12105" y="14139"/>
                </a:cubicBezTo>
                <a:cubicBezTo>
                  <a:pt x="12121" y="14155"/>
                  <a:pt x="12138" y="14172"/>
                  <a:pt x="12154" y="14188"/>
                </a:cubicBezTo>
                <a:cubicBezTo>
                  <a:pt x="12069" y="14341"/>
                  <a:pt x="11987" y="14403"/>
                  <a:pt x="11832" y="14486"/>
                </a:cubicBezTo>
                <a:cubicBezTo>
                  <a:pt x="11754" y="14528"/>
                  <a:pt x="11656" y="14592"/>
                  <a:pt x="11609" y="14560"/>
                </a:cubicBezTo>
              </a:path>
              <a:path w="1862" h="1241">
                <a:moveTo>
                  <a:pt x="10815" y="14039"/>
                </a:moveTo>
                <a:cubicBezTo>
                  <a:pt x="10815" y="14006"/>
                  <a:pt x="10665" y="14189"/>
                  <a:pt x="10641" y="14213"/>
                </a:cubicBezTo>
                <a:cubicBezTo>
                  <a:pt x="10548" y="14306"/>
                  <a:pt x="10476" y="14389"/>
                  <a:pt x="10393" y="14486"/>
                </a:cubicBezTo>
                <a:cubicBezTo>
                  <a:pt x="10547" y="14570"/>
                  <a:pt x="10801" y="14600"/>
                  <a:pt x="10988" y="14635"/>
                </a:cubicBezTo>
                <a:cubicBezTo>
                  <a:pt x="11120" y="14660"/>
                  <a:pt x="11177" y="14634"/>
                  <a:pt x="11237" y="1473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01760" y="6357960"/>
            <a:ext cx="9360" cy="1440"/>
          </a:xfrm>
          <a:custGeom>
            <a:avLst/>
            <a:gdLst/>
            <a:ahLst/>
            <a:rect l="l" t="t" r="r" b="b"/>
            <a:pathLst>
              <a:path w="26" h="1">
                <a:moveTo>
                  <a:pt x="1116" y="17661"/>
                </a:moveTo>
                <a:cubicBezTo>
                  <a:pt x="1124" y="17661"/>
                  <a:pt x="1133" y="17661"/>
                  <a:pt x="1141" y="1766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29160" y="2589120"/>
            <a:ext cx="27000" cy="1800"/>
          </a:xfrm>
          <a:custGeom>
            <a:avLst/>
            <a:gdLst/>
            <a:ahLst/>
            <a:rect l="l" t="t" r="r" b="b"/>
            <a:pathLst>
              <a:path w="76" h="1">
                <a:moveTo>
                  <a:pt x="15081" y="7193"/>
                </a:moveTo>
                <a:cubicBezTo>
                  <a:pt x="15114" y="7193"/>
                  <a:pt x="15131" y="7193"/>
                  <a:pt x="15156" y="719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098800" y="2938320"/>
            <a:ext cx="63360" cy="79560"/>
          </a:xfrm>
          <a:custGeom>
            <a:avLst/>
            <a:gdLst/>
            <a:ahLst/>
            <a:rect l="l" t="t" r="r" b="b"/>
            <a:pathLst>
              <a:path w="175" h="224">
                <a:moveTo>
                  <a:pt x="5879" y="8210"/>
                </a:moveTo>
                <a:cubicBezTo>
                  <a:pt x="5887" y="8202"/>
                  <a:pt x="5896" y="8194"/>
                  <a:pt x="5904" y="8186"/>
                </a:cubicBezTo>
                <a:cubicBezTo>
                  <a:pt x="5890" y="8210"/>
                  <a:pt x="5791" y="8339"/>
                  <a:pt x="5904" y="8310"/>
                </a:cubicBezTo>
                <a:cubicBezTo>
                  <a:pt x="5982" y="8290"/>
                  <a:pt x="5987" y="8226"/>
                  <a:pt x="5978" y="8186"/>
                </a:cubicBezTo>
                <a:cubicBezTo>
                  <a:pt x="5978" y="8178"/>
                  <a:pt x="5978" y="8169"/>
                  <a:pt x="5978" y="8161"/>
                </a:cubicBezTo>
                <a:cubicBezTo>
                  <a:pt x="5943" y="8173"/>
                  <a:pt x="5765" y="8262"/>
                  <a:pt x="5829" y="8334"/>
                </a:cubicBezTo>
                <a:cubicBezTo>
                  <a:pt x="5901" y="8414"/>
                  <a:pt x="5971" y="8263"/>
                  <a:pt x="5953" y="8210"/>
                </a:cubicBezTo>
                <a:cubicBezTo>
                  <a:pt x="5860" y="8219"/>
                  <a:pt x="5814" y="8231"/>
                  <a:pt x="5854" y="8334"/>
                </a:cubicBezTo>
                <a:cubicBezTo>
                  <a:pt x="5883" y="8409"/>
                  <a:pt x="5892" y="8386"/>
                  <a:pt x="5953" y="835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Missing Angle Measures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nd the missing ang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914400" y="2666880"/>
            <a:ext cx="3011400" cy="3019320"/>
            <a:chOff x="914400" y="2666880"/>
            <a:chExt cx="3011400" cy="3019320"/>
          </a:xfrm>
        </p:grpSpPr>
        <p:pic>
          <p:nvPicPr>
            <p:cNvPr id="259" name="" descr=""/>
            <p:cNvPicPr/>
            <p:nvPr/>
          </p:nvPicPr>
          <p:blipFill>
            <a:blip r:embed="rId1"/>
            <a:stretch/>
          </p:blipFill>
          <p:spPr>
            <a:xfrm>
              <a:off x="914400" y="2666880"/>
              <a:ext cx="3011400" cy="30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 flipV="1">
              <a:off x="990360" y="4495320"/>
              <a:ext cx="2895840" cy="10666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218960" y="464796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6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1981080" y="51814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170320" y="3133800"/>
            <a:ext cx="536760" cy="376200"/>
          </a:xfrm>
          <a:custGeom>
            <a:avLst/>
            <a:gdLst/>
            <a:ahLst/>
            <a:rect l="l" t="t" r="r" b="b"/>
            <a:pathLst>
              <a:path w="1489" h="1043">
                <a:moveTo>
                  <a:pt x="15032" y="8706"/>
                </a:moveTo>
                <a:cubicBezTo>
                  <a:pt x="14914" y="8713"/>
                  <a:pt x="14803" y="8740"/>
                  <a:pt x="14684" y="8731"/>
                </a:cubicBezTo>
                <a:cubicBezTo>
                  <a:pt x="14551" y="8709"/>
                  <a:pt x="14517" y="8696"/>
                  <a:pt x="14436" y="8731"/>
                </a:cubicBezTo>
                <a:cubicBezTo>
                  <a:pt x="14451" y="8890"/>
                  <a:pt x="14482" y="9041"/>
                  <a:pt x="14486" y="9203"/>
                </a:cubicBezTo>
                <a:cubicBezTo>
                  <a:pt x="14486" y="9228"/>
                  <a:pt x="14486" y="9252"/>
                  <a:pt x="14486" y="9277"/>
                </a:cubicBezTo>
                <a:cubicBezTo>
                  <a:pt x="14521" y="9242"/>
                  <a:pt x="14581" y="9169"/>
                  <a:pt x="14660" y="9153"/>
                </a:cubicBezTo>
                <a:cubicBezTo>
                  <a:pt x="14837" y="9117"/>
                  <a:pt x="15006" y="9207"/>
                  <a:pt x="14982" y="9401"/>
                </a:cubicBezTo>
                <a:cubicBezTo>
                  <a:pt x="14953" y="9636"/>
                  <a:pt x="14710" y="9782"/>
                  <a:pt x="14486" y="9748"/>
                </a:cubicBezTo>
                <a:cubicBezTo>
                  <a:pt x="14382" y="9697"/>
                  <a:pt x="14348" y="9675"/>
                  <a:pt x="14362" y="9575"/>
                </a:cubicBezTo>
              </a:path>
              <a:path w="1489" h="1043">
                <a:moveTo>
                  <a:pt x="15280" y="8905"/>
                </a:moveTo>
                <a:cubicBezTo>
                  <a:pt x="15280" y="8844"/>
                  <a:pt x="15231" y="9100"/>
                  <a:pt x="15230" y="9103"/>
                </a:cubicBezTo>
                <a:cubicBezTo>
                  <a:pt x="15197" y="9274"/>
                  <a:pt x="15177" y="9442"/>
                  <a:pt x="15255" y="9599"/>
                </a:cubicBezTo>
                <a:cubicBezTo>
                  <a:pt x="15333" y="9755"/>
                  <a:pt x="15537" y="9720"/>
                  <a:pt x="15652" y="9624"/>
                </a:cubicBezTo>
                <a:cubicBezTo>
                  <a:pt x="15765" y="9530"/>
                  <a:pt x="15830" y="9362"/>
                  <a:pt x="15850" y="9227"/>
                </a:cubicBezTo>
                <a:cubicBezTo>
                  <a:pt x="15769" y="9174"/>
                  <a:pt x="15660" y="9141"/>
                  <a:pt x="15577" y="9227"/>
                </a:cubicBezTo>
                <a:cubicBezTo>
                  <a:pt x="15523" y="9283"/>
                  <a:pt x="15400" y="9487"/>
                  <a:pt x="15453" y="9575"/>
                </a:cubicBezTo>
                <a:cubicBezTo>
                  <a:pt x="15492" y="9613"/>
                  <a:pt x="15494" y="9630"/>
                  <a:pt x="15528" y="962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892840" y="3187800"/>
            <a:ext cx="457200" cy="250560"/>
          </a:xfrm>
          <a:custGeom>
            <a:avLst/>
            <a:gdLst/>
            <a:ahLst/>
            <a:rect l="l" t="t" r="r" b="b"/>
            <a:pathLst>
              <a:path w="1266" h="696">
                <a:moveTo>
                  <a:pt x="16470" y="8855"/>
                </a:moveTo>
                <a:cubicBezTo>
                  <a:pt x="16491" y="8988"/>
                  <a:pt x="16553" y="9113"/>
                  <a:pt x="16570" y="9252"/>
                </a:cubicBezTo>
                <a:cubicBezTo>
                  <a:pt x="16570" y="9314"/>
                  <a:pt x="16580" y="9329"/>
                  <a:pt x="16545" y="9351"/>
                </a:cubicBezTo>
              </a:path>
              <a:path w="1266" h="696">
                <a:moveTo>
                  <a:pt x="16371" y="9128"/>
                </a:moveTo>
                <a:cubicBezTo>
                  <a:pt x="16494" y="9110"/>
                  <a:pt x="16619" y="9089"/>
                  <a:pt x="16743" y="9079"/>
                </a:cubicBezTo>
                <a:cubicBezTo>
                  <a:pt x="16819" y="9079"/>
                  <a:pt x="16845" y="9079"/>
                  <a:pt x="16892" y="9103"/>
                </a:cubicBezTo>
              </a:path>
              <a:path w="1266" h="696">
                <a:moveTo>
                  <a:pt x="17214" y="8880"/>
                </a:moveTo>
                <a:cubicBezTo>
                  <a:pt x="17285" y="8968"/>
                  <a:pt x="17356" y="9046"/>
                  <a:pt x="17438" y="9128"/>
                </a:cubicBezTo>
                <a:cubicBezTo>
                  <a:pt x="17520" y="9210"/>
                  <a:pt x="17567" y="9289"/>
                  <a:pt x="17636" y="9376"/>
                </a:cubicBezTo>
              </a:path>
              <a:path w="1266" h="696">
                <a:moveTo>
                  <a:pt x="17611" y="8880"/>
                </a:moveTo>
                <a:cubicBezTo>
                  <a:pt x="17471" y="9021"/>
                  <a:pt x="17375" y="9214"/>
                  <a:pt x="17289" y="9401"/>
                </a:cubicBezTo>
                <a:cubicBezTo>
                  <a:pt x="17254" y="9477"/>
                  <a:pt x="17210" y="9535"/>
                  <a:pt x="17239" y="955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581880" y="3224160"/>
            <a:ext cx="169920" cy="81000"/>
          </a:xfrm>
          <a:custGeom>
            <a:avLst/>
            <a:gdLst/>
            <a:ahLst/>
            <a:rect l="l" t="t" r="r" b="b"/>
            <a:pathLst>
              <a:path w="472" h="225">
                <a:moveTo>
                  <a:pt x="18281" y="8979"/>
                </a:moveTo>
                <a:cubicBezTo>
                  <a:pt x="18407" y="8979"/>
                  <a:pt x="18527" y="8957"/>
                  <a:pt x="18653" y="8954"/>
                </a:cubicBezTo>
                <a:cubicBezTo>
                  <a:pt x="18686" y="8954"/>
                  <a:pt x="18719" y="8954"/>
                  <a:pt x="18752" y="8954"/>
                </a:cubicBezTo>
              </a:path>
              <a:path w="472" h="225">
                <a:moveTo>
                  <a:pt x="18380" y="9178"/>
                </a:moveTo>
                <a:cubicBezTo>
                  <a:pt x="18476" y="9171"/>
                  <a:pt x="18560" y="9155"/>
                  <a:pt x="18653" y="912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000920" y="3125880"/>
            <a:ext cx="544320" cy="322200"/>
          </a:xfrm>
          <a:custGeom>
            <a:avLst/>
            <a:gdLst/>
            <a:ahLst/>
            <a:rect l="l" t="t" r="r" b="b"/>
            <a:pathLst>
              <a:path w="1514" h="894">
                <a:moveTo>
                  <a:pt x="20017" y="9029"/>
                </a:moveTo>
                <a:cubicBezTo>
                  <a:pt x="20017" y="8930"/>
                  <a:pt x="20029" y="8804"/>
                  <a:pt x="19943" y="8731"/>
                </a:cubicBezTo>
                <a:cubicBezTo>
                  <a:pt x="19822" y="8628"/>
                  <a:pt x="19625" y="8676"/>
                  <a:pt x="19546" y="8806"/>
                </a:cubicBezTo>
                <a:cubicBezTo>
                  <a:pt x="19468" y="8934"/>
                  <a:pt x="19464" y="9068"/>
                  <a:pt x="19472" y="9203"/>
                </a:cubicBezTo>
                <a:cubicBezTo>
                  <a:pt x="19689" y="9305"/>
                  <a:pt x="19769" y="9221"/>
                  <a:pt x="19968" y="9079"/>
                </a:cubicBezTo>
              </a:path>
              <a:path w="1514" h="894">
                <a:moveTo>
                  <a:pt x="19993" y="8706"/>
                </a:moveTo>
                <a:cubicBezTo>
                  <a:pt x="19993" y="8944"/>
                  <a:pt x="19914" y="9402"/>
                  <a:pt x="20042" y="9575"/>
                </a:cubicBezTo>
              </a:path>
              <a:path w="1514" h="894">
                <a:moveTo>
                  <a:pt x="20489" y="8731"/>
                </a:moveTo>
                <a:cubicBezTo>
                  <a:pt x="20404" y="8849"/>
                  <a:pt x="20340" y="8976"/>
                  <a:pt x="20340" y="9128"/>
                </a:cubicBezTo>
                <a:cubicBezTo>
                  <a:pt x="20340" y="9266"/>
                  <a:pt x="20393" y="9532"/>
                  <a:pt x="20588" y="9500"/>
                </a:cubicBezTo>
                <a:cubicBezTo>
                  <a:pt x="20810" y="9464"/>
                  <a:pt x="21013" y="9203"/>
                  <a:pt x="20960" y="8979"/>
                </a:cubicBezTo>
                <a:cubicBezTo>
                  <a:pt x="20923" y="8825"/>
                  <a:pt x="20723" y="8766"/>
                  <a:pt x="20588" y="8756"/>
                </a:cubicBezTo>
                <a:cubicBezTo>
                  <a:pt x="20530" y="8756"/>
                  <a:pt x="20522" y="8756"/>
                  <a:pt x="20489" y="875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939000" y="3483000"/>
            <a:ext cx="581040" cy="312840"/>
          </a:xfrm>
          <a:custGeom>
            <a:avLst/>
            <a:gdLst/>
            <a:ahLst/>
            <a:rect l="l" t="t" r="r" b="b"/>
            <a:pathLst>
              <a:path w="1614" h="869">
                <a:moveTo>
                  <a:pt x="19372" y="9971"/>
                </a:moveTo>
                <a:cubicBezTo>
                  <a:pt x="19484" y="9971"/>
                  <a:pt x="19587" y="9959"/>
                  <a:pt x="19695" y="9947"/>
                </a:cubicBezTo>
                <a:cubicBezTo>
                  <a:pt x="19720" y="9947"/>
                  <a:pt x="19744" y="9947"/>
                  <a:pt x="19769" y="9947"/>
                </a:cubicBezTo>
              </a:path>
              <a:path w="1614" h="869">
                <a:moveTo>
                  <a:pt x="20191" y="9674"/>
                </a:moveTo>
                <a:cubicBezTo>
                  <a:pt x="20123" y="9688"/>
                  <a:pt x="20060" y="9729"/>
                  <a:pt x="19993" y="9748"/>
                </a:cubicBezTo>
                <a:cubicBezTo>
                  <a:pt x="19964" y="9756"/>
                  <a:pt x="19947" y="9907"/>
                  <a:pt x="19943" y="9947"/>
                </a:cubicBezTo>
                <a:cubicBezTo>
                  <a:pt x="19943" y="10021"/>
                  <a:pt x="19943" y="10030"/>
                  <a:pt x="19943" y="10071"/>
                </a:cubicBezTo>
                <a:cubicBezTo>
                  <a:pt x="20031" y="10053"/>
                  <a:pt x="20092" y="10010"/>
                  <a:pt x="20191" y="10021"/>
                </a:cubicBezTo>
                <a:cubicBezTo>
                  <a:pt x="20311" y="10035"/>
                  <a:pt x="20343" y="10158"/>
                  <a:pt x="20241" y="10244"/>
                </a:cubicBezTo>
                <a:cubicBezTo>
                  <a:pt x="20170" y="10304"/>
                  <a:pt x="19913" y="10361"/>
                  <a:pt x="19918" y="10195"/>
                </a:cubicBezTo>
                <a:cubicBezTo>
                  <a:pt x="19935" y="10162"/>
                  <a:pt x="19951" y="10129"/>
                  <a:pt x="19968" y="10096"/>
                </a:cubicBezTo>
              </a:path>
              <a:path w="1614" h="869">
                <a:moveTo>
                  <a:pt x="20414" y="9699"/>
                </a:moveTo>
                <a:cubicBezTo>
                  <a:pt x="20476" y="9846"/>
                  <a:pt x="20489" y="9931"/>
                  <a:pt x="20489" y="10096"/>
                </a:cubicBezTo>
                <a:cubicBezTo>
                  <a:pt x="20489" y="10240"/>
                  <a:pt x="20535" y="10346"/>
                  <a:pt x="20712" y="10294"/>
                </a:cubicBezTo>
                <a:cubicBezTo>
                  <a:pt x="20836" y="10258"/>
                  <a:pt x="20884" y="10150"/>
                  <a:pt x="20861" y="10046"/>
                </a:cubicBezTo>
                <a:cubicBezTo>
                  <a:pt x="20708" y="10074"/>
                  <a:pt x="20727" y="10136"/>
                  <a:pt x="20662" y="10269"/>
                </a:cubicBezTo>
                <a:cubicBezTo>
                  <a:pt x="20654" y="10277"/>
                  <a:pt x="20646" y="10286"/>
                  <a:pt x="20638" y="10294"/>
                </a:cubicBezTo>
              </a:path>
              <a:path w="1614" h="869">
                <a:moveTo>
                  <a:pt x="19273" y="10517"/>
                </a:moveTo>
                <a:cubicBezTo>
                  <a:pt x="19298" y="10517"/>
                  <a:pt x="19306" y="10517"/>
                  <a:pt x="19298" y="1054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964040" y="3741840"/>
            <a:ext cx="127080" cy="27000"/>
          </a:xfrm>
          <a:custGeom>
            <a:avLst/>
            <a:gdLst/>
            <a:ahLst/>
            <a:rect l="l" t="t" r="r" b="b"/>
            <a:pathLst>
              <a:path w="349" h="76">
                <a:moveTo>
                  <a:pt x="13791" y="10468"/>
                </a:moveTo>
                <a:cubicBezTo>
                  <a:pt x="13803" y="10418"/>
                  <a:pt x="13815" y="10418"/>
                  <a:pt x="13866" y="10418"/>
                </a:cubicBezTo>
                <a:cubicBezTo>
                  <a:pt x="13945" y="10418"/>
                  <a:pt x="14010" y="10393"/>
                  <a:pt x="14089" y="10393"/>
                </a:cubicBezTo>
                <a:cubicBezTo>
                  <a:pt x="14114" y="10393"/>
                  <a:pt x="14122" y="10393"/>
                  <a:pt x="14139" y="1039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214960" y="3679920"/>
            <a:ext cx="366840" cy="241200"/>
          </a:xfrm>
          <a:custGeom>
            <a:avLst/>
            <a:gdLst/>
            <a:ahLst/>
            <a:rect l="l" t="t" r="r" b="b"/>
            <a:pathLst>
              <a:path w="1018" h="670">
                <a:moveTo>
                  <a:pt x="14908" y="10294"/>
                </a:moveTo>
                <a:cubicBezTo>
                  <a:pt x="14898" y="10324"/>
                  <a:pt x="14828" y="10337"/>
                  <a:pt x="14784" y="10344"/>
                </a:cubicBezTo>
                <a:cubicBezTo>
                  <a:pt x="14727" y="10354"/>
                  <a:pt x="14683" y="10329"/>
                  <a:pt x="14660" y="10319"/>
                </a:cubicBezTo>
                <a:cubicBezTo>
                  <a:pt x="14653" y="10316"/>
                  <a:pt x="14595" y="10344"/>
                  <a:pt x="14560" y="10344"/>
                </a:cubicBezTo>
                <a:cubicBezTo>
                  <a:pt x="14506" y="10344"/>
                  <a:pt x="14552" y="10308"/>
                  <a:pt x="14511" y="10368"/>
                </a:cubicBezTo>
                <a:cubicBezTo>
                  <a:pt x="14481" y="10413"/>
                  <a:pt x="14486" y="10435"/>
                  <a:pt x="14486" y="10492"/>
                </a:cubicBezTo>
                <a:cubicBezTo>
                  <a:pt x="14565" y="10492"/>
                  <a:pt x="14626" y="10460"/>
                  <a:pt x="14709" y="10468"/>
                </a:cubicBezTo>
                <a:cubicBezTo>
                  <a:pt x="14888" y="10485"/>
                  <a:pt x="14976" y="10617"/>
                  <a:pt x="14883" y="10790"/>
                </a:cubicBezTo>
                <a:cubicBezTo>
                  <a:pt x="14815" y="10918"/>
                  <a:pt x="14643" y="10898"/>
                  <a:pt x="14536" y="10840"/>
                </a:cubicBezTo>
                <a:cubicBezTo>
                  <a:pt x="14484" y="10788"/>
                  <a:pt x="14468" y="10769"/>
                  <a:pt x="14511" y="10716"/>
                </a:cubicBezTo>
              </a:path>
              <a:path w="1018" h="670">
                <a:moveTo>
                  <a:pt x="15056" y="10220"/>
                </a:moveTo>
                <a:cubicBezTo>
                  <a:pt x="15074" y="10327"/>
                  <a:pt x="15121" y="10432"/>
                  <a:pt x="15131" y="10542"/>
                </a:cubicBezTo>
                <a:cubicBezTo>
                  <a:pt x="15141" y="10651"/>
                  <a:pt x="15136" y="10850"/>
                  <a:pt x="15280" y="10840"/>
                </a:cubicBezTo>
                <a:cubicBezTo>
                  <a:pt x="15440" y="10829"/>
                  <a:pt x="15542" y="10614"/>
                  <a:pt x="15503" y="10468"/>
                </a:cubicBezTo>
                <a:cubicBezTo>
                  <a:pt x="15486" y="10451"/>
                  <a:pt x="15470" y="10435"/>
                  <a:pt x="15453" y="10418"/>
                </a:cubicBezTo>
                <a:cubicBezTo>
                  <a:pt x="15357" y="10482"/>
                  <a:pt x="15216" y="10644"/>
                  <a:pt x="15255" y="10790"/>
                </a:cubicBezTo>
                <a:cubicBezTo>
                  <a:pt x="15271" y="10798"/>
                  <a:pt x="15288" y="10807"/>
                  <a:pt x="15304" y="1081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242040" y="4330800"/>
            <a:ext cx="465120" cy="277560"/>
          </a:xfrm>
          <a:custGeom>
            <a:avLst/>
            <a:gdLst/>
            <a:ahLst/>
            <a:rect l="l" t="t" r="r" b="b"/>
            <a:pathLst>
              <a:path w="1291" h="770">
                <a:moveTo>
                  <a:pt x="17338" y="12129"/>
                </a:moveTo>
                <a:cubicBezTo>
                  <a:pt x="17380" y="12283"/>
                  <a:pt x="17466" y="12437"/>
                  <a:pt x="17587" y="12551"/>
                </a:cubicBezTo>
                <a:cubicBezTo>
                  <a:pt x="17624" y="12586"/>
                  <a:pt x="17693" y="12633"/>
                  <a:pt x="17735" y="12650"/>
                </a:cubicBezTo>
              </a:path>
              <a:path w="1291" h="770">
                <a:moveTo>
                  <a:pt x="17859" y="12030"/>
                </a:moveTo>
                <a:cubicBezTo>
                  <a:pt x="17767" y="12268"/>
                  <a:pt x="17667" y="12495"/>
                  <a:pt x="17562" y="12725"/>
                </a:cubicBezTo>
                <a:cubicBezTo>
                  <a:pt x="17527" y="12802"/>
                  <a:pt x="17511" y="12799"/>
                  <a:pt x="17537" y="12799"/>
                </a:cubicBezTo>
              </a:path>
              <a:path w="1291" h="770">
                <a:moveTo>
                  <a:pt x="18256" y="12179"/>
                </a:moveTo>
                <a:cubicBezTo>
                  <a:pt x="18330" y="12198"/>
                  <a:pt x="18390" y="12204"/>
                  <a:pt x="18479" y="12204"/>
                </a:cubicBezTo>
                <a:cubicBezTo>
                  <a:pt x="18529" y="12204"/>
                  <a:pt x="18578" y="12204"/>
                  <a:pt x="18628" y="12204"/>
                </a:cubicBezTo>
              </a:path>
              <a:path w="1291" h="770">
                <a:moveTo>
                  <a:pt x="18256" y="12452"/>
                </a:moveTo>
                <a:cubicBezTo>
                  <a:pt x="18378" y="12444"/>
                  <a:pt x="18469" y="12414"/>
                  <a:pt x="18579" y="12378"/>
                </a:cubicBezTo>
                <a:cubicBezTo>
                  <a:pt x="18587" y="12378"/>
                  <a:pt x="18596" y="12378"/>
                  <a:pt x="18604" y="1237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885000" y="4268880"/>
            <a:ext cx="401760" cy="322200"/>
          </a:xfrm>
          <a:custGeom>
            <a:avLst/>
            <a:gdLst/>
            <a:ahLst/>
            <a:rect l="l" t="t" r="r" b="b"/>
            <a:pathLst>
              <a:path w="1118" h="894">
                <a:moveTo>
                  <a:pt x="19199" y="12154"/>
                </a:moveTo>
                <a:cubicBezTo>
                  <a:pt x="19277" y="12134"/>
                  <a:pt x="19297" y="12070"/>
                  <a:pt x="19397" y="12055"/>
                </a:cubicBezTo>
                <a:cubicBezTo>
                  <a:pt x="19482" y="12055"/>
                  <a:pt x="19502" y="12049"/>
                  <a:pt x="19546" y="12080"/>
                </a:cubicBezTo>
                <a:cubicBezTo>
                  <a:pt x="19558" y="12230"/>
                  <a:pt x="19507" y="12293"/>
                  <a:pt x="19372" y="12378"/>
                </a:cubicBezTo>
                <a:cubicBezTo>
                  <a:pt x="19356" y="12386"/>
                  <a:pt x="19339" y="12394"/>
                  <a:pt x="19323" y="12402"/>
                </a:cubicBezTo>
                <a:cubicBezTo>
                  <a:pt x="19394" y="12356"/>
                  <a:pt x="19513" y="12301"/>
                  <a:pt x="19571" y="12402"/>
                </a:cubicBezTo>
                <a:cubicBezTo>
                  <a:pt x="19687" y="12602"/>
                  <a:pt x="19425" y="12688"/>
                  <a:pt x="19298" y="12725"/>
                </a:cubicBezTo>
                <a:cubicBezTo>
                  <a:pt x="19144" y="12769"/>
                  <a:pt x="19116" y="12726"/>
                  <a:pt x="19174" y="12601"/>
                </a:cubicBezTo>
              </a:path>
              <a:path w="1118" h="894">
                <a:moveTo>
                  <a:pt x="19745" y="12080"/>
                </a:moveTo>
                <a:cubicBezTo>
                  <a:pt x="19801" y="12108"/>
                  <a:pt x="19831" y="12208"/>
                  <a:pt x="19844" y="12278"/>
                </a:cubicBezTo>
                <a:cubicBezTo>
                  <a:pt x="19870" y="12419"/>
                  <a:pt x="19974" y="12310"/>
                  <a:pt x="20067" y="12278"/>
                </a:cubicBezTo>
                <a:cubicBezTo>
                  <a:pt x="20162" y="12255"/>
                  <a:pt x="20192" y="12249"/>
                  <a:pt x="20241" y="12204"/>
                </a:cubicBezTo>
              </a:path>
              <a:path w="1118" h="894">
                <a:moveTo>
                  <a:pt x="20141" y="11857"/>
                </a:moveTo>
                <a:cubicBezTo>
                  <a:pt x="20141" y="12066"/>
                  <a:pt x="20121" y="12269"/>
                  <a:pt x="20117" y="12477"/>
                </a:cubicBezTo>
                <a:cubicBezTo>
                  <a:pt x="20117" y="12576"/>
                  <a:pt x="20117" y="12592"/>
                  <a:pt x="20117" y="1265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509920" y="5081760"/>
            <a:ext cx="428400" cy="419040"/>
          </a:xfrm>
          <a:custGeom>
            <a:avLst/>
            <a:gdLst/>
            <a:ahLst/>
            <a:rect l="l" t="t" r="r" b="b"/>
            <a:pathLst>
              <a:path w="1192" h="1167">
                <a:moveTo>
                  <a:pt x="6995" y="14610"/>
                </a:moveTo>
                <a:cubicBezTo>
                  <a:pt x="7076" y="14556"/>
                  <a:pt x="7198" y="14504"/>
                  <a:pt x="7243" y="14635"/>
                </a:cubicBezTo>
                <a:cubicBezTo>
                  <a:pt x="7291" y="14773"/>
                  <a:pt x="7182" y="14901"/>
                  <a:pt x="7119" y="15007"/>
                </a:cubicBezTo>
                <a:cubicBezTo>
                  <a:pt x="7146" y="14953"/>
                  <a:pt x="7259" y="14921"/>
                  <a:pt x="7317" y="14982"/>
                </a:cubicBezTo>
                <a:cubicBezTo>
                  <a:pt x="7394" y="15063"/>
                  <a:pt x="7281" y="15256"/>
                  <a:pt x="7193" y="15280"/>
                </a:cubicBezTo>
                <a:cubicBezTo>
                  <a:pt x="7079" y="15312"/>
                  <a:pt x="7029" y="15274"/>
                  <a:pt x="6970" y="15205"/>
                </a:cubicBezTo>
              </a:path>
              <a:path w="1192" h="1167">
                <a:moveTo>
                  <a:pt x="7541" y="14536"/>
                </a:moveTo>
                <a:cubicBezTo>
                  <a:pt x="7541" y="14586"/>
                  <a:pt x="7525" y="14776"/>
                  <a:pt x="7565" y="14808"/>
                </a:cubicBezTo>
                <a:cubicBezTo>
                  <a:pt x="7664" y="14888"/>
                  <a:pt x="7791" y="14790"/>
                  <a:pt x="7863" y="14734"/>
                </a:cubicBezTo>
              </a:path>
              <a:path w="1192" h="1167">
                <a:moveTo>
                  <a:pt x="7739" y="14362"/>
                </a:moveTo>
                <a:cubicBezTo>
                  <a:pt x="7787" y="14584"/>
                  <a:pt x="7841" y="14805"/>
                  <a:pt x="7863" y="15032"/>
                </a:cubicBezTo>
                <a:cubicBezTo>
                  <a:pt x="7863" y="15098"/>
                  <a:pt x="7863" y="15131"/>
                  <a:pt x="7863" y="15056"/>
                </a:cubicBezTo>
              </a:path>
              <a:path w="1192" h="1167">
                <a:moveTo>
                  <a:pt x="8012" y="14114"/>
                </a:moveTo>
                <a:cubicBezTo>
                  <a:pt x="7992" y="14214"/>
                  <a:pt x="8009" y="14295"/>
                  <a:pt x="8062" y="14387"/>
                </a:cubicBezTo>
                <a:cubicBezTo>
                  <a:pt x="8109" y="14339"/>
                  <a:pt x="8239" y="14166"/>
                  <a:pt x="8086" y="14139"/>
                </a:cubicBezTo>
                <a:cubicBezTo>
                  <a:pt x="8013" y="14163"/>
                  <a:pt x="7990" y="14171"/>
                  <a:pt x="7938" y="1416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741920" y="3938760"/>
            <a:ext cx="2973240" cy="160200"/>
          </a:xfrm>
          <a:custGeom>
            <a:avLst/>
            <a:gdLst/>
            <a:ahLst/>
            <a:rect l="l" t="t" r="r" b="b"/>
            <a:pathLst>
              <a:path w="8261" h="447">
                <a:moveTo>
                  <a:pt x="13196" y="11261"/>
                </a:moveTo>
                <a:cubicBezTo>
                  <a:pt x="13255" y="11254"/>
                  <a:pt x="13261" y="11240"/>
                  <a:pt x="13320" y="11237"/>
                </a:cubicBezTo>
                <a:cubicBezTo>
                  <a:pt x="13510" y="11229"/>
                  <a:pt x="13706" y="11244"/>
                  <a:pt x="13891" y="11286"/>
                </a:cubicBezTo>
                <a:cubicBezTo>
                  <a:pt x="14149" y="11345"/>
                  <a:pt x="14395" y="11381"/>
                  <a:pt x="14660" y="11385"/>
                </a:cubicBezTo>
                <a:cubicBezTo>
                  <a:pt x="14892" y="11389"/>
                  <a:pt x="15123" y="11346"/>
                  <a:pt x="15354" y="11336"/>
                </a:cubicBezTo>
                <a:cubicBezTo>
                  <a:pt x="15620" y="11324"/>
                  <a:pt x="15881" y="11378"/>
                  <a:pt x="16148" y="11361"/>
                </a:cubicBezTo>
                <a:cubicBezTo>
                  <a:pt x="16505" y="11338"/>
                  <a:pt x="16859" y="11255"/>
                  <a:pt x="17214" y="11212"/>
                </a:cubicBezTo>
                <a:cubicBezTo>
                  <a:pt x="17558" y="11170"/>
                  <a:pt x="17884" y="11137"/>
                  <a:pt x="18231" y="11137"/>
                </a:cubicBezTo>
                <a:cubicBezTo>
                  <a:pt x="18597" y="11137"/>
                  <a:pt x="18959" y="11134"/>
                  <a:pt x="19323" y="11088"/>
                </a:cubicBezTo>
                <a:cubicBezTo>
                  <a:pt x="19746" y="11035"/>
                  <a:pt x="20161" y="10958"/>
                  <a:pt x="20588" y="10939"/>
                </a:cubicBezTo>
                <a:cubicBezTo>
                  <a:pt x="20868" y="10927"/>
                  <a:pt x="21151" y="10939"/>
                  <a:pt x="21431" y="1093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Find the missing angle: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2788560" y="2332800"/>
            <a:ext cx="3610440" cy="3518280"/>
            <a:chOff x="2788560" y="2332800"/>
            <a:chExt cx="3610440" cy="3518280"/>
          </a:xfrm>
        </p:grpSpPr>
        <p:pic>
          <p:nvPicPr>
            <p:cNvPr id="277" name="" descr=""/>
            <p:cNvPicPr/>
            <p:nvPr/>
          </p:nvPicPr>
          <p:blipFill>
            <a:blip r:embed="rId1"/>
            <a:stretch/>
          </p:blipFill>
          <p:spPr>
            <a:xfrm rot="19688400">
              <a:off x="2559960" y="4504320"/>
              <a:ext cx="4067280" cy="2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 flipH="1" flipV="1">
              <a:off x="4436640" y="2332800"/>
              <a:ext cx="115200" cy="2350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19688400">
              <a:off x="4679640" y="38858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8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19688400">
              <a:off x="3762000" y="440856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4991040" y="1660680"/>
            <a:ext cx="689040" cy="358560"/>
          </a:xfrm>
          <a:custGeom>
            <a:avLst/>
            <a:gdLst/>
            <a:ahLst/>
            <a:rect l="l" t="t" r="r" b="b"/>
            <a:pathLst>
              <a:path w="1911" h="993">
                <a:moveTo>
                  <a:pt x="13965" y="4812"/>
                </a:moveTo>
                <a:cubicBezTo>
                  <a:pt x="13965" y="4738"/>
                  <a:pt x="13962" y="4860"/>
                  <a:pt x="13965" y="4862"/>
                </a:cubicBezTo>
                <a:cubicBezTo>
                  <a:pt x="14008" y="4896"/>
                  <a:pt x="13961" y="4940"/>
                  <a:pt x="13940" y="5011"/>
                </a:cubicBezTo>
                <a:cubicBezTo>
                  <a:pt x="13906" y="5126"/>
                  <a:pt x="13870" y="5238"/>
                  <a:pt x="13866" y="5358"/>
                </a:cubicBezTo>
                <a:cubicBezTo>
                  <a:pt x="13862" y="5470"/>
                  <a:pt x="13903" y="5499"/>
                  <a:pt x="13990" y="5556"/>
                </a:cubicBezTo>
                <a:cubicBezTo>
                  <a:pt x="14116" y="5639"/>
                  <a:pt x="14303" y="5571"/>
                  <a:pt x="14436" y="5507"/>
                </a:cubicBezTo>
                <a:cubicBezTo>
                  <a:pt x="14494" y="5479"/>
                  <a:pt x="14614" y="5360"/>
                  <a:pt x="14610" y="5283"/>
                </a:cubicBezTo>
                <a:cubicBezTo>
                  <a:pt x="14605" y="5193"/>
                  <a:pt x="14474" y="5151"/>
                  <a:pt x="14412" y="5184"/>
                </a:cubicBezTo>
                <a:cubicBezTo>
                  <a:pt x="14301" y="5242"/>
                  <a:pt x="14222" y="5380"/>
                  <a:pt x="14238" y="5507"/>
                </a:cubicBezTo>
                <a:cubicBezTo>
                  <a:pt x="14258" y="5547"/>
                  <a:pt x="14257" y="5563"/>
                  <a:pt x="14288" y="5556"/>
                </a:cubicBezTo>
              </a:path>
              <a:path w="1911" h="993">
                <a:moveTo>
                  <a:pt x="14932" y="4614"/>
                </a:moveTo>
                <a:cubicBezTo>
                  <a:pt x="14795" y="4675"/>
                  <a:pt x="14708" y="4773"/>
                  <a:pt x="14635" y="4911"/>
                </a:cubicBezTo>
                <a:cubicBezTo>
                  <a:pt x="14535" y="5101"/>
                  <a:pt x="14777" y="5174"/>
                  <a:pt x="14908" y="5234"/>
                </a:cubicBezTo>
                <a:cubicBezTo>
                  <a:pt x="15025" y="5280"/>
                  <a:pt x="15063" y="5290"/>
                  <a:pt x="15081" y="5383"/>
                </a:cubicBezTo>
                <a:cubicBezTo>
                  <a:pt x="15017" y="5469"/>
                  <a:pt x="14921" y="5623"/>
                  <a:pt x="14808" y="5482"/>
                </a:cubicBezTo>
                <a:cubicBezTo>
                  <a:pt x="14724" y="5377"/>
                  <a:pt x="14884" y="5168"/>
                  <a:pt x="14932" y="5085"/>
                </a:cubicBezTo>
                <a:cubicBezTo>
                  <a:pt x="14980" y="5003"/>
                  <a:pt x="15138" y="4873"/>
                  <a:pt x="15106" y="4762"/>
                </a:cubicBezTo>
                <a:cubicBezTo>
                  <a:pt x="15087" y="4696"/>
                  <a:pt x="15022" y="4638"/>
                  <a:pt x="15007" y="4713"/>
                </a:cubicBezTo>
              </a:path>
              <a:path w="1911" h="993">
                <a:moveTo>
                  <a:pt x="15503" y="4812"/>
                </a:moveTo>
                <a:cubicBezTo>
                  <a:pt x="15521" y="4935"/>
                  <a:pt x="15567" y="5057"/>
                  <a:pt x="15553" y="5184"/>
                </a:cubicBezTo>
                <a:cubicBezTo>
                  <a:pt x="15531" y="5273"/>
                  <a:pt x="15530" y="5298"/>
                  <a:pt x="15478" y="5333"/>
                </a:cubicBezTo>
              </a:path>
              <a:path w="1911" h="993">
                <a:moveTo>
                  <a:pt x="15354" y="5060"/>
                </a:moveTo>
                <a:cubicBezTo>
                  <a:pt x="15475" y="5060"/>
                  <a:pt x="15587" y="5052"/>
                  <a:pt x="15701" y="5060"/>
                </a:cubicBezTo>
                <a:cubicBezTo>
                  <a:pt x="15726" y="5060"/>
                  <a:pt x="15751" y="5060"/>
                  <a:pt x="15776" y="506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848200" y="1714680"/>
            <a:ext cx="135000" cy="241200"/>
          </a:xfrm>
          <a:custGeom>
            <a:avLst/>
            <a:gdLst/>
            <a:ahLst/>
            <a:rect l="l" t="t" r="r" b="b"/>
            <a:pathLst>
              <a:path w="373" h="671">
                <a:moveTo>
                  <a:pt x="16247" y="4911"/>
                </a:moveTo>
                <a:cubicBezTo>
                  <a:pt x="16341" y="4949"/>
                  <a:pt x="16421" y="5083"/>
                  <a:pt x="16495" y="5159"/>
                </a:cubicBezTo>
                <a:cubicBezTo>
                  <a:pt x="16529" y="5194"/>
                  <a:pt x="16619" y="5322"/>
                  <a:pt x="16619" y="5283"/>
                </a:cubicBezTo>
              </a:path>
              <a:path w="373" h="671">
                <a:moveTo>
                  <a:pt x="16619" y="4762"/>
                </a:moveTo>
                <a:cubicBezTo>
                  <a:pt x="16589" y="4946"/>
                  <a:pt x="16509" y="5136"/>
                  <a:pt x="16421" y="5308"/>
                </a:cubicBezTo>
                <a:cubicBezTo>
                  <a:pt x="16386" y="5376"/>
                  <a:pt x="16340" y="5395"/>
                  <a:pt x="16396" y="543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197760" y="1751040"/>
            <a:ext cx="179280" cy="98280"/>
          </a:xfrm>
          <a:custGeom>
            <a:avLst/>
            <a:gdLst/>
            <a:ahLst/>
            <a:rect l="l" t="t" r="r" b="b"/>
            <a:pathLst>
              <a:path w="498" h="274">
                <a:moveTo>
                  <a:pt x="17214" y="4887"/>
                </a:moveTo>
                <a:cubicBezTo>
                  <a:pt x="17289" y="4842"/>
                  <a:pt x="17395" y="4862"/>
                  <a:pt x="17487" y="4862"/>
                </a:cubicBezTo>
                <a:cubicBezTo>
                  <a:pt x="17562" y="4862"/>
                  <a:pt x="17636" y="4862"/>
                  <a:pt x="17711" y="4862"/>
                </a:cubicBezTo>
              </a:path>
              <a:path w="498" h="274">
                <a:moveTo>
                  <a:pt x="17289" y="5135"/>
                </a:moveTo>
                <a:cubicBezTo>
                  <a:pt x="17425" y="5135"/>
                  <a:pt x="17552" y="5117"/>
                  <a:pt x="17686" y="5110"/>
                </a:cubicBezTo>
                <a:cubicBezTo>
                  <a:pt x="17694" y="5110"/>
                  <a:pt x="17703" y="5110"/>
                  <a:pt x="17711" y="511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653160" y="1589040"/>
            <a:ext cx="544680" cy="322200"/>
          </a:xfrm>
          <a:custGeom>
            <a:avLst/>
            <a:gdLst/>
            <a:ahLst/>
            <a:rect l="l" t="t" r="r" b="b"/>
            <a:pathLst>
              <a:path w="1515" h="894">
                <a:moveTo>
                  <a:pt x="18479" y="4490"/>
                </a:moveTo>
                <a:cubicBezTo>
                  <a:pt x="18479" y="4763"/>
                  <a:pt x="18479" y="5035"/>
                  <a:pt x="18479" y="5308"/>
                </a:cubicBezTo>
              </a:path>
              <a:path w="1515" h="894">
                <a:moveTo>
                  <a:pt x="19224" y="4490"/>
                </a:moveTo>
                <a:cubicBezTo>
                  <a:pt x="19076" y="4490"/>
                  <a:pt x="18935" y="4490"/>
                  <a:pt x="18827" y="4614"/>
                </a:cubicBezTo>
                <a:cubicBezTo>
                  <a:pt x="18681" y="4781"/>
                  <a:pt x="18958" y="4894"/>
                  <a:pt x="19050" y="4986"/>
                </a:cubicBezTo>
                <a:cubicBezTo>
                  <a:pt x="19132" y="5069"/>
                  <a:pt x="19219" y="5258"/>
                  <a:pt x="19050" y="5308"/>
                </a:cubicBezTo>
                <a:cubicBezTo>
                  <a:pt x="18950" y="5308"/>
                  <a:pt x="18916" y="5308"/>
                  <a:pt x="18852" y="5283"/>
                </a:cubicBezTo>
                <a:cubicBezTo>
                  <a:pt x="18838" y="5073"/>
                  <a:pt x="18973" y="4962"/>
                  <a:pt x="19100" y="4787"/>
                </a:cubicBezTo>
                <a:cubicBezTo>
                  <a:pt x="19163" y="4700"/>
                  <a:pt x="19251" y="4645"/>
                  <a:pt x="19124" y="4614"/>
                </a:cubicBezTo>
                <a:cubicBezTo>
                  <a:pt x="19116" y="4614"/>
                  <a:pt x="19108" y="4614"/>
                  <a:pt x="19100" y="4614"/>
                </a:cubicBezTo>
              </a:path>
              <a:path w="1515" h="894">
                <a:moveTo>
                  <a:pt x="19596" y="4415"/>
                </a:moveTo>
                <a:cubicBezTo>
                  <a:pt x="19443" y="4540"/>
                  <a:pt x="19393" y="4686"/>
                  <a:pt x="19372" y="4887"/>
                </a:cubicBezTo>
                <a:cubicBezTo>
                  <a:pt x="19354" y="5063"/>
                  <a:pt x="19422" y="5284"/>
                  <a:pt x="19645" y="5234"/>
                </a:cubicBezTo>
                <a:cubicBezTo>
                  <a:pt x="19954" y="5165"/>
                  <a:pt x="20022" y="4949"/>
                  <a:pt x="19918" y="4688"/>
                </a:cubicBezTo>
                <a:cubicBezTo>
                  <a:pt x="19840" y="4493"/>
                  <a:pt x="19768" y="4531"/>
                  <a:pt x="19596" y="453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749840" y="2017800"/>
            <a:ext cx="617400" cy="260280"/>
          </a:xfrm>
          <a:custGeom>
            <a:avLst/>
            <a:gdLst/>
            <a:ahLst/>
            <a:rect l="l" t="t" r="r" b="b"/>
            <a:pathLst>
              <a:path w="1713" h="720">
                <a:moveTo>
                  <a:pt x="13196" y="6052"/>
                </a:moveTo>
                <a:cubicBezTo>
                  <a:pt x="13293" y="6036"/>
                  <a:pt x="13368" y="6006"/>
                  <a:pt x="13469" y="6003"/>
                </a:cubicBezTo>
                <a:cubicBezTo>
                  <a:pt x="13537" y="6003"/>
                  <a:pt x="13556" y="6000"/>
                  <a:pt x="13593" y="6028"/>
                </a:cubicBezTo>
              </a:path>
              <a:path w="1713" h="720">
                <a:moveTo>
                  <a:pt x="13791" y="5854"/>
                </a:moveTo>
                <a:cubicBezTo>
                  <a:pt x="13791" y="5770"/>
                  <a:pt x="13769" y="5968"/>
                  <a:pt x="13767" y="6052"/>
                </a:cubicBezTo>
                <a:cubicBezTo>
                  <a:pt x="13762" y="6265"/>
                  <a:pt x="13860" y="6293"/>
                  <a:pt x="14064" y="6276"/>
                </a:cubicBezTo>
                <a:cubicBezTo>
                  <a:pt x="14226" y="6262"/>
                  <a:pt x="14415" y="6166"/>
                  <a:pt x="14337" y="5978"/>
                </a:cubicBezTo>
                <a:cubicBezTo>
                  <a:pt x="14321" y="5961"/>
                  <a:pt x="14304" y="5945"/>
                  <a:pt x="14288" y="5928"/>
                </a:cubicBezTo>
                <a:cubicBezTo>
                  <a:pt x="14145" y="5994"/>
                  <a:pt x="14013" y="6087"/>
                  <a:pt x="14064" y="6276"/>
                </a:cubicBezTo>
                <a:cubicBezTo>
                  <a:pt x="14081" y="6292"/>
                  <a:pt x="14097" y="6309"/>
                  <a:pt x="14114" y="6325"/>
                </a:cubicBezTo>
              </a:path>
              <a:path w="1713" h="720">
                <a:moveTo>
                  <a:pt x="14660" y="5606"/>
                </a:moveTo>
                <a:cubicBezTo>
                  <a:pt x="14518" y="5718"/>
                  <a:pt x="14477" y="5725"/>
                  <a:pt x="14436" y="5879"/>
                </a:cubicBezTo>
                <a:cubicBezTo>
                  <a:pt x="14591" y="5973"/>
                  <a:pt x="14748" y="6003"/>
                  <a:pt x="14908" y="6077"/>
                </a:cubicBezTo>
                <a:cubicBezTo>
                  <a:pt x="14869" y="6129"/>
                  <a:pt x="14701" y="6277"/>
                  <a:pt x="14660" y="6127"/>
                </a:cubicBezTo>
                <a:cubicBezTo>
                  <a:pt x="14617" y="5970"/>
                  <a:pt x="14717" y="5813"/>
                  <a:pt x="14784" y="568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607080" y="2035080"/>
            <a:ext cx="162000" cy="46080"/>
          </a:xfrm>
          <a:custGeom>
            <a:avLst/>
            <a:gdLst/>
            <a:ahLst/>
            <a:rect l="l" t="t" r="r" b="b"/>
            <a:pathLst>
              <a:path w="448" h="125">
                <a:moveTo>
                  <a:pt x="18355" y="5779"/>
                </a:moveTo>
                <a:cubicBezTo>
                  <a:pt x="18449" y="5727"/>
                  <a:pt x="18570" y="5704"/>
                  <a:pt x="18678" y="5680"/>
                </a:cubicBezTo>
                <a:cubicBezTo>
                  <a:pt x="18719" y="5672"/>
                  <a:pt x="18761" y="5663"/>
                  <a:pt x="18802" y="565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912000" y="1911240"/>
            <a:ext cx="366840" cy="231840"/>
          </a:xfrm>
          <a:custGeom>
            <a:avLst/>
            <a:gdLst/>
            <a:ahLst/>
            <a:rect l="l" t="t" r="r" b="b"/>
            <a:pathLst>
              <a:path w="1018" h="646">
                <a:moveTo>
                  <a:pt x="19224" y="5407"/>
                </a:moveTo>
                <a:cubicBezTo>
                  <a:pt x="19224" y="5552"/>
                  <a:pt x="19189" y="5640"/>
                  <a:pt x="19248" y="5779"/>
                </a:cubicBezTo>
                <a:cubicBezTo>
                  <a:pt x="19334" y="5981"/>
                  <a:pt x="19534" y="5887"/>
                  <a:pt x="19670" y="5804"/>
                </a:cubicBezTo>
                <a:cubicBezTo>
                  <a:pt x="19757" y="5739"/>
                  <a:pt x="19785" y="5728"/>
                  <a:pt x="19794" y="5655"/>
                </a:cubicBezTo>
                <a:cubicBezTo>
                  <a:pt x="19693" y="5599"/>
                  <a:pt x="19573" y="5640"/>
                  <a:pt x="19521" y="5779"/>
                </a:cubicBezTo>
                <a:cubicBezTo>
                  <a:pt x="19521" y="5846"/>
                  <a:pt x="19513" y="5871"/>
                  <a:pt x="19571" y="5854"/>
                </a:cubicBezTo>
              </a:path>
              <a:path w="1018" h="646">
                <a:moveTo>
                  <a:pt x="20067" y="5308"/>
                </a:moveTo>
                <a:cubicBezTo>
                  <a:pt x="19990" y="5344"/>
                  <a:pt x="19790" y="5430"/>
                  <a:pt x="19819" y="5556"/>
                </a:cubicBezTo>
                <a:cubicBezTo>
                  <a:pt x="19849" y="5688"/>
                  <a:pt x="20105" y="5709"/>
                  <a:pt x="20191" y="5779"/>
                </a:cubicBezTo>
                <a:cubicBezTo>
                  <a:pt x="20199" y="5796"/>
                  <a:pt x="20208" y="5812"/>
                  <a:pt x="20216" y="5829"/>
                </a:cubicBezTo>
                <a:cubicBezTo>
                  <a:pt x="20176" y="5869"/>
                  <a:pt x="19911" y="6070"/>
                  <a:pt x="19869" y="5904"/>
                </a:cubicBezTo>
                <a:cubicBezTo>
                  <a:pt x="19847" y="5818"/>
                  <a:pt x="20189" y="5465"/>
                  <a:pt x="20117" y="5457"/>
                </a:cubicBezTo>
                <a:cubicBezTo>
                  <a:pt x="20076" y="5457"/>
                  <a:pt x="20034" y="5457"/>
                  <a:pt x="19993" y="545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99120" y="2643120"/>
            <a:ext cx="419040" cy="268200"/>
          </a:xfrm>
          <a:custGeom>
            <a:avLst/>
            <a:gdLst/>
            <a:ahLst/>
            <a:rect l="l" t="t" r="r" b="b"/>
            <a:pathLst>
              <a:path w="1166" h="745">
                <a:moveTo>
                  <a:pt x="16942" y="7516"/>
                </a:moveTo>
                <a:cubicBezTo>
                  <a:pt x="17040" y="7598"/>
                  <a:pt x="17149" y="7775"/>
                  <a:pt x="17239" y="7888"/>
                </a:cubicBezTo>
                <a:cubicBezTo>
                  <a:pt x="17256" y="7913"/>
                  <a:pt x="17272" y="7937"/>
                  <a:pt x="17289" y="7962"/>
                </a:cubicBezTo>
              </a:path>
              <a:path w="1166" h="745">
                <a:moveTo>
                  <a:pt x="17314" y="7417"/>
                </a:moveTo>
                <a:cubicBezTo>
                  <a:pt x="17229" y="7604"/>
                  <a:pt x="17173" y="7792"/>
                  <a:pt x="17115" y="7987"/>
                </a:cubicBezTo>
                <a:cubicBezTo>
                  <a:pt x="17096" y="8061"/>
                  <a:pt x="17088" y="8120"/>
                  <a:pt x="17090" y="8062"/>
                </a:cubicBezTo>
              </a:path>
              <a:path w="1166" h="745">
                <a:moveTo>
                  <a:pt x="17735" y="7466"/>
                </a:moveTo>
                <a:cubicBezTo>
                  <a:pt x="17844" y="7435"/>
                  <a:pt x="17978" y="7401"/>
                  <a:pt x="18083" y="7367"/>
                </a:cubicBezTo>
                <a:cubicBezTo>
                  <a:pt x="18105" y="7344"/>
                  <a:pt x="18113" y="7333"/>
                  <a:pt x="18107" y="7367"/>
                </a:cubicBezTo>
              </a:path>
              <a:path w="1166" h="745">
                <a:moveTo>
                  <a:pt x="17661" y="7813"/>
                </a:moveTo>
                <a:cubicBezTo>
                  <a:pt x="17768" y="7782"/>
                  <a:pt x="17874" y="7733"/>
                  <a:pt x="17983" y="771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759720" y="2500200"/>
            <a:ext cx="36360" cy="179640"/>
          </a:xfrm>
          <a:custGeom>
            <a:avLst/>
            <a:gdLst/>
            <a:ahLst/>
            <a:rect l="l" t="t" r="r" b="b"/>
            <a:pathLst>
              <a:path w="100" h="497">
                <a:moveTo>
                  <a:pt x="18802" y="7045"/>
                </a:moveTo>
                <a:cubicBezTo>
                  <a:pt x="18780" y="7016"/>
                  <a:pt x="18777" y="6908"/>
                  <a:pt x="18777" y="6945"/>
                </a:cubicBezTo>
                <a:cubicBezTo>
                  <a:pt x="18777" y="7065"/>
                  <a:pt x="18786" y="7200"/>
                  <a:pt x="18802" y="7317"/>
                </a:cubicBezTo>
                <a:cubicBezTo>
                  <a:pt x="18817" y="7422"/>
                  <a:pt x="18819" y="7479"/>
                  <a:pt x="18876" y="739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946920" y="2394000"/>
            <a:ext cx="36360" cy="241200"/>
          </a:xfrm>
          <a:custGeom>
            <a:avLst/>
            <a:gdLst/>
            <a:ahLst/>
            <a:rect l="l" t="t" r="r" b="b"/>
            <a:pathLst>
              <a:path w="100" h="670">
                <a:moveTo>
                  <a:pt x="19298" y="6648"/>
                </a:moveTo>
                <a:cubicBezTo>
                  <a:pt x="19333" y="6838"/>
                  <a:pt x="19367" y="7025"/>
                  <a:pt x="19372" y="7218"/>
                </a:cubicBezTo>
                <a:cubicBezTo>
                  <a:pt x="19373" y="7258"/>
                  <a:pt x="19375" y="7377"/>
                  <a:pt x="19397" y="726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143840" y="2347920"/>
            <a:ext cx="223920" cy="179280"/>
          </a:xfrm>
          <a:custGeom>
            <a:avLst/>
            <a:gdLst/>
            <a:ahLst/>
            <a:rect l="l" t="t" r="r" b="b"/>
            <a:pathLst>
              <a:path w="621" h="497">
                <a:moveTo>
                  <a:pt x="19844" y="6598"/>
                </a:moveTo>
                <a:cubicBezTo>
                  <a:pt x="19922" y="6553"/>
                  <a:pt x="20044" y="6508"/>
                  <a:pt x="20141" y="6524"/>
                </a:cubicBezTo>
                <a:cubicBezTo>
                  <a:pt x="20298" y="6550"/>
                  <a:pt x="20176" y="6823"/>
                  <a:pt x="20141" y="6896"/>
                </a:cubicBezTo>
                <a:cubicBezTo>
                  <a:pt x="20098" y="6961"/>
                  <a:pt x="20087" y="6976"/>
                  <a:pt x="20067" y="7020"/>
                </a:cubicBezTo>
                <a:cubicBezTo>
                  <a:pt x="20182" y="7020"/>
                  <a:pt x="20253" y="6947"/>
                  <a:pt x="20365" y="6921"/>
                </a:cubicBezTo>
                <a:cubicBezTo>
                  <a:pt x="20490" y="6892"/>
                  <a:pt x="20397" y="6918"/>
                  <a:pt x="20464" y="689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473280" y="3616200"/>
            <a:ext cx="36720" cy="9720"/>
          </a:xfrm>
          <a:custGeom>
            <a:avLst/>
            <a:gdLst/>
            <a:ahLst/>
            <a:rect l="l" t="t" r="r" b="b"/>
            <a:pathLst>
              <a:path w="100" h="26">
                <a:moveTo>
                  <a:pt x="9649" y="10071"/>
                </a:moveTo>
                <a:cubicBezTo>
                  <a:pt x="9696" y="10071"/>
                  <a:pt x="9735" y="10086"/>
                  <a:pt x="9748" y="1004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517920" y="3438360"/>
            <a:ext cx="9360" cy="1800"/>
          </a:xfrm>
          <a:custGeom>
            <a:avLst/>
            <a:gdLst/>
            <a:ahLst/>
            <a:rect l="l" t="t" r="r" b="b"/>
            <a:pathLst>
              <a:path w="26" h="1">
                <a:moveTo>
                  <a:pt x="9773" y="9550"/>
                </a:moveTo>
                <a:cubicBezTo>
                  <a:pt x="9781" y="9550"/>
                  <a:pt x="9790" y="9550"/>
                  <a:pt x="9798" y="955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960" y="1116000"/>
            <a:ext cx="2376360" cy="1519200"/>
          </a:xfrm>
          <a:custGeom>
            <a:avLst/>
            <a:gdLst/>
            <a:ahLst/>
            <a:rect l="l" t="t" r="r" b="b"/>
            <a:pathLst>
              <a:path w="6599" h="4217">
                <a:moveTo>
                  <a:pt x="14188" y="7317"/>
                </a:moveTo>
                <a:cubicBezTo>
                  <a:pt x="14231" y="7300"/>
                  <a:pt x="14365" y="7259"/>
                  <a:pt x="14436" y="7243"/>
                </a:cubicBezTo>
                <a:cubicBezTo>
                  <a:pt x="14821" y="7156"/>
                  <a:pt x="15213" y="7097"/>
                  <a:pt x="15602" y="7020"/>
                </a:cubicBezTo>
                <a:cubicBezTo>
                  <a:pt x="16223" y="6897"/>
                  <a:pt x="16843" y="6782"/>
                  <a:pt x="17462" y="6648"/>
                </a:cubicBezTo>
                <a:cubicBezTo>
                  <a:pt x="18015" y="6528"/>
                  <a:pt x="18572" y="6424"/>
                  <a:pt x="19124" y="6300"/>
                </a:cubicBezTo>
                <a:cubicBezTo>
                  <a:pt x="19644" y="6183"/>
                  <a:pt x="20168" y="6068"/>
                  <a:pt x="20687" y="5953"/>
                </a:cubicBezTo>
                <a:cubicBezTo>
                  <a:pt x="20728" y="5944"/>
                  <a:pt x="20721" y="5938"/>
                  <a:pt x="20762" y="5928"/>
                </a:cubicBezTo>
              </a:path>
              <a:path w="6599" h="4217">
                <a:moveTo>
                  <a:pt x="18752" y="3101"/>
                </a:moveTo>
                <a:cubicBezTo>
                  <a:pt x="18752" y="3125"/>
                  <a:pt x="18752" y="3133"/>
                  <a:pt x="18777" y="312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83000" y="4106880"/>
            <a:ext cx="588960" cy="644400"/>
          </a:xfrm>
          <a:custGeom>
            <a:avLst/>
            <a:gdLst/>
            <a:ahLst/>
            <a:rect l="l" t="t" r="r" b="b"/>
            <a:pathLst>
              <a:path w="1638" h="1787">
                <a:moveTo>
                  <a:pt x="9674" y="12551"/>
                </a:moveTo>
                <a:cubicBezTo>
                  <a:pt x="9780" y="12711"/>
                  <a:pt x="9887" y="12848"/>
                  <a:pt x="9971" y="13022"/>
                </a:cubicBezTo>
                <a:cubicBezTo>
                  <a:pt x="10024" y="13131"/>
                  <a:pt x="10029" y="13290"/>
                  <a:pt x="10046" y="13072"/>
                </a:cubicBezTo>
              </a:path>
              <a:path w="1638" h="1787">
                <a:moveTo>
                  <a:pt x="10195" y="12229"/>
                </a:moveTo>
                <a:cubicBezTo>
                  <a:pt x="10250" y="12394"/>
                  <a:pt x="10376" y="12523"/>
                  <a:pt x="10468" y="12675"/>
                </a:cubicBezTo>
                <a:cubicBezTo>
                  <a:pt x="10484" y="12708"/>
                  <a:pt x="10501" y="12741"/>
                  <a:pt x="10517" y="12774"/>
                </a:cubicBezTo>
              </a:path>
              <a:path w="1638" h="1787">
                <a:moveTo>
                  <a:pt x="10443" y="12129"/>
                </a:moveTo>
                <a:cubicBezTo>
                  <a:pt x="10554" y="12063"/>
                  <a:pt x="10676" y="11956"/>
                  <a:pt x="10815" y="11956"/>
                </a:cubicBezTo>
                <a:cubicBezTo>
                  <a:pt x="10982" y="11956"/>
                  <a:pt x="10859" y="12254"/>
                  <a:pt x="10840" y="12328"/>
                </a:cubicBezTo>
                <a:cubicBezTo>
                  <a:pt x="10825" y="12385"/>
                  <a:pt x="10752" y="12530"/>
                  <a:pt x="10815" y="12551"/>
                </a:cubicBezTo>
                <a:cubicBezTo>
                  <a:pt x="10945" y="12508"/>
                  <a:pt x="11019" y="12379"/>
                  <a:pt x="11137" y="12303"/>
                </a:cubicBezTo>
                <a:cubicBezTo>
                  <a:pt x="11182" y="12274"/>
                  <a:pt x="11261" y="12216"/>
                  <a:pt x="11311" y="12204"/>
                </a:cubicBezTo>
              </a:path>
              <a:path w="1638" h="1787">
                <a:moveTo>
                  <a:pt x="10740" y="11410"/>
                </a:moveTo>
                <a:cubicBezTo>
                  <a:pt x="10740" y="11499"/>
                  <a:pt x="10742" y="11604"/>
                  <a:pt x="10790" y="11683"/>
                </a:cubicBezTo>
                <a:cubicBezTo>
                  <a:pt x="10807" y="11700"/>
                  <a:pt x="10823" y="11716"/>
                  <a:pt x="10840" y="11733"/>
                </a:cubicBezTo>
                <a:cubicBezTo>
                  <a:pt x="10934" y="11690"/>
                  <a:pt x="11051" y="11635"/>
                  <a:pt x="10988" y="11509"/>
                </a:cubicBezTo>
                <a:cubicBezTo>
                  <a:pt x="10933" y="11398"/>
                  <a:pt x="10802" y="11433"/>
                  <a:pt x="10740" y="11509"/>
                </a:cubicBezTo>
                <a:cubicBezTo>
                  <a:pt x="10732" y="11526"/>
                  <a:pt x="10724" y="11542"/>
                  <a:pt x="10716" y="1155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howcard Gothic"/>
              </a:rPr>
              <a:t>Using angles to find missing measures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"/>
          <p:cNvSpPr/>
          <p:nvPr/>
        </p:nvSpPr>
        <p:spPr>
          <a:xfrm>
            <a:off x="2362320" y="4267080"/>
            <a:ext cx="4114800" cy="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4191120" y="2514600"/>
            <a:ext cx="0" cy="175248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191120" y="4038480"/>
            <a:ext cx="228600" cy="2286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4191120" y="2971800"/>
            <a:ext cx="2133360" cy="12952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743200" y="3962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809880" y="30481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3879360" y="2967480"/>
            <a:ext cx="2362680" cy="1736280"/>
            <a:chOff x="3879360" y="2967480"/>
            <a:chExt cx="2362680" cy="1736280"/>
          </a:xfrm>
        </p:grpSpPr>
        <p:sp>
          <p:nvSpPr>
            <p:cNvPr id="305" name=""/>
            <p:cNvSpPr/>
            <p:nvPr/>
          </p:nvSpPr>
          <p:spPr>
            <a:xfrm>
              <a:off x="5264280" y="2967480"/>
              <a:ext cx="40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671800" y="3736800"/>
              <a:ext cx="57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879360" y="433548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204800" y="3395160"/>
              <a:ext cx="73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642960" y="2347920"/>
            <a:ext cx="1901880" cy="349200"/>
          </a:xfrm>
          <a:custGeom>
            <a:avLst/>
            <a:gdLst/>
            <a:ahLst/>
            <a:rect l="l" t="t" r="r" b="b"/>
            <a:pathLst>
              <a:path w="5284" h="968">
                <a:moveTo>
                  <a:pt x="1811" y="7045"/>
                </a:moveTo>
                <a:cubicBezTo>
                  <a:pt x="1811" y="6969"/>
                  <a:pt x="1811" y="7276"/>
                  <a:pt x="1811" y="7293"/>
                </a:cubicBezTo>
                <a:cubicBezTo>
                  <a:pt x="1811" y="7402"/>
                  <a:pt x="1816" y="7429"/>
                  <a:pt x="1786" y="7491"/>
                </a:cubicBezTo>
                <a:cubicBezTo>
                  <a:pt x="1786" y="7380"/>
                  <a:pt x="1789" y="7279"/>
                  <a:pt x="1811" y="7169"/>
                </a:cubicBezTo>
                <a:cubicBezTo>
                  <a:pt x="1831" y="7067"/>
                  <a:pt x="1929" y="6953"/>
                  <a:pt x="2034" y="7069"/>
                </a:cubicBezTo>
                <a:cubicBezTo>
                  <a:pt x="2120" y="7165"/>
                  <a:pt x="2148" y="7298"/>
                  <a:pt x="2183" y="7417"/>
                </a:cubicBezTo>
                <a:cubicBezTo>
                  <a:pt x="2111" y="7463"/>
                  <a:pt x="2168" y="7279"/>
                  <a:pt x="2183" y="7243"/>
                </a:cubicBezTo>
                <a:cubicBezTo>
                  <a:pt x="2250" y="7087"/>
                  <a:pt x="2392" y="7087"/>
                  <a:pt x="2505" y="7193"/>
                </a:cubicBezTo>
                <a:cubicBezTo>
                  <a:pt x="2599" y="7281"/>
                  <a:pt x="2604" y="7373"/>
                  <a:pt x="2604" y="7491"/>
                </a:cubicBezTo>
                <a:cubicBezTo>
                  <a:pt x="2604" y="7483"/>
                  <a:pt x="2604" y="7474"/>
                  <a:pt x="2604" y="7466"/>
                </a:cubicBezTo>
              </a:path>
              <a:path w="5284" h="968">
                <a:moveTo>
                  <a:pt x="3076" y="6896"/>
                </a:moveTo>
                <a:cubicBezTo>
                  <a:pt x="2999" y="7050"/>
                  <a:pt x="2919" y="7240"/>
                  <a:pt x="2803" y="7367"/>
                </a:cubicBezTo>
                <a:cubicBezTo>
                  <a:pt x="2762" y="7387"/>
                  <a:pt x="2735" y="7396"/>
                  <a:pt x="2778" y="7392"/>
                </a:cubicBezTo>
                <a:cubicBezTo>
                  <a:pt x="2913" y="7417"/>
                  <a:pt x="3076" y="7392"/>
                  <a:pt x="3225" y="7392"/>
                </a:cubicBezTo>
                <a:cubicBezTo>
                  <a:pt x="3249" y="7392"/>
                  <a:pt x="3258" y="7392"/>
                  <a:pt x="3274" y="7392"/>
                </a:cubicBezTo>
              </a:path>
              <a:path w="5284" h="968">
                <a:moveTo>
                  <a:pt x="3473" y="6995"/>
                </a:moveTo>
                <a:cubicBezTo>
                  <a:pt x="3452" y="7123"/>
                  <a:pt x="3460" y="7211"/>
                  <a:pt x="3473" y="7342"/>
                </a:cubicBezTo>
                <a:cubicBezTo>
                  <a:pt x="3473" y="7359"/>
                  <a:pt x="3473" y="7375"/>
                  <a:pt x="3473" y="7392"/>
                </a:cubicBezTo>
                <a:cubicBezTo>
                  <a:pt x="3418" y="7263"/>
                  <a:pt x="3374" y="7078"/>
                  <a:pt x="3473" y="6945"/>
                </a:cubicBezTo>
                <a:cubicBezTo>
                  <a:pt x="3530" y="6868"/>
                  <a:pt x="3739" y="6774"/>
                  <a:pt x="3746" y="6945"/>
                </a:cubicBezTo>
                <a:cubicBezTo>
                  <a:pt x="3750" y="7037"/>
                  <a:pt x="3649" y="7088"/>
                  <a:pt x="3621" y="7144"/>
                </a:cubicBezTo>
                <a:cubicBezTo>
                  <a:pt x="3647" y="7105"/>
                  <a:pt x="3680" y="7119"/>
                  <a:pt x="3746" y="7119"/>
                </a:cubicBezTo>
                <a:cubicBezTo>
                  <a:pt x="3794" y="7265"/>
                  <a:pt x="3779" y="7413"/>
                  <a:pt x="3572" y="7441"/>
                </a:cubicBezTo>
                <a:cubicBezTo>
                  <a:pt x="3432" y="7460"/>
                  <a:pt x="3440" y="7395"/>
                  <a:pt x="3448" y="7317"/>
                </a:cubicBezTo>
              </a:path>
              <a:path w="5284" h="968">
                <a:moveTo>
                  <a:pt x="4093" y="6970"/>
                </a:moveTo>
                <a:cubicBezTo>
                  <a:pt x="4072" y="7073"/>
                  <a:pt x="4045" y="7188"/>
                  <a:pt x="4018" y="7293"/>
                </a:cubicBezTo>
                <a:cubicBezTo>
                  <a:pt x="4003" y="7353"/>
                  <a:pt x="3994" y="7364"/>
                  <a:pt x="3994" y="7417"/>
                </a:cubicBezTo>
                <a:cubicBezTo>
                  <a:pt x="4119" y="7417"/>
                  <a:pt x="4220" y="7392"/>
                  <a:pt x="4341" y="7367"/>
                </a:cubicBezTo>
                <a:cubicBezTo>
                  <a:pt x="4349" y="7367"/>
                  <a:pt x="4358" y="7367"/>
                  <a:pt x="4366" y="7367"/>
                </a:cubicBezTo>
              </a:path>
              <a:path w="5284" h="968">
                <a:moveTo>
                  <a:pt x="3969" y="7193"/>
                </a:moveTo>
                <a:cubicBezTo>
                  <a:pt x="4077" y="7114"/>
                  <a:pt x="4198" y="7083"/>
                  <a:pt x="4316" y="7020"/>
                </a:cubicBezTo>
              </a:path>
              <a:path w="5284" h="968">
                <a:moveTo>
                  <a:pt x="4093" y="6921"/>
                </a:moveTo>
                <a:cubicBezTo>
                  <a:pt x="4267" y="6888"/>
                  <a:pt x="4437" y="6851"/>
                  <a:pt x="4614" y="6846"/>
                </a:cubicBezTo>
                <a:cubicBezTo>
                  <a:pt x="4647" y="6846"/>
                  <a:pt x="4680" y="6846"/>
                  <a:pt x="4713" y="6846"/>
                </a:cubicBezTo>
              </a:path>
              <a:path w="5284" h="968">
                <a:moveTo>
                  <a:pt x="4812" y="6896"/>
                </a:moveTo>
                <a:cubicBezTo>
                  <a:pt x="4829" y="6912"/>
                  <a:pt x="4845" y="6929"/>
                  <a:pt x="4862" y="6945"/>
                </a:cubicBezTo>
                <a:cubicBezTo>
                  <a:pt x="4852" y="6898"/>
                  <a:pt x="4838" y="6828"/>
                  <a:pt x="4787" y="6821"/>
                </a:cubicBezTo>
                <a:cubicBezTo>
                  <a:pt x="4627" y="6798"/>
                  <a:pt x="4542" y="7047"/>
                  <a:pt x="4539" y="7169"/>
                </a:cubicBezTo>
                <a:cubicBezTo>
                  <a:pt x="4534" y="7371"/>
                  <a:pt x="4857" y="7333"/>
                  <a:pt x="4986" y="7317"/>
                </a:cubicBezTo>
                <a:cubicBezTo>
                  <a:pt x="5043" y="7298"/>
                  <a:pt x="5050" y="7290"/>
                  <a:pt x="5085" y="7293"/>
                </a:cubicBezTo>
              </a:path>
              <a:path w="5284" h="968">
                <a:moveTo>
                  <a:pt x="5159" y="6945"/>
                </a:moveTo>
                <a:cubicBezTo>
                  <a:pt x="5286" y="6945"/>
                  <a:pt x="5420" y="6936"/>
                  <a:pt x="5531" y="6970"/>
                </a:cubicBezTo>
                <a:cubicBezTo>
                  <a:pt x="5539" y="6970"/>
                  <a:pt x="5548" y="6970"/>
                  <a:pt x="5556" y="6970"/>
                </a:cubicBezTo>
              </a:path>
              <a:path w="5284" h="968">
                <a:moveTo>
                  <a:pt x="5209" y="7119"/>
                </a:moveTo>
                <a:cubicBezTo>
                  <a:pt x="5310" y="7129"/>
                  <a:pt x="5404" y="7144"/>
                  <a:pt x="5507" y="7144"/>
                </a:cubicBezTo>
                <a:cubicBezTo>
                  <a:pt x="5515" y="7144"/>
                  <a:pt x="5523" y="7144"/>
                  <a:pt x="5531" y="7144"/>
                </a:cubicBezTo>
              </a:path>
              <a:path w="5284" h="968">
                <a:moveTo>
                  <a:pt x="5705" y="6796"/>
                </a:moveTo>
                <a:cubicBezTo>
                  <a:pt x="5789" y="6747"/>
                  <a:pt x="5902" y="6749"/>
                  <a:pt x="6003" y="6747"/>
                </a:cubicBezTo>
                <a:cubicBezTo>
                  <a:pt x="6069" y="6745"/>
                  <a:pt x="6135" y="6747"/>
                  <a:pt x="6201" y="6747"/>
                </a:cubicBezTo>
                <a:cubicBezTo>
                  <a:pt x="6201" y="6899"/>
                  <a:pt x="6132" y="7003"/>
                  <a:pt x="6077" y="7144"/>
                </a:cubicBezTo>
                <a:cubicBezTo>
                  <a:pt x="6059" y="7191"/>
                  <a:pt x="6038" y="7226"/>
                  <a:pt x="6028" y="7268"/>
                </a:cubicBezTo>
              </a:path>
              <a:path w="5284" h="968">
                <a:moveTo>
                  <a:pt x="6648" y="6796"/>
                </a:moveTo>
                <a:cubicBezTo>
                  <a:pt x="6563" y="6734"/>
                  <a:pt x="6493" y="6880"/>
                  <a:pt x="6449" y="6945"/>
                </a:cubicBezTo>
                <a:cubicBezTo>
                  <a:pt x="6374" y="7056"/>
                  <a:pt x="6319" y="7227"/>
                  <a:pt x="6424" y="7342"/>
                </a:cubicBezTo>
                <a:cubicBezTo>
                  <a:pt x="6543" y="7472"/>
                  <a:pt x="6707" y="7362"/>
                  <a:pt x="6796" y="7268"/>
                </a:cubicBezTo>
                <a:cubicBezTo>
                  <a:pt x="6876" y="7183"/>
                  <a:pt x="6964" y="6992"/>
                  <a:pt x="6846" y="6896"/>
                </a:cubicBezTo>
                <a:cubicBezTo>
                  <a:pt x="6767" y="6831"/>
                  <a:pt x="6646" y="6821"/>
                  <a:pt x="6548" y="6821"/>
                </a:cubicBezTo>
                <a:cubicBezTo>
                  <a:pt x="6540" y="6821"/>
                  <a:pt x="6532" y="6821"/>
                  <a:pt x="6524" y="6821"/>
                </a:cubicBezTo>
              </a:path>
              <a:path w="5284" h="968">
                <a:moveTo>
                  <a:pt x="7069" y="6548"/>
                </a:moveTo>
                <a:cubicBezTo>
                  <a:pt x="7032" y="6512"/>
                  <a:pt x="6969" y="6585"/>
                  <a:pt x="6945" y="6648"/>
                </a:cubicBezTo>
                <a:cubicBezTo>
                  <a:pt x="6945" y="6656"/>
                  <a:pt x="6945" y="6664"/>
                  <a:pt x="6945" y="6672"/>
                </a:cubicBezTo>
                <a:cubicBezTo>
                  <a:pt x="7016" y="6686"/>
                  <a:pt x="7040" y="6713"/>
                  <a:pt x="7069" y="6623"/>
                </a:cubicBezTo>
                <a:cubicBezTo>
                  <a:pt x="7080" y="6588"/>
                  <a:pt x="7035" y="6596"/>
                  <a:pt x="7020" y="657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8960" y="3098880"/>
            <a:ext cx="322200" cy="169920"/>
          </a:xfrm>
          <a:custGeom>
            <a:avLst/>
            <a:gdLst/>
            <a:ahLst/>
            <a:rect l="l" t="t" r="r" b="b"/>
            <a:pathLst>
              <a:path w="894" h="473">
                <a:moveTo>
                  <a:pt x="1637" y="8682"/>
                </a:moveTo>
                <a:cubicBezTo>
                  <a:pt x="1682" y="8755"/>
                  <a:pt x="1700" y="8887"/>
                  <a:pt x="1712" y="8979"/>
                </a:cubicBezTo>
                <a:cubicBezTo>
                  <a:pt x="1712" y="9037"/>
                  <a:pt x="1712" y="9046"/>
                  <a:pt x="1712" y="9079"/>
                </a:cubicBezTo>
                <a:cubicBezTo>
                  <a:pt x="1712" y="8972"/>
                  <a:pt x="1718" y="8911"/>
                  <a:pt x="1761" y="8806"/>
                </a:cubicBezTo>
                <a:cubicBezTo>
                  <a:pt x="1803" y="8704"/>
                  <a:pt x="1883" y="8563"/>
                  <a:pt x="2009" y="8632"/>
                </a:cubicBezTo>
                <a:cubicBezTo>
                  <a:pt x="2160" y="8715"/>
                  <a:pt x="2149" y="8808"/>
                  <a:pt x="2183" y="8954"/>
                </a:cubicBezTo>
                <a:cubicBezTo>
                  <a:pt x="2163" y="8915"/>
                  <a:pt x="2185" y="8741"/>
                  <a:pt x="2257" y="8682"/>
                </a:cubicBezTo>
                <a:cubicBezTo>
                  <a:pt x="2367" y="8593"/>
                  <a:pt x="2470" y="8744"/>
                  <a:pt x="2505" y="8830"/>
                </a:cubicBezTo>
                <a:cubicBezTo>
                  <a:pt x="2533" y="8899"/>
                  <a:pt x="2483" y="9013"/>
                  <a:pt x="2530" y="902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062000" y="3054240"/>
            <a:ext cx="1046160" cy="258840"/>
          </a:xfrm>
          <a:custGeom>
            <a:avLst/>
            <a:gdLst/>
            <a:ahLst/>
            <a:rect l="l" t="t" r="r" b="b"/>
            <a:pathLst>
              <a:path w="2903" h="721">
                <a:moveTo>
                  <a:pt x="3026" y="8533"/>
                </a:moveTo>
                <a:cubicBezTo>
                  <a:pt x="3058" y="8712"/>
                  <a:pt x="3049" y="8834"/>
                  <a:pt x="2977" y="9004"/>
                </a:cubicBezTo>
                <a:cubicBezTo>
                  <a:pt x="2957" y="9045"/>
                  <a:pt x="2948" y="9051"/>
                  <a:pt x="2952" y="9079"/>
                </a:cubicBezTo>
                <a:cubicBezTo>
                  <a:pt x="3081" y="9079"/>
                  <a:pt x="3199" y="9074"/>
                  <a:pt x="3324" y="9054"/>
                </a:cubicBezTo>
                <a:cubicBezTo>
                  <a:pt x="3349" y="9054"/>
                  <a:pt x="3357" y="9054"/>
                  <a:pt x="3373" y="9054"/>
                </a:cubicBezTo>
              </a:path>
              <a:path w="2903" h="721">
                <a:moveTo>
                  <a:pt x="3696" y="8706"/>
                </a:moveTo>
                <a:cubicBezTo>
                  <a:pt x="3707" y="8809"/>
                  <a:pt x="3716" y="8901"/>
                  <a:pt x="3721" y="9004"/>
                </a:cubicBezTo>
                <a:cubicBezTo>
                  <a:pt x="3721" y="9113"/>
                  <a:pt x="3692" y="8939"/>
                  <a:pt x="3696" y="8830"/>
                </a:cubicBezTo>
                <a:cubicBezTo>
                  <a:pt x="3703" y="8647"/>
                  <a:pt x="3746" y="8537"/>
                  <a:pt x="3919" y="8508"/>
                </a:cubicBezTo>
                <a:cubicBezTo>
                  <a:pt x="3994" y="8607"/>
                  <a:pt x="4040" y="8681"/>
                  <a:pt x="3919" y="8781"/>
                </a:cubicBezTo>
                <a:cubicBezTo>
                  <a:pt x="3894" y="8802"/>
                  <a:pt x="3794" y="8806"/>
                  <a:pt x="3845" y="8806"/>
                </a:cubicBezTo>
                <a:cubicBezTo>
                  <a:pt x="3954" y="8828"/>
                  <a:pt x="4084" y="8882"/>
                  <a:pt x="4043" y="9029"/>
                </a:cubicBezTo>
                <a:cubicBezTo>
                  <a:pt x="4005" y="9163"/>
                  <a:pt x="3885" y="9122"/>
                  <a:pt x="3795" y="9103"/>
                </a:cubicBezTo>
                <a:cubicBezTo>
                  <a:pt x="3787" y="9103"/>
                  <a:pt x="3778" y="9103"/>
                  <a:pt x="3770" y="9103"/>
                </a:cubicBezTo>
              </a:path>
              <a:path w="2903" h="721">
                <a:moveTo>
                  <a:pt x="4266" y="8558"/>
                </a:moveTo>
                <a:cubicBezTo>
                  <a:pt x="4266" y="8657"/>
                  <a:pt x="4194" y="9088"/>
                  <a:pt x="4316" y="9128"/>
                </a:cubicBezTo>
                <a:cubicBezTo>
                  <a:pt x="4409" y="9159"/>
                  <a:pt x="4522" y="9110"/>
                  <a:pt x="4614" y="9103"/>
                </a:cubicBezTo>
                <a:cubicBezTo>
                  <a:pt x="4622" y="9103"/>
                  <a:pt x="4630" y="9103"/>
                  <a:pt x="4638" y="9103"/>
                </a:cubicBezTo>
              </a:path>
              <a:path w="2903" h="721">
                <a:moveTo>
                  <a:pt x="4242" y="8930"/>
                </a:moveTo>
                <a:cubicBezTo>
                  <a:pt x="4340" y="8907"/>
                  <a:pt x="4451" y="8902"/>
                  <a:pt x="4539" y="8880"/>
                </a:cubicBezTo>
                <a:cubicBezTo>
                  <a:pt x="4564" y="8880"/>
                  <a:pt x="4572" y="8880"/>
                  <a:pt x="4589" y="8880"/>
                </a:cubicBezTo>
              </a:path>
              <a:path w="2903" h="721">
                <a:moveTo>
                  <a:pt x="4341" y="8582"/>
                </a:moveTo>
                <a:cubicBezTo>
                  <a:pt x="4442" y="8582"/>
                  <a:pt x="4535" y="8561"/>
                  <a:pt x="4638" y="8558"/>
                </a:cubicBezTo>
                <a:cubicBezTo>
                  <a:pt x="4723" y="8558"/>
                  <a:pt x="4743" y="8551"/>
                  <a:pt x="4787" y="8582"/>
                </a:cubicBezTo>
              </a:path>
              <a:path w="2903" h="721">
                <a:moveTo>
                  <a:pt x="4986" y="8632"/>
                </a:moveTo>
                <a:cubicBezTo>
                  <a:pt x="4986" y="8546"/>
                  <a:pt x="4963" y="8744"/>
                  <a:pt x="4961" y="8830"/>
                </a:cubicBezTo>
                <a:cubicBezTo>
                  <a:pt x="4959" y="8929"/>
                  <a:pt x="4961" y="9178"/>
                  <a:pt x="4961" y="9079"/>
                </a:cubicBezTo>
              </a:path>
              <a:path w="2903" h="721">
                <a:moveTo>
                  <a:pt x="4787" y="8483"/>
                </a:moveTo>
                <a:cubicBezTo>
                  <a:pt x="4964" y="8561"/>
                  <a:pt x="5141" y="8615"/>
                  <a:pt x="5283" y="8756"/>
                </a:cubicBezTo>
                <a:cubicBezTo>
                  <a:pt x="5404" y="8877"/>
                  <a:pt x="5381" y="9059"/>
                  <a:pt x="5234" y="9153"/>
                </a:cubicBezTo>
                <a:cubicBezTo>
                  <a:pt x="5141" y="9213"/>
                  <a:pt x="5026" y="9223"/>
                  <a:pt x="4936" y="9178"/>
                </a:cubicBezTo>
              </a:path>
              <a:path w="2903" h="721">
                <a:moveTo>
                  <a:pt x="5680" y="8855"/>
                </a:moveTo>
                <a:cubicBezTo>
                  <a:pt x="5672" y="8847"/>
                  <a:pt x="5663" y="8838"/>
                  <a:pt x="5655" y="8830"/>
                </a:cubicBezTo>
                <a:cubicBezTo>
                  <a:pt x="5713" y="8819"/>
                  <a:pt x="5769" y="8791"/>
                  <a:pt x="5829" y="8781"/>
                </a:cubicBezTo>
              </a:path>
              <a:path w="2903" h="721">
                <a:moveTo>
                  <a:pt x="5655" y="9029"/>
                </a:moveTo>
                <a:cubicBezTo>
                  <a:pt x="5721" y="9029"/>
                  <a:pt x="5788" y="9029"/>
                  <a:pt x="5854" y="902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251080" y="3071880"/>
            <a:ext cx="428760" cy="258840"/>
          </a:xfrm>
          <a:custGeom>
            <a:avLst/>
            <a:gdLst/>
            <a:ahLst/>
            <a:rect l="l" t="t" r="r" b="b"/>
            <a:pathLst>
              <a:path w="1191" h="720">
                <a:moveTo>
                  <a:pt x="6871" y="8781"/>
                </a:moveTo>
                <a:cubicBezTo>
                  <a:pt x="6839" y="8702"/>
                  <a:pt x="6733" y="8658"/>
                  <a:pt x="6648" y="8632"/>
                </a:cubicBezTo>
                <a:cubicBezTo>
                  <a:pt x="6514" y="8591"/>
                  <a:pt x="6335" y="8603"/>
                  <a:pt x="6276" y="8756"/>
                </a:cubicBezTo>
                <a:cubicBezTo>
                  <a:pt x="6222" y="8895"/>
                  <a:pt x="6243" y="9049"/>
                  <a:pt x="6424" y="9054"/>
                </a:cubicBezTo>
                <a:cubicBezTo>
                  <a:pt x="6600" y="9059"/>
                  <a:pt x="6635" y="8916"/>
                  <a:pt x="6648" y="8781"/>
                </a:cubicBezTo>
                <a:cubicBezTo>
                  <a:pt x="6648" y="8773"/>
                  <a:pt x="6648" y="8764"/>
                  <a:pt x="6648" y="8756"/>
                </a:cubicBezTo>
                <a:cubicBezTo>
                  <a:pt x="6584" y="8777"/>
                  <a:pt x="6686" y="8963"/>
                  <a:pt x="6697" y="9004"/>
                </a:cubicBezTo>
                <a:cubicBezTo>
                  <a:pt x="6715" y="9072"/>
                  <a:pt x="6715" y="9171"/>
                  <a:pt x="6747" y="9203"/>
                </a:cubicBezTo>
              </a:path>
              <a:path w="1191" h="720">
                <a:moveTo>
                  <a:pt x="6970" y="8781"/>
                </a:moveTo>
                <a:cubicBezTo>
                  <a:pt x="6908" y="8858"/>
                  <a:pt x="6861" y="9032"/>
                  <a:pt x="6896" y="9153"/>
                </a:cubicBezTo>
                <a:cubicBezTo>
                  <a:pt x="6912" y="9186"/>
                  <a:pt x="6929" y="9219"/>
                  <a:pt x="6945" y="9252"/>
                </a:cubicBezTo>
                <a:cubicBezTo>
                  <a:pt x="7082" y="9233"/>
                  <a:pt x="7267" y="9195"/>
                  <a:pt x="7243" y="9004"/>
                </a:cubicBezTo>
                <a:cubicBezTo>
                  <a:pt x="7224" y="8850"/>
                  <a:pt x="6977" y="8839"/>
                  <a:pt x="6871" y="8830"/>
                </a:cubicBezTo>
              </a:path>
              <a:path w="1191" h="720">
                <a:moveTo>
                  <a:pt x="7367" y="8533"/>
                </a:moveTo>
                <a:cubicBezTo>
                  <a:pt x="7365" y="8546"/>
                  <a:pt x="7314" y="8705"/>
                  <a:pt x="7317" y="8706"/>
                </a:cubicBezTo>
                <a:cubicBezTo>
                  <a:pt x="7401" y="8735"/>
                  <a:pt x="7410" y="8687"/>
                  <a:pt x="7441" y="8632"/>
                </a:cubicBezTo>
                <a:cubicBezTo>
                  <a:pt x="7386" y="8604"/>
                  <a:pt x="7363" y="8596"/>
                  <a:pt x="7317" y="860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65120" y="3517920"/>
            <a:ext cx="2000160" cy="268200"/>
          </a:xfrm>
          <a:custGeom>
            <a:avLst/>
            <a:gdLst/>
            <a:ahLst/>
            <a:rect l="l" t="t" r="r" b="b"/>
            <a:pathLst>
              <a:path w="5557" h="745">
                <a:moveTo>
                  <a:pt x="1364" y="10046"/>
                </a:moveTo>
                <a:cubicBezTo>
                  <a:pt x="1347" y="10149"/>
                  <a:pt x="1320" y="10238"/>
                  <a:pt x="1315" y="10344"/>
                </a:cubicBezTo>
                <a:cubicBezTo>
                  <a:pt x="1315" y="10352"/>
                  <a:pt x="1315" y="10360"/>
                  <a:pt x="1315" y="10368"/>
                </a:cubicBezTo>
                <a:cubicBezTo>
                  <a:pt x="1297" y="10282"/>
                  <a:pt x="1272" y="10190"/>
                  <a:pt x="1290" y="10096"/>
                </a:cubicBezTo>
                <a:cubicBezTo>
                  <a:pt x="1314" y="9972"/>
                  <a:pt x="1444" y="9963"/>
                  <a:pt x="1538" y="9996"/>
                </a:cubicBezTo>
                <a:cubicBezTo>
                  <a:pt x="1673" y="10043"/>
                  <a:pt x="1700" y="10153"/>
                  <a:pt x="1761" y="10269"/>
                </a:cubicBezTo>
                <a:cubicBezTo>
                  <a:pt x="1761" y="10401"/>
                  <a:pt x="1754" y="10151"/>
                  <a:pt x="1761" y="10120"/>
                </a:cubicBezTo>
                <a:cubicBezTo>
                  <a:pt x="1790" y="9995"/>
                  <a:pt x="1922" y="9953"/>
                  <a:pt x="2034" y="10021"/>
                </a:cubicBezTo>
                <a:cubicBezTo>
                  <a:pt x="2136" y="10083"/>
                  <a:pt x="2158" y="10187"/>
                  <a:pt x="2158" y="10294"/>
                </a:cubicBezTo>
                <a:cubicBezTo>
                  <a:pt x="2158" y="10336"/>
                  <a:pt x="2158" y="10361"/>
                  <a:pt x="2158" y="10319"/>
                </a:cubicBezTo>
              </a:path>
              <a:path w="5557" h="745">
                <a:moveTo>
                  <a:pt x="2729" y="9798"/>
                </a:moveTo>
                <a:cubicBezTo>
                  <a:pt x="2704" y="9948"/>
                  <a:pt x="2653" y="10015"/>
                  <a:pt x="2580" y="10145"/>
                </a:cubicBezTo>
                <a:cubicBezTo>
                  <a:pt x="2508" y="10274"/>
                  <a:pt x="2496" y="10316"/>
                  <a:pt x="2381" y="10393"/>
                </a:cubicBezTo>
                <a:cubicBezTo>
                  <a:pt x="2475" y="10393"/>
                  <a:pt x="2561" y="10355"/>
                  <a:pt x="2654" y="10344"/>
                </a:cubicBezTo>
                <a:cubicBezTo>
                  <a:pt x="2740" y="10334"/>
                  <a:pt x="2742" y="10351"/>
                  <a:pt x="2778" y="10368"/>
                </a:cubicBezTo>
                <a:cubicBezTo>
                  <a:pt x="2831" y="10394"/>
                  <a:pt x="2941" y="10368"/>
                  <a:pt x="3001" y="10368"/>
                </a:cubicBezTo>
              </a:path>
              <a:path w="5557" h="745">
                <a:moveTo>
                  <a:pt x="3473" y="9947"/>
                </a:moveTo>
                <a:cubicBezTo>
                  <a:pt x="3479" y="9997"/>
                  <a:pt x="3544" y="10138"/>
                  <a:pt x="3497" y="10046"/>
                </a:cubicBezTo>
                <a:cubicBezTo>
                  <a:pt x="3478" y="10010"/>
                  <a:pt x="3412" y="9903"/>
                  <a:pt x="3373" y="9897"/>
                </a:cubicBezTo>
                <a:cubicBezTo>
                  <a:pt x="3242" y="9878"/>
                  <a:pt x="3192" y="10002"/>
                  <a:pt x="3150" y="10096"/>
                </a:cubicBezTo>
                <a:cubicBezTo>
                  <a:pt x="3094" y="10220"/>
                  <a:pt x="3029" y="10330"/>
                  <a:pt x="3175" y="10418"/>
                </a:cubicBezTo>
                <a:cubicBezTo>
                  <a:pt x="3328" y="10510"/>
                  <a:pt x="3417" y="10477"/>
                  <a:pt x="3572" y="10443"/>
                </a:cubicBezTo>
                <a:cubicBezTo>
                  <a:pt x="3603" y="10436"/>
                  <a:pt x="3616" y="10426"/>
                  <a:pt x="3646" y="10418"/>
                </a:cubicBezTo>
              </a:path>
              <a:path w="5557" h="745">
                <a:moveTo>
                  <a:pt x="3746" y="10096"/>
                </a:moveTo>
                <a:cubicBezTo>
                  <a:pt x="3746" y="10197"/>
                  <a:pt x="3767" y="10291"/>
                  <a:pt x="3770" y="10393"/>
                </a:cubicBezTo>
                <a:cubicBezTo>
                  <a:pt x="3772" y="10470"/>
                  <a:pt x="3793" y="10525"/>
                  <a:pt x="3894" y="10517"/>
                </a:cubicBezTo>
                <a:cubicBezTo>
                  <a:pt x="3960" y="10512"/>
                  <a:pt x="4025" y="10475"/>
                  <a:pt x="4093" y="10468"/>
                </a:cubicBezTo>
              </a:path>
              <a:path w="5557" h="745">
                <a:moveTo>
                  <a:pt x="3746" y="10294"/>
                </a:moveTo>
                <a:cubicBezTo>
                  <a:pt x="3825" y="10281"/>
                  <a:pt x="3893" y="10241"/>
                  <a:pt x="3969" y="10220"/>
                </a:cubicBezTo>
                <a:cubicBezTo>
                  <a:pt x="3977" y="10220"/>
                  <a:pt x="3986" y="10220"/>
                  <a:pt x="3994" y="10220"/>
                </a:cubicBezTo>
              </a:path>
              <a:path w="5557" h="745">
                <a:moveTo>
                  <a:pt x="3746" y="10046"/>
                </a:moveTo>
                <a:cubicBezTo>
                  <a:pt x="3827" y="10032"/>
                  <a:pt x="3913" y="10004"/>
                  <a:pt x="3994" y="9996"/>
                </a:cubicBezTo>
                <a:cubicBezTo>
                  <a:pt x="4094" y="9996"/>
                  <a:pt x="4128" y="9996"/>
                  <a:pt x="4192" y="9971"/>
                </a:cubicBezTo>
              </a:path>
              <a:path w="5557" h="745">
                <a:moveTo>
                  <a:pt x="4266" y="9947"/>
                </a:moveTo>
                <a:cubicBezTo>
                  <a:pt x="4370" y="10009"/>
                  <a:pt x="4381" y="10129"/>
                  <a:pt x="4415" y="10244"/>
                </a:cubicBezTo>
                <a:cubicBezTo>
                  <a:pt x="4434" y="10302"/>
                  <a:pt x="4425" y="10327"/>
                  <a:pt x="4465" y="10319"/>
                </a:cubicBezTo>
              </a:path>
              <a:path w="5557" h="745">
                <a:moveTo>
                  <a:pt x="4167" y="9872"/>
                </a:moveTo>
                <a:cubicBezTo>
                  <a:pt x="4354" y="9940"/>
                  <a:pt x="4575" y="9964"/>
                  <a:pt x="4688" y="10145"/>
                </a:cubicBezTo>
                <a:cubicBezTo>
                  <a:pt x="4774" y="10282"/>
                  <a:pt x="4718" y="10420"/>
                  <a:pt x="4564" y="10468"/>
                </a:cubicBezTo>
                <a:cubicBezTo>
                  <a:pt x="4517" y="10483"/>
                  <a:pt x="4428" y="10481"/>
                  <a:pt x="4415" y="10443"/>
                </a:cubicBezTo>
              </a:path>
              <a:path w="5557" h="745">
                <a:moveTo>
                  <a:pt x="5011" y="10046"/>
                </a:moveTo>
                <a:cubicBezTo>
                  <a:pt x="5032" y="10014"/>
                  <a:pt x="5196" y="9968"/>
                  <a:pt x="5259" y="9971"/>
                </a:cubicBezTo>
                <a:cubicBezTo>
                  <a:pt x="5267" y="9979"/>
                  <a:pt x="5275" y="9988"/>
                  <a:pt x="5283" y="9996"/>
                </a:cubicBezTo>
              </a:path>
              <a:path w="5557" h="745">
                <a:moveTo>
                  <a:pt x="5035" y="10220"/>
                </a:moveTo>
                <a:cubicBezTo>
                  <a:pt x="5140" y="10196"/>
                  <a:pt x="5233" y="10190"/>
                  <a:pt x="5333" y="10145"/>
                </a:cubicBezTo>
              </a:path>
              <a:path w="5557" h="745">
                <a:moveTo>
                  <a:pt x="5879" y="9872"/>
                </a:moveTo>
                <a:cubicBezTo>
                  <a:pt x="5965" y="9773"/>
                  <a:pt x="6012" y="9775"/>
                  <a:pt x="6127" y="9823"/>
                </a:cubicBezTo>
                <a:cubicBezTo>
                  <a:pt x="6101" y="10001"/>
                  <a:pt x="6025" y="10131"/>
                  <a:pt x="5904" y="10269"/>
                </a:cubicBezTo>
                <a:cubicBezTo>
                  <a:pt x="5857" y="10322"/>
                  <a:pt x="5730" y="10495"/>
                  <a:pt x="5730" y="10393"/>
                </a:cubicBezTo>
                <a:cubicBezTo>
                  <a:pt x="5763" y="10293"/>
                  <a:pt x="5851" y="10289"/>
                  <a:pt x="5978" y="10344"/>
                </a:cubicBezTo>
                <a:cubicBezTo>
                  <a:pt x="6139" y="10413"/>
                  <a:pt x="6106" y="10445"/>
                  <a:pt x="6276" y="10344"/>
                </a:cubicBezTo>
              </a:path>
              <a:path w="5557" h="745">
                <a:moveTo>
                  <a:pt x="6548" y="9971"/>
                </a:moveTo>
                <a:cubicBezTo>
                  <a:pt x="6448" y="9971"/>
                  <a:pt x="6404" y="10041"/>
                  <a:pt x="6350" y="10120"/>
                </a:cubicBezTo>
                <a:cubicBezTo>
                  <a:pt x="6253" y="10261"/>
                  <a:pt x="6263" y="10282"/>
                  <a:pt x="6325" y="10418"/>
                </a:cubicBezTo>
                <a:cubicBezTo>
                  <a:pt x="6436" y="10410"/>
                  <a:pt x="6651" y="10400"/>
                  <a:pt x="6672" y="10244"/>
                </a:cubicBezTo>
                <a:cubicBezTo>
                  <a:pt x="6693" y="10090"/>
                  <a:pt x="6571" y="9938"/>
                  <a:pt x="6424" y="9947"/>
                </a:cubicBezTo>
                <a:cubicBezTo>
                  <a:pt x="6367" y="9966"/>
                  <a:pt x="6360" y="9974"/>
                  <a:pt x="6325" y="9971"/>
                </a:cubicBezTo>
              </a:path>
              <a:path w="5557" h="745">
                <a:moveTo>
                  <a:pt x="6747" y="9798"/>
                </a:moveTo>
                <a:cubicBezTo>
                  <a:pt x="6715" y="9883"/>
                  <a:pt x="6718" y="9936"/>
                  <a:pt x="6821" y="9872"/>
                </a:cubicBezTo>
                <a:cubicBezTo>
                  <a:pt x="6884" y="9833"/>
                  <a:pt x="6750" y="9830"/>
                  <a:pt x="6722" y="982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483000" y="3643200"/>
            <a:ext cx="741240" cy="615960"/>
          </a:xfrm>
          <a:custGeom>
            <a:avLst/>
            <a:gdLst/>
            <a:ahLst/>
            <a:rect l="l" t="t" r="r" b="b"/>
            <a:pathLst>
              <a:path w="2060" h="1713">
                <a:moveTo>
                  <a:pt x="11733" y="11187"/>
                </a:moveTo>
                <a:cubicBezTo>
                  <a:pt x="11733" y="11179"/>
                  <a:pt x="11733" y="11170"/>
                  <a:pt x="11733" y="11162"/>
                </a:cubicBezTo>
                <a:cubicBezTo>
                  <a:pt x="11690" y="11162"/>
                  <a:pt x="11695" y="11172"/>
                  <a:pt x="11683" y="11137"/>
                </a:cubicBezTo>
                <a:cubicBezTo>
                  <a:pt x="11658" y="11137"/>
                  <a:pt x="11634" y="11137"/>
                  <a:pt x="11609" y="11137"/>
                </a:cubicBezTo>
                <a:cubicBezTo>
                  <a:pt x="11597" y="11102"/>
                  <a:pt x="11602" y="11112"/>
                  <a:pt x="11559" y="11112"/>
                </a:cubicBezTo>
              </a:path>
              <a:path w="2060" h="1713">
                <a:moveTo>
                  <a:pt x="11633" y="11237"/>
                </a:moveTo>
                <a:cubicBezTo>
                  <a:pt x="11563" y="11237"/>
                  <a:pt x="11518" y="11231"/>
                  <a:pt x="11460" y="11212"/>
                </a:cubicBezTo>
                <a:cubicBezTo>
                  <a:pt x="11406" y="11194"/>
                  <a:pt x="11343" y="11203"/>
                  <a:pt x="11311" y="11187"/>
                </a:cubicBezTo>
                <a:cubicBezTo>
                  <a:pt x="11271" y="11167"/>
                  <a:pt x="11155" y="11172"/>
                  <a:pt x="11112" y="11162"/>
                </a:cubicBezTo>
                <a:cubicBezTo>
                  <a:pt x="11016" y="11139"/>
                  <a:pt x="10890" y="11162"/>
                  <a:pt x="10790" y="11162"/>
                </a:cubicBezTo>
                <a:cubicBezTo>
                  <a:pt x="10790" y="11325"/>
                  <a:pt x="10723" y="11660"/>
                  <a:pt x="10765" y="11807"/>
                </a:cubicBezTo>
                <a:cubicBezTo>
                  <a:pt x="10790" y="11807"/>
                  <a:pt x="10798" y="11807"/>
                  <a:pt x="10790" y="11832"/>
                </a:cubicBezTo>
              </a:path>
              <a:path w="2060" h="1713">
                <a:moveTo>
                  <a:pt x="11162" y="11261"/>
                </a:moveTo>
                <a:cubicBezTo>
                  <a:pt x="11150" y="11367"/>
                  <a:pt x="11111" y="11403"/>
                  <a:pt x="11187" y="11460"/>
                </a:cubicBezTo>
              </a:path>
              <a:path w="2060" h="1713">
                <a:moveTo>
                  <a:pt x="10071" y="10418"/>
                </a:moveTo>
                <a:cubicBezTo>
                  <a:pt x="10149" y="10398"/>
                  <a:pt x="10170" y="10288"/>
                  <a:pt x="10120" y="10220"/>
                </a:cubicBezTo>
                <a:cubicBezTo>
                  <a:pt x="10016" y="10078"/>
                  <a:pt x="9805" y="10154"/>
                  <a:pt x="9723" y="10269"/>
                </a:cubicBezTo>
                <a:cubicBezTo>
                  <a:pt x="9612" y="10426"/>
                  <a:pt x="9676" y="10646"/>
                  <a:pt x="9897" y="10542"/>
                </a:cubicBezTo>
                <a:cubicBezTo>
                  <a:pt x="9980" y="10459"/>
                  <a:pt x="10012" y="10422"/>
                  <a:pt x="10046" y="10344"/>
                </a:cubicBezTo>
                <a:cubicBezTo>
                  <a:pt x="10066" y="10303"/>
                  <a:pt x="10064" y="10287"/>
                  <a:pt x="10096" y="10294"/>
                </a:cubicBezTo>
                <a:cubicBezTo>
                  <a:pt x="10055" y="10496"/>
                  <a:pt x="10021" y="10665"/>
                  <a:pt x="9947" y="10864"/>
                </a:cubicBezTo>
                <a:cubicBezTo>
                  <a:pt x="9889" y="11019"/>
                  <a:pt x="9904" y="10957"/>
                  <a:pt x="10046" y="10815"/>
                </a:cubicBezTo>
              </a:path>
              <a:path w="2060" h="1713">
                <a:moveTo>
                  <a:pt x="10542" y="10294"/>
                </a:moveTo>
                <a:cubicBezTo>
                  <a:pt x="10465" y="10438"/>
                  <a:pt x="10369" y="10643"/>
                  <a:pt x="10418" y="10815"/>
                </a:cubicBezTo>
                <a:cubicBezTo>
                  <a:pt x="10435" y="10831"/>
                  <a:pt x="10451" y="10848"/>
                  <a:pt x="10468" y="10864"/>
                </a:cubicBezTo>
                <a:cubicBezTo>
                  <a:pt x="10618" y="10841"/>
                  <a:pt x="10739" y="10788"/>
                  <a:pt x="10765" y="10616"/>
                </a:cubicBezTo>
                <a:cubicBezTo>
                  <a:pt x="10779" y="10526"/>
                  <a:pt x="10719" y="10224"/>
                  <a:pt x="10567" y="10269"/>
                </a:cubicBezTo>
                <a:cubicBezTo>
                  <a:pt x="10542" y="10286"/>
                  <a:pt x="10517" y="10302"/>
                  <a:pt x="10492" y="10319"/>
                </a:cubicBezTo>
              </a:path>
              <a:path w="2060" h="1713">
                <a:moveTo>
                  <a:pt x="10864" y="10120"/>
                </a:moveTo>
                <a:cubicBezTo>
                  <a:pt x="10860" y="10162"/>
                  <a:pt x="10797" y="10300"/>
                  <a:pt x="10889" y="10294"/>
                </a:cubicBezTo>
                <a:cubicBezTo>
                  <a:pt x="11001" y="10287"/>
                  <a:pt x="10919" y="10195"/>
                  <a:pt x="10840" y="1019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714920" y="3902040"/>
            <a:ext cx="366840" cy="312840"/>
          </a:xfrm>
          <a:custGeom>
            <a:avLst/>
            <a:gdLst/>
            <a:ahLst/>
            <a:rect l="l" t="t" r="r" b="b"/>
            <a:pathLst>
              <a:path w="1018" h="869">
                <a:moveTo>
                  <a:pt x="13271" y="11063"/>
                </a:moveTo>
                <a:cubicBezTo>
                  <a:pt x="13290" y="11122"/>
                  <a:pt x="13323" y="11038"/>
                  <a:pt x="13395" y="11063"/>
                </a:cubicBezTo>
                <a:cubicBezTo>
                  <a:pt x="13607" y="11138"/>
                  <a:pt x="13433" y="11432"/>
                  <a:pt x="13345" y="11534"/>
                </a:cubicBezTo>
                <a:cubicBezTo>
                  <a:pt x="13262" y="11630"/>
                  <a:pt x="13205" y="11646"/>
                  <a:pt x="13097" y="11658"/>
                </a:cubicBezTo>
                <a:cubicBezTo>
                  <a:pt x="13112" y="11529"/>
                  <a:pt x="13150" y="11471"/>
                  <a:pt x="13295" y="11485"/>
                </a:cubicBezTo>
                <a:cubicBezTo>
                  <a:pt x="13377" y="11493"/>
                  <a:pt x="13451" y="11645"/>
                  <a:pt x="13494" y="11633"/>
                </a:cubicBezTo>
                <a:cubicBezTo>
                  <a:pt x="13535" y="11617"/>
                  <a:pt x="13577" y="11600"/>
                  <a:pt x="13618" y="11584"/>
                </a:cubicBezTo>
              </a:path>
              <a:path w="1018" h="869">
                <a:moveTo>
                  <a:pt x="13717" y="11112"/>
                </a:moveTo>
                <a:cubicBezTo>
                  <a:pt x="13621" y="11248"/>
                  <a:pt x="13621" y="11370"/>
                  <a:pt x="13618" y="11534"/>
                </a:cubicBezTo>
                <a:cubicBezTo>
                  <a:pt x="13618" y="11646"/>
                  <a:pt x="13608" y="11681"/>
                  <a:pt x="13692" y="11708"/>
                </a:cubicBezTo>
                <a:cubicBezTo>
                  <a:pt x="13852" y="11651"/>
                  <a:pt x="14049" y="11560"/>
                  <a:pt x="13965" y="11336"/>
                </a:cubicBezTo>
                <a:cubicBezTo>
                  <a:pt x="13911" y="11191"/>
                  <a:pt x="13768" y="11156"/>
                  <a:pt x="13643" y="11112"/>
                </a:cubicBezTo>
              </a:path>
              <a:path w="1018" h="869">
                <a:moveTo>
                  <a:pt x="14089" y="10840"/>
                </a:moveTo>
                <a:cubicBezTo>
                  <a:pt x="14043" y="10896"/>
                  <a:pt x="14004" y="10938"/>
                  <a:pt x="14015" y="10988"/>
                </a:cubicBezTo>
                <a:cubicBezTo>
                  <a:pt x="14031" y="10985"/>
                  <a:pt x="14170" y="10937"/>
                  <a:pt x="14114" y="10914"/>
                </a:cubicBezTo>
                <a:cubicBezTo>
                  <a:pt x="14097" y="10914"/>
                  <a:pt x="14081" y="10914"/>
                  <a:pt x="14064" y="1091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38120" y="3875040"/>
            <a:ext cx="392040" cy="260280"/>
          </a:xfrm>
          <a:custGeom>
            <a:avLst/>
            <a:gdLst/>
            <a:ahLst/>
            <a:rect l="l" t="t" r="r" b="b"/>
            <a:pathLst>
              <a:path w="1093" h="721">
                <a:moveTo>
                  <a:pt x="1215" y="11212"/>
                </a:moveTo>
                <a:cubicBezTo>
                  <a:pt x="1252" y="11137"/>
                  <a:pt x="1240" y="11335"/>
                  <a:pt x="1240" y="11336"/>
                </a:cubicBezTo>
                <a:cubicBezTo>
                  <a:pt x="1261" y="11418"/>
                  <a:pt x="1269" y="11434"/>
                  <a:pt x="1265" y="11485"/>
                </a:cubicBezTo>
                <a:cubicBezTo>
                  <a:pt x="1250" y="11396"/>
                  <a:pt x="1229" y="11271"/>
                  <a:pt x="1290" y="11187"/>
                </a:cubicBezTo>
                <a:cubicBezTo>
                  <a:pt x="1397" y="11039"/>
                  <a:pt x="1546" y="11203"/>
                  <a:pt x="1612" y="11286"/>
                </a:cubicBezTo>
                <a:cubicBezTo>
                  <a:pt x="1656" y="11351"/>
                  <a:pt x="1667" y="11366"/>
                  <a:pt x="1687" y="11410"/>
                </a:cubicBezTo>
                <a:cubicBezTo>
                  <a:pt x="1669" y="11322"/>
                  <a:pt x="1656" y="11214"/>
                  <a:pt x="1736" y="11137"/>
                </a:cubicBezTo>
                <a:cubicBezTo>
                  <a:pt x="1870" y="11009"/>
                  <a:pt x="1992" y="11236"/>
                  <a:pt x="2009" y="11336"/>
                </a:cubicBezTo>
                <a:cubicBezTo>
                  <a:pt x="2017" y="11382"/>
                  <a:pt x="2019" y="11495"/>
                  <a:pt x="1984" y="11460"/>
                </a:cubicBezTo>
              </a:path>
              <a:path w="1093" h="721">
                <a:moveTo>
                  <a:pt x="2257" y="10765"/>
                </a:moveTo>
                <a:cubicBezTo>
                  <a:pt x="2231" y="10952"/>
                  <a:pt x="2130" y="11145"/>
                  <a:pt x="2034" y="11311"/>
                </a:cubicBezTo>
                <a:cubicBezTo>
                  <a:pt x="1975" y="11390"/>
                  <a:pt x="1950" y="11399"/>
                  <a:pt x="1960" y="11460"/>
                </a:cubicBezTo>
                <a:cubicBezTo>
                  <a:pt x="2076" y="11460"/>
                  <a:pt x="2191" y="11460"/>
                  <a:pt x="2307" y="1146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965160" y="3902040"/>
            <a:ext cx="1071720" cy="277920"/>
          </a:xfrm>
          <a:custGeom>
            <a:avLst/>
            <a:gdLst/>
            <a:ahLst/>
            <a:rect l="l" t="t" r="r" b="b"/>
            <a:pathLst>
              <a:path w="2977" h="770">
                <a:moveTo>
                  <a:pt x="2704" y="11162"/>
                </a:moveTo>
                <a:cubicBezTo>
                  <a:pt x="2704" y="11151"/>
                  <a:pt x="2704" y="11048"/>
                  <a:pt x="2704" y="11112"/>
                </a:cubicBezTo>
                <a:cubicBezTo>
                  <a:pt x="2704" y="11256"/>
                  <a:pt x="2687" y="11392"/>
                  <a:pt x="2679" y="11534"/>
                </a:cubicBezTo>
                <a:cubicBezTo>
                  <a:pt x="2679" y="11567"/>
                  <a:pt x="2679" y="11567"/>
                  <a:pt x="2679" y="11509"/>
                </a:cubicBezTo>
                <a:cubicBezTo>
                  <a:pt x="2688" y="11374"/>
                  <a:pt x="2699" y="11215"/>
                  <a:pt x="2753" y="11088"/>
                </a:cubicBezTo>
                <a:cubicBezTo>
                  <a:pt x="2778" y="11063"/>
                  <a:pt x="2786" y="11055"/>
                  <a:pt x="2803" y="11038"/>
                </a:cubicBezTo>
                <a:cubicBezTo>
                  <a:pt x="2981" y="11127"/>
                  <a:pt x="2992" y="11213"/>
                  <a:pt x="3001" y="11410"/>
                </a:cubicBezTo>
                <a:cubicBezTo>
                  <a:pt x="3001" y="11419"/>
                  <a:pt x="3011" y="11579"/>
                  <a:pt x="2977" y="11509"/>
                </a:cubicBezTo>
              </a:path>
              <a:path w="2977" h="770">
                <a:moveTo>
                  <a:pt x="2753" y="11385"/>
                </a:moveTo>
                <a:cubicBezTo>
                  <a:pt x="2857" y="11345"/>
                  <a:pt x="2948" y="11308"/>
                  <a:pt x="3051" y="11261"/>
                </a:cubicBezTo>
              </a:path>
              <a:path w="2977" h="770">
                <a:moveTo>
                  <a:pt x="3274" y="11112"/>
                </a:moveTo>
                <a:cubicBezTo>
                  <a:pt x="3262" y="11229"/>
                  <a:pt x="3242" y="11345"/>
                  <a:pt x="3225" y="11460"/>
                </a:cubicBezTo>
                <a:cubicBezTo>
                  <a:pt x="3211" y="11552"/>
                  <a:pt x="3311" y="11544"/>
                  <a:pt x="3373" y="11534"/>
                </a:cubicBezTo>
                <a:cubicBezTo>
                  <a:pt x="3496" y="11514"/>
                  <a:pt x="3501" y="11499"/>
                  <a:pt x="3572" y="11410"/>
                </a:cubicBezTo>
              </a:path>
              <a:path w="2977" h="770">
                <a:moveTo>
                  <a:pt x="3274" y="11311"/>
                </a:moveTo>
                <a:cubicBezTo>
                  <a:pt x="3388" y="11250"/>
                  <a:pt x="3415" y="11243"/>
                  <a:pt x="3473" y="11137"/>
                </a:cubicBezTo>
              </a:path>
              <a:path w="2977" h="770">
                <a:moveTo>
                  <a:pt x="3225" y="11088"/>
                </a:moveTo>
                <a:cubicBezTo>
                  <a:pt x="3354" y="11036"/>
                  <a:pt x="3401" y="11018"/>
                  <a:pt x="3497" y="11013"/>
                </a:cubicBezTo>
              </a:path>
              <a:path w="2977" h="770">
                <a:moveTo>
                  <a:pt x="3696" y="11013"/>
                </a:moveTo>
                <a:cubicBezTo>
                  <a:pt x="3720" y="11132"/>
                  <a:pt x="3739" y="11241"/>
                  <a:pt x="3746" y="11361"/>
                </a:cubicBezTo>
                <a:cubicBezTo>
                  <a:pt x="3797" y="11569"/>
                  <a:pt x="3722" y="11248"/>
                  <a:pt x="3721" y="11237"/>
                </a:cubicBezTo>
                <a:cubicBezTo>
                  <a:pt x="3712" y="11110"/>
                  <a:pt x="3703" y="10894"/>
                  <a:pt x="3870" y="10889"/>
                </a:cubicBezTo>
                <a:cubicBezTo>
                  <a:pt x="4068" y="10883"/>
                  <a:pt x="3971" y="11049"/>
                  <a:pt x="3919" y="11137"/>
                </a:cubicBezTo>
                <a:cubicBezTo>
                  <a:pt x="3779" y="11165"/>
                  <a:pt x="3824" y="11140"/>
                  <a:pt x="3944" y="11112"/>
                </a:cubicBezTo>
                <a:cubicBezTo>
                  <a:pt x="4093" y="11187"/>
                  <a:pt x="4165" y="11310"/>
                  <a:pt x="3969" y="11435"/>
                </a:cubicBezTo>
                <a:cubicBezTo>
                  <a:pt x="3839" y="11518"/>
                  <a:pt x="3769" y="11416"/>
                  <a:pt x="3746" y="11311"/>
                </a:cubicBezTo>
              </a:path>
              <a:path w="2977" h="770">
                <a:moveTo>
                  <a:pt x="4341" y="11063"/>
                </a:moveTo>
                <a:cubicBezTo>
                  <a:pt x="4427" y="11075"/>
                  <a:pt x="4497" y="11078"/>
                  <a:pt x="4589" y="11088"/>
                </a:cubicBezTo>
                <a:cubicBezTo>
                  <a:pt x="4597" y="11088"/>
                  <a:pt x="4606" y="11088"/>
                  <a:pt x="4614" y="11088"/>
                </a:cubicBezTo>
              </a:path>
              <a:path w="2977" h="770">
                <a:moveTo>
                  <a:pt x="4316" y="11261"/>
                </a:moveTo>
                <a:cubicBezTo>
                  <a:pt x="4390" y="11261"/>
                  <a:pt x="4465" y="11261"/>
                  <a:pt x="4539" y="11261"/>
                </a:cubicBezTo>
              </a:path>
              <a:path w="2977" h="770">
                <a:moveTo>
                  <a:pt x="5060" y="11162"/>
                </a:moveTo>
                <a:cubicBezTo>
                  <a:pt x="5122" y="11141"/>
                  <a:pt x="5105" y="11050"/>
                  <a:pt x="5085" y="10988"/>
                </a:cubicBezTo>
                <a:cubicBezTo>
                  <a:pt x="5063" y="10945"/>
                  <a:pt x="5059" y="10933"/>
                  <a:pt x="5035" y="10914"/>
                </a:cubicBezTo>
                <a:cubicBezTo>
                  <a:pt x="4889" y="10947"/>
                  <a:pt x="4821" y="11033"/>
                  <a:pt x="4787" y="11187"/>
                </a:cubicBezTo>
                <a:cubicBezTo>
                  <a:pt x="4787" y="11277"/>
                  <a:pt x="4780" y="11303"/>
                  <a:pt x="4837" y="11336"/>
                </a:cubicBezTo>
                <a:cubicBezTo>
                  <a:pt x="4964" y="11272"/>
                  <a:pt x="4970" y="11229"/>
                  <a:pt x="5035" y="11112"/>
                </a:cubicBezTo>
                <a:cubicBezTo>
                  <a:pt x="5035" y="11226"/>
                  <a:pt x="5065" y="11351"/>
                  <a:pt x="5060" y="11460"/>
                </a:cubicBezTo>
                <a:cubicBezTo>
                  <a:pt x="5055" y="11576"/>
                  <a:pt x="5011" y="11639"/>
                  <a:pt x="5110" y="11485"/>
                </a:cubicBezTo>
              </a:path>
              <a:path w="2977" h="770">
                <a:moveTo>
                  <a:pt x="5283" y="11038"/>
                </a:moveTo>
                <a:cubicBezTo>
                  <a:pt x="5231" y="11185"/>
                  <a:pt x="5152" y="11375"/>
                  <a:pt x="5184" y="11534"/>
                </a:cubicBezTo>
                <a:cubicBezTo>
                  <a:pt x="5201" y="11559"/>
                  <a:pt x="5217" y="11584"/>
                  <a:pt x="5234" y="11609"/>
                </a:cubicBezTo>
                <a:cubicBezTo>
                  <a:pt x="5396" y="11571"/>
                  <a:pt x="5596" y="11459"/>
                  <a:pt x="5531" y="11237"/>
                </a:cubicBezTo>
                <a:cubicBezTo>
                  <a:pt x="5497" y="11119"/>
                  <a:pt x="5344" y="11075"/>
                  <a:pt x="5259" y="11013"/>
                </a:cubicBezTo>
              </a:path>
              <a:path w="2977" h="770">
                <a:moveTo>
                  <a:pt x="5581" y="10840"/>
                </a:moveTo>
                <a:cubicBezTo>
                  <a:pt x="5562" y="10913"/>
                  <a:pt x="5551" y="10957"/>
                  <a:pt x="5631" y="10964"/>
                </a:cubicBezTo>
                <a:cubicBezTo>
                  <a:pt x="5684" y="10969"/>
                  <a:pt x="5603" y="10913"/>
                  <a:pt x="5556" y="1088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11120" y="4419720"/>
            <a:ext cx="419040" cy="188640"/>
          </a:xfrm>
          <a:custGeom>
            <a:avLst/>
            <a:gdLst/>
            <a:ahLst/>
            <a:rect l="l" t="t" r="r" b="b"/>
            <a:pathLst>
              <a:path w="1167" h="522">
                <a:moveTo>
                  <a:pt x="1141" y="12427"/>
                </a:moveTo>
                <a:cubicBezTo>
                  <a:pt x="1181" y="12528"/>
                  <a:pt x="1191" y="12601"/>
                  <a:pt x="1191" y="12725"/>
                </a:cubicBezTo>
                <a:cubicBezTo>
                  <a:pt x="1191" y="12783"/>
                  <a:pt x="1191" y="12824"/>
                  <a:pt x="1191" y="12774"/>
                </a:cubicBezTo>
                <a:cubicBezTo>
                  <a:pt x="1191" y="12632"/>
                  <a:pt x="1208" y="12599"/>
                  <a:pt x="1265" y="12502"/>
                </a:cubicBezTo>
                <a:cubicBezTo>
                  <a:pt x="1298" y="12446"/>
                  <a:pt x="1393" y="12577"/>
                  <a:pt x="1414" y="12626"/>
                </a:cubicBezTo>
                <a:cubicBezTo>
                  <a:pt x="1422" y="12659"/>
                  <a:pt x="1431" y="12692"/>
                  <a:pt x="1439" y="12725"/>
                </a:cubicBezTo>
                <a:cubicBezTo>
                  <a:pt x="1439" y="12741"/>
                  <a:pt x="1439" y="12758"/>
                  <a:pt x="1439" y="12774"/>
                </a:cubicBezTo>
                <a:cubicBezTo>
                  <a:pt x="1415" y="12681"/>
                  <a:pt x="1403" y="12663"/>
                  <a:pt x="1414" y="12551"/>
                </a:cubicBezTo>
                <a:cubicBezTo>
                  <a:pt x="1414" y="12543"/>
                  <a:pt x="1414" y="12534"/>
                  <a:pt x="1414" y="12526"/>
                </a:cubicBezTo>
                <a:cubicBezTo>
                  <a:pt x="1556" y="12503"/>
                  <a:pt x="1604" y="12534"/>
                  <a:pt x="1662" y="12675"/>
                </a:cubicBezTo>
                <a:cubicBezTo>
                  <a:pt x="1685" y="12732"/>
                  <a:pt x="1687" y="12748"/>
                  <a:pt x="1687" y="12799"/>
                </a:cubicBezTo>
              </a:path>
              <a:path w="1167" h="522">
                <a:moveTo>
                  <a:pt x="2059" y="12278"/>
                </a:moveTo>
                <a:cubicBezTo>
                  <a:pt x="2059" y="12409"/>
                  <a:pt x="2065" y="12503"/>
                  <a:pt x="2009" y="12626"/>
                </a:cubicBezTo>
                <a:cubicBezTo>
                  <a:pt x="1993" y="12651"/>
                  <a:pt x="1976" y="12675"/>
                  <a:pt x="1960" y="12700"/>
                </a:cubicBezTo>
                <a:cubicBezTo>
                  <a:pt x="2076" y="12700"/>
                  <a:pt x="2191" y="12700"/>
                  <a:pt x="2307" y="1270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000080" y="4438800"/>
            <a:ext cx="527040" cy="169560"/>
          </a:xfrm>
          <a:custGeom>
            <a:avLst/>
            <a:gdLst/>
            <a:ahLst/>
            <a:rect l="l" t="t" r="r" b="b"/>
            <a:pathLst>
              <a:path w="1465" h="472">
                <a:moveTo>
                  <a:pt x="2778" y="12353"/>
                </a:moveTo>
                <a:cubicBezTo>
                  <a:pt x="2827" y="12369"/>
                  <a:pt x="2803" y="12469"/>
                  <a:pt x="2803" y="12526"/>
                </a:cubicBezTo>
                <a:cubicBezTo>
                  <a:pt x="2803" y="12594"/>
                  <a:pt x="2778" y="12743"/>
                  <a:pt x="2778" y="12675"/>
                </a:cubicBezTo>
                <a:cubicBezTo>
                  <a:pt x="2826" y="12567"/>
                  <a:pt x="2865" y="12476"/>
                  <a:pt x="2927" y="12378"/>
                </a:cubicBezTo>
                <a:cubicBezTo>
                  <a:pt x="2935" y="12361"/>
                  <a:pt x="2944" y="12345"/>
                  <a:pt x="2952" y="12328"/>
                </a:cubicBezTo>
                <a:cubicBezTo>
                  <a:pt x="3062" y="12388"/>
                  <a:pt x="3129" y="12483"/>
                  <a:pt x="3125" y="12626"/>
                </a:cubicBezTo>
                <a:cubicBezTo>
                  <a:pt x="3124" y="12683"/>
                  <a:pt x="3105" y="12755"/>
                  <a:pt x="3076" y="12774"/>
                </a:cubicBezTo>
              </a:path>
              <a:path w="1465" h="472">
                <a:moveTo>
                  <a:pt x="2877" y="12576"/>
                </a:moveTo>
                <a:cubicBezTo>
                  <a:pt x="3005" y="12576"/>
                  <a:pt x="3126" y="12585"/>
                  <a:pt x="3249" y="12551"/>
                </a:cubicBezTo>
              </a:path>
              <a:path w="1465" h="472">
                <a:moveTo>
                  <a:pt x="3373" y="12402"/>
                </a:moveTo>
                <a:cubicBezTo>
                  <a:pt x="3373" y="12477"/>
                  <a:pt x="3410" y="12517"/>
                  <a:pt x="3398" y="12601"/>
                </a:cubicBezTo>
                <a:cubicBezTo>
                  <a:pt x="3390" y="12659"/>
                  <a:pt x="3358" y="12716"/>
                  <a:pt x="3349" y="12774"/>
                </a:cubicBezTo>
                <a:cubicBezTo>
                  <a:pt x="3463" y="12793"/>
                  <a:pt x="3529" y="12796"/>
                  <a:pt x="3646" y="12774"/>
                </a:cubicBezTo>
              </a:path>
              <a:path w="1465" h="472">
                <a:moveTo>
                  <a:pt x="3299" y="12601"/>
                </a:moveTo>
                <a:cubicBezTo>
                  <a:pt x="3391" y="12578"/>
                  <a:pt x="3482" y="12570"/>
                  <a:pt x="3572" y="12551"/>
                </a:cubicBezTo>
                <a:cubicBezTo>
                  <a:pt x="3597" y="12551"/>
                  <a:pt x="3605" y="12551"/>
                  <a:pt x="3621" y="12551"/>
                </a:cubicBezTo>
              </a:path>
              <a:path w="1465" h="472">
                <a:moveTo>
                  <a:pt x="3423" y="12402"/>
                </a:moveTo>
                <a:cubicBezTo>
                  <a:pt x="3489" y="12402"/>
                  <a:pt x="3558" y="12394"/>
                  <a:pt x="3621" y="12378"/>
                </a:cubicBezTo>
                <a:cubicBezTo>
                  <a:pt x="3696" y="12353"/>
                  <a:pt x="3720" y="12345"/>
                  <a:pt x="3770" y="12378"/>
                </a:cubicBezTo>
              </a:path>
              <a:path w="1465" h="472">
                <a:moveTo>
                  <a:pt x="4093" y="12328"/>
                </a:moveTo>
                <a:cubicBezTo>
                  <a:pt x="4100" y="12362"/>
                  <a:pt x="4111" y="12393"/>
                  <a:pt x="4118" y="12427"/>
                </a:cubicBezTo>
                <a:cubicBezTo>
                  <a:pt x="4110" y="12388"/>
                  <a:pt x="4086" y="12292"/>
                  <a:pt x="4018" y="12328"/>
                </a:cubicBezTo>
                <a:cubicBezTo>
                  <a:pt x="3913" y="12384"/>
                  <a:pt x="3854" y="12537"/>
                  <a:pt x="3870" y="12650"/>
                </a:cubicBezTo>
                <a:cubicBezTo>
                  <a:pt x="3892" y="12811"/>
                  <a:pt x="4062" y="12737"/>
                  <a:pt x="4167" y="12725"/>
                </a:cubicBezTo>
                <a:cubicBezTo>
                  <a:pt x="4212" y="12725"/>
                  <a:pt x="4225" y="12728"/>
                  <a:pt x="4242" y="1270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714680" y="4483080"/>
            <a:ext cx="107640" cy="71280"/>
          </a:xfrm>
          <a:custGeom>
            <a:avLst/>
            <a:gdLst/>
            <a:ahLst/>
            <a:rect l="l" t="t" r="r" b="b"/>
            <a:pathLst>
              <a:path w="299" h="199">
                <a:moveTo>
                  <a:pt x="4762" y="12452"/>
                </a:moveTo>
                <a:cubicBezTo>
                  <a:pt x="4867" y="12452"/>
                  <a:pt x="4963" y="12444"/>
                  <a:pt x="5060" y="12477"/>
                </a:cubicBezTo>
              </a:path>
              <a:path w="299" h="199">
                <a:moveTo>
                  <a:pt x="4812" y="12626"/>
                </a:moveTo>
                <a:cubicBezTo>
                  <a:pt x="4900" y="12647"/>
                  <a:pt x="4993" y="12628"/>
                  <a:pt x="5060" y="1265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071800" y="4411800"/>
            <a:ext cx="446040" cy="249120"/>
          </a:xfrm>
          <a:custGeom>
            <a:avLst/>
            <a:gdLst/>
            <a:ahLst/>
            <a:rect l="l" t="t" r="r" b="b"/>
            <a:pathLst>
              <a:path w="1241" h="695">
                <a:moveTo>
                  <a:pt x="5854" y="12378"/>
                </a:moveTo>
                <a:cubicBezTo>
                  <a:pt x="5854" y="12345"/>
                  <a:pt x="5854" y="12328"/>
                  <a:pt x="5854" y="12303"/>
                </a:cubicBezTo>
                <a:cubicBezTo>
                  <a:pt x="5854" y="12219"/>
                  <a:pt x="5841" y="12419"/>
                  <a:pt x="5829" y="12502"/>
                </a:cubicBezTo>
                <a:cubicBezTo>
                  <a:pt x="5827" y="12512"/>
                  <a:pt x="5757" y="12948"/>
                  <a:pt x="5755" y="12948"/>
                </a:cubicBezTo>
                <a:cubicBezTo>
                  <a:pt x="5755" y="12931"/>
                  <a:pt x="5755" y="12915"/>
                  <a:pt x="5755" y="12898"/>
                </a:cubicBezTo>
              </a:path>
              <a:path w="1241" h="695">
                <a:moveTo>
                  <a:pt x="6102" y="12402"/>
                </a:moveTo>
                <a:cubicBezTo>
                  <a:pt x="6123" y="12506"/>
                  <a:pt x="6164" y="12585"/>
                  <a:pt x="6152" y="12700"/>
                </a:cubicBezTo>
                <a:cubicBezTo>
                  <a:pt x="6141" y="12804"/>
                  <a:pt x="6122" y="12847"/>
                  <a:pt x="6152" y="12948"/>
                </a:cubicBezTo>
                <a:cubicBezTo>
                  <a:pt x="6275" y="12948"/>
                  <a:pt x="6392" y="12950"/>
                  <a:pt x="6499" y="12874"/>
                </a:cubicBezTo>
                <a:cubicBezTo>
                  <a:pt x="6566" y="12806"/>
                  <a:pt x="6590" y="12792"/>
                  <a:pt x="6573" y="12725"/>
                </a:cubicBezTo>
                <a:cubicBezTo>
                  <a:pt x="6439" y="12714"/>
                  <a:pt x="6392" y="12755"/>
                  <a:pt x="6350" y="12898"/>
                </a:cubicBezTo>
                <a:cubicBezTo>
                  <a:pt x="6350" y="12923"/>
                  <a:pt x="6350" y="12931"/>
                  <a:pt x="6375" y="12923"/>
                </a:cubicBezTo>
              </a:path>
              <a:path w="1241" h="695">
                <a:moveTo>
                  <a:pt x="6722" y="12526"/>
                </a:moveTo>
                <a:cubicBezTo>
                  <a:pt x="6627" y="12613"/>
                  <a:pt x="6523" y="12749"/>
                  <a:pt x="6573" y="12898"/>
                </a:cubicBezTo>
                <a:cubicBezTo>
                  <a:pt x="6590" y="12915"/>
                  <a:pt x="6606" y="12931"/>
                  <a:pt x="6623" y="12948"/>
                </a:cubicBezTo>
                <a:cubicBezTo>
                  <a:pt x="6730" y="12931"/>
                  <a:pt x="6958" y="12864"/>
                  <a:pt x="6921" y="12700"/>
                </a:cubicBezTo>
                <a:cubicBezTo>
                  <a:pt x="6889" y="12560"/>
                  <a:pt x="6706" y="12520"/>
                  <a:pt x="6598" y="12477"/>
                </a:cubicBezTo>
              </a:path>
              <a:path w="1241" h="695">
                <a:moveTo>
                  <a:pt x="6970" y="12254"/>
                </a:moveTo>
                <a:cubicBezTo>
                  <a:pt x="6954" y="12315"/>
                  <a:pt x="6937" y="12338"/>
                  <a:pt x="6970" y="12402"/>
                </a:cubicBezTo>
                <a:cubicBezTo>
                  <a:pt x="7051" y="12349"/>
                  <a:pt x="6950" y="12334"/>
                  <a:pt x="6896" y="1232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87200" y="2714760"/>
            <a:ext cx="250920" cy="206280"/>
          </a:xfrm>
          <a:custGeom>
            <a:avLst/>
            <a:gdLst/>
            <a:ahLst/>
            <a:rect l="l" t="t" r="r" b="b"/>
            <a:pathLst>
              <a:path w="695" h="571">
                <a:moveTo>
                  <a:pt x="571" y="7689"/>
                </a:moveTo>
                <a:cubicBezTo>
                  <a:pt x="571" y="7618"/>
                  <a:pt x="618" y="7906"/>
                  <a:pt x="620" y="7913"/>
                </a:cubicBezTo>
                <a:cubicBezTo>
                  <a:pt x="639" y="7987"/>
                  <a:pt x="647" y="7994"/>
                  <a:pt x="645" y="8037"/>
                </a:cubicBezTo>
                <a:cubicBezTo>
                  <a:pt x="624" y="7872"/>
                  <a:pt x="627" y="7732"/>
                  <a:pt x="769" y="7615"/>
                </a:cubicBezTo>
                <a:cubicBezTo>
                  <a:pt x="916" y="7494"/>
                  <a:pt x="1090" y="7517"/>
                  <a:pt x="1166" y="7689"/>
                </a:cubicBezTo>
                <a:cubicBezTo>
                  <a:pt x="1218" y="7806"/>
                  <a:pt x="1215" y="7960"/>
                  <a:pt x="1215" y="8086"/>
                </a:cubicBezTo>
                <a:cubicBezTo>
                  <a:pt x="1215" y="8094"/>
                  <a:pt x="1215" y="8103"/>
                  <a:pt x="1215" y="8111"/>
                </a:cubicBezTo>
              </a:path>
              <a:path w="695" h="571">
                <a:moveTo>
                  <a:pt x="868" y="7739"/>
                </a:moveTo>
                <a:cubicBezTo>
                  <a:pt x="926" y="7652"/>
                  <a:pt x="754" y="7832"/>
                  <a:pt x="744" y="7838"/>
                </a:cubicBezTo>
                <a:cubicBezTo>
                  <a:pt x="737" y="7842"/>
                  <a:pt x="474" y="7974"/>
                  <a:pt x="521" y="7913"/>
                </a:cubicBezTo>
                <a:cubicBezTo>
                  <a:pt x="590" y="7823"/>
                  <a:pt x="719" y="7772"/>
                  <a:pt x="819" y="7739"/>
                </a:cubicBezTo>
                <a:cubicBezTo>
                  <a:pt x="730" y="7810"/>
                  <a:pt x="634" y="7862"/>
                  <a:pt x="546" y="7938"/>
                </a:cubicBezTo>
                <a:cubicBezTo>
                  <a:pt x="730" y="7909"/>
                  <a:pt x="922" y="7837"/>
                  <a:pt x="1091" y="7764"/>
                </a:cubicBezTo>
                <a:cubicBezTo>
                  <a:pt x="1099" y="7756"/>
                  <a:pt x="1108" y="7747"/>
                  <a:pt x="1116" y="7739"/>
                </a:cubicBezTo>
                <a:cubicBezTo>
                  <a:pt x="1060" y="7787"/>
                  <a:pt x="853" y="7937"/>
                  <a:pt x="868" y="7938"/>
                </a:cubicBezTo>
                <a:cubicBezTo>
                  <a:pt x="994" y="7938"/>
                  <a:pt x="1054" y="7930"/>
                  <a:pt x="1141" y="788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howcard Gothic"/>
              </a:rPr>
              <a:t>Practice:  Find the Missing Angles.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4038480" y="2666880"/>
            <a:ext cx="4114800" cy="2197080"/>
            <a:chOff x="4038480" y="2666880"/>
            <a:chExt cx="4114800" cy="2197080"/>
          </a:xfrm>
        </p:grpSpPr>
        <p:sp>
          <p:nvSpPr>
            <p:cNvPr id="325" name=""/>
            <p:cNvSpPr/>
            <p:nvPr/>
          </p:nvSpPr>
          <p:spPr>
            <a:xfrm>
              <a:off x="4038480" y="4419360"/>
              <a:ext cx="4114800" cy="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5867280" y="2666880"/>
              <a:ext cx="0" cy="17524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867280" y="4190760"/>
              <a:ext cx="228600" cy="22860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5867280" y="3124080"/>
              <a:ext cx="2133360" cy="12952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419360" y="41148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486040" y="32004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933960" y="327636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314840" y="396216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638680" y="449568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943240" y="3657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4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35" name=""/>
          <p:cNvGraphicFramePr/>
          <p:nvPr/>
        </p:nvGraphicFramePr>
        <p:xfrm>
          <a:off x="380880" y="1981080"/>
          <a:ext cx="3048120" cy="381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3048120" cy="38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"/>
          <p:cNvSpPr/>
          <p:nvPr/>
        </p:nvSpPr>
        <p:spPr>
          <a:xfrm>
            <a:off x="312840" y="3062160"/>
            <a:ext cx="1440" cy="9720"/>
          </a:xfrm>
          <a:custGeom>
            <a:avLst/>
            <a:gdLst/>
            <a:ahLst/>
            <a:rect l="l" t="t" r="r" b="b"/>
            <a:pathLst>
              <a:path w="1" h="26">
                <a:moveTo>
                  <a:pt x="868" y="8533"/>
                </a:moveTo>
                <a:cubicBezTo>
                  <a:pt x="868" y="8525"/>
                  <a:pt x="868" y="8516"/>
                  <a:pt x="868" y="850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52320" y="306216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811" y="8508"/>
                </a:moveTo>
                <a:lnTo>
                  <a:pt x="1811" y="8508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126040" y="3875040"/>
            <a:ext cx="401760" cy="366840"/>
          </a:xfrm>
          <a:custGeom>
            <a:avLst/>
            <a:gdLst/>
            <a:ahLst/>
            <a:rect l="l" t="t" r="r" b="b"/>
            <a:pathLst>
              <a:path w="1117" h="1018">
                <a:moveTo>
                  <a:pt x="14560" y="11286"/>
                </a:moveTo>
                <a:cubicBezTo>
                  <a:pt x="14621" y="11226"/>
                  <a:pt x="14652" y="11259"/>
                  <a:pt x="14585" y="11187"/>
                </a:cubicBezTo>
                <a:cubicBezTo>
                  <a:pt x="14478" y="11071"/>
                  <a:pt x="14391" y="11111"/>
                  <a:pt x="14312" y="11237"/>
                </a:cubicBezTo>
                <a:cubicBezTo>
                  <a:pt x="14247" y="11366"/>
                  <a:pt x="14218" y="11396"/>
                  <a:pt x="14263" y="11485"/>
                </a:cubicBezTo>
                <a:cubicBezTo>
                  <a:pt x="14445" y="11457"/>
                  <a:pt x="14482" y="11381"/>
                  <a:pt x="14585" y="11237"/>
                </a:cubicBezTo>
                <a:cubicBezTo>
                  <a:pt x="14593" y="11229"/>
                  <a:pt x="14602" y="11220"/>
                  <a:pt x="14610" y="11212"/>
                </a:cubicBezTo>
                <a:cubicBezTo>
                  <a:pt x="14629" y="11363"/>
                  <a:pt x="14635" y="11504"/>
                  <a:pt x="14635" y="11658"/>
                </a:cubicBezTo>
                <a:cubicBezTo>
                  <a:pt x="14635" y="11745"/>
                  <a:pt x="14609" y="11816"/>
                  <a:pt x="14660" y="11733"/>
                </a:cubicBezTo>
              </a:path>
              <a:path w="1117" h="1018">
                <a:moveTo>
                  <a:pt x="14932" y="11212"/>
                </a:moveTo>
                <a:cubicBezTo>
                  <a:pt x="14886" y="11365"/>
                  <a:pt x="14865" y="11432"/>
                  <a:pt x="14883" y="11584"/>
                </a:cubicBezTo>
                <a:cubicBezTo>
                  <a:pt x="15054" y="11632"/>
                  <a:pt x="15214" y="11557"/>
                  <a:pt x="15230" y="11336"/>
                </a:cubicBezTo>
                <a:cubicBezTo>
                  <a:pt x="15243" y="11158"/>
                  <a:pt x="15062" y="11119"/>
                  <a:pt x="14932" y="11112"/>
                </a:cubicBezTo>
                <a:cubicBezTo>
                  <a:pt x="14924" y="11112"/>
                  <a:pt x="14916" y="11112"/>
                  <a:pt x="14908" y="11112"/>
                </a:cubicBezTo>
              </a:path>
              <a:path w="1117" h="1018">
                <a:moveTo>
                  <a:pt x="15230" y="10765"/>
                </a:moveTo>
                <a:cubicBezTo>
                  <a:pt x="15202" y="10820"/>
                  <a:pt x="15194" y="10843"/>
                  <a:pt x="15205" y="10889"/>
                </a:cubicBezTo>
                <a:cubicBezTo>
                  <a:pt x="15238" y="10886"/>
                  <a:pt x="15456" y="10861"/>
                  <a:pt x="15329" y="10790"/>
                </a:cubicBezTo>
                <a:cubicBezTo>
                  <a:pt x="15247" y="10762"/>
                  <a:pt x="15215" y="10756"/>
                  <a:pt x="15156" y="1079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320920" y="2035080"/>
            <a:ext cx="331920" cy="366840"/>
          </a:xfrm>
          <a:custGeom>
            <a:avLst/>
            <a:gdLst/>
            <a:ahLst/>
            <a:rect l="l" t="t" r="r" b="b"/>
            <a:pathLst>
              <a:path w="919" h="1018">
                <a:moveTo>
                  <a:pt x="6772" y="6052"/>
                </a:moveTo>
                <a:cubicBezTo>
                  <a:pt x="6751" y="6005"/>
                  <a:pt x="6681" y="5858"/>
                  <a:pt x="6598" y="5879"/>
                </a:cubicBezTo>
                <a:cubicBezTo>
                  <a:pt x="6428" y="5923"/>
                  <a:pt x="6446" y="6151"/>
                  <a:pt x="6474" y="6276"/>
                </a:cubicBezTo>
                <a:cubicBezTo>
                  <a:pt x="6499" y="6325"/>
                  <a:pt x="6507" y="6341"/>
                  <a:pt x="6548" y="6350"/>
                </a:cubicBezTo>
                <a:cubicBezTo>
                  <a:pt x="6656" y="6235"/>
                  <a:pt x="6714" y="6146"/>
                  <a:pt x="6772" y="6003"/>
                </a:cubicBezTo>
                <a:cubicBezTo>
                  <a:pt x="6772" y="6128"/>
                  <a:pt x="6794" y="6248"/>
                  <a:pt x="6796" y="6375"/>
                </a:cubicBezTo>
                <a:cubicBezTo>
                  <a:pt x="6797" y="6474"/>
                  <a:pt x="6796" y="6573"/>
                  <a:pt x="6796" y="6672"/>
                </a:cubicBezTo>
              </a:path>
              <a:path w="919" h="1018">
                <a:moveTo>
                  <a:pt x="6995" y="6102"/>
                </a:moveTo>
                <a:cubicBezTo>
                  <a:pt x="6995" y="6273"/>
                  <a:pt x="6961" y="6457"/>
                  <a:pt x="7119" y="6573"/>
                </a:cubicBezTo>
                <a:cubicBezTo>
                  <a:pt x="7144" y="6581"/>
                  <a:pt x="7168" y="6590"/>
                  <a:pt x="7193" y="6598"/>
                </a:cubicBezTo>
                <a:cubicBezTo>
                  <a:pt x="7288" y="6479"/>
                  <a:pt x="7406" y="6302"/>
                  <a:pt x="7268" y="6152"/>
                </a:cubicBezTo>
                <a:cubicBezTo>
                  <a:pt x="7189" y="6067"/>
                  <a:pt x="7064" y="6096"/>
                  <a:pt x="6995" y="6028"/>
                </a:cubicBezTo>
              </a:path>
              <a:path w="919" h="1018">
                <a:moveTo>
                  <a:pt x="7293" y="5680"/>
                </a:moveTo>
                <a:cubicBezTo>
                  <a:pt x="7300" y="5710"/>
                  <a:pt x="7310" y="5725"/>
                  <a:pt x="7317" y="5755"/>
                </a:cubicBezTo>
                <a:cubicBezTo>
                  <a:pt x="7362" y="5710"/>
                  <a:pt x="7381" y="5707"/>
                  <a:pt x="7342" y="565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320920" y="2687760"/>
            <a:ext cx="536760" cy="349200"/>
          </a:xfrm>
          <a:custGeom>
            <a:avLst/>
            <a:gdLst/>
            <a:ahLst/>
            <a:rect l="l" t="t" r="r" b="b"/>
            <a:pathLst>
              <a:path w="1490" h="969">
                <a:moveTo>
                  <a:pt x="6896" y="7615"/>
                </a:moveTo>
                <a:cubicBezTo>
                  <a:pt x="6754" y="7640"/>
                  <a:pt x="6616" y="7660"/>
                  <a:pt x="6474" y="7689"/>
                </a:cubicBezTo>
                <a:cubicBezTo>
                  <a:pt x="6433" y="7697"/>
                  <a:pt x="6467" y="7872"/>
                  <a:pt x="6474" y="7913"/>
                </a:cubicBezTo>
                <a:cubicBezTo>
                  <a:pt x="6485" y="7973"/>
                  <a:pt x="6499" y="8002"/>
                  <a:pt x="6499" y="8062"/>
                </a:cubicBezTo>
                <a:cubicBezTo>
                  <a:pt x="6631" y="8005"/>
                  <a:pt x="6731" y="7912"/>
                  <a:pt x="6896" y="7987"/>
                </a:cubicBezTo>
                <a:cubicBezTo>
                  <a:pt x="7101" y="8080"/>
                  <a:pt x="6951" y="8315"/>
                  <a:pt x="6821" y="8384"/>
                </a:cubicBezTo>
                <a:cubicBezTo>
                  <a:pt x="6674" y="8462"/>
                  <a:pt x="6575" y="8449"/>
                  <a:pt x="6449" y="8359"/>
                </a:cubicBezTo>
              </a:path>
              <a:path w="1490" h="969">
                <a:moveTo>
                  <a:pt x="7169" y="7665"/>
                </a:moveTo>
                <a:cubicBezTo>
                  <a:pt x="7180" y="7766"/>
                  <a:pt x="7175" y="7836"/>
                  <a:pt x="7169" y="7938"/>
                </a:cubicBezTo>
                <a:cubicBezTo>
                  <a:pt x="7163" y="8042"/>
                  <a:pt x="7373" y="7952"/>
                  <a:pt x="7417" y="7938"/>
                </a:cubicBezTo>
                <a:cubicBezTo>
                  <a:pt x="7484" y="7915"/>
                  <a:pt x="7505" y="7914"/>
                  <a:pt x="7516" y="7863"/>
                </a:cubicBezTo>
              </a:path>
              <a:path w="1490" h="969">
                <a:moveTo>
                  <a:pt x="7417" y="7516"/>
                </a:moveTo>
                <a:cubicBezTo>
                  <a:pt x="7425" y="7774"/>
                  <a:pt x="7406" y="8056"/>
                  <a:pt x="7441" y="8310"/>
                </a:cubicBezTo>
                <a:cubicBezTo>
                  <a:pt x="7461" y="8350"/>
                  <a:pt x="7470" y="8376"/>
                  <a:pt x="7466" y="8334"/>
                </a:cubicBezTo>
              </a:path>
              <a:path w="1490" h="969">
                <a:moveTo>
                  <a:pt x="7739" y="7491"/>
                </a:moveTo>
                <a:cubicBezTo>
                  <a:pt x="7739" y="7586"/>
                  <a:pt x="7741" y="7649"/>
                  <a:pt x="7764" y="7739"/>
                </a:cubicBezTo>
                <a:cubicBezTo>
                  <a:pt x="7892" y="7696"/>
                  <a:pt x="7900" y="7612"/>
                  <a:pt x="7938" y="7491"/>
                </a:cubicBezTo>
                <a:cubicBezTo>
                  <a:pt x="7841" y="7449"/>
                  <a:pt x="7780" y="7475"/>
                  <a:pt x="7665" y="749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295360" y="3348000"/>
            <a:ext cx="455760" cy="339840"/>
          </a:xfrm>
          <a:custGeom>
            <a:avLst/>
            <a:gdLst/>
            <a:ahLst/>
            <a:rect l="l" t="t" r="r" b="b"/>
            <a:pathLst>
              <a:path w="1266" h="943">
                <a:moveTo>
                  <a:pt x="6871" y="9649"/>
                </a:moveTo>
                <a:cubicBezTo>
                  <a:pt x="6850" y="9564"/>
                  <a:pt x="6793" y="9506"/>
                  <a:pt x="6722" y="9451"/>
                </a:cubicBezTo>
                <a:cubicBezTo>
                  <a:pt x="6584" y="9344"/>
                  <a:pt x="6457" y="9417"/>
                  <a:pt x="6400" y="9575"/>
                </a:cubicBezTo>
                <a:cubicBezTo>
                  <a:pt x="6344" y="9730"/>
                  <a:pt x="6362" y="9775"/>
                  <a:pt x="6449" y="9872"/>
                </a:cubicBezTo>
                <a:cubicBezTo>
                  <a:pt x="6606" y="9800"/>
                  <a:pt x="6680" y="9714"/>
                  <a:pt x="6747" y="9550"/>
                </a:cubicBezTo>
                <a:cubicBezTo>
                  <a:pt x="6747" y="9525"/>
                  <a:pt x="6747" y="9517"/>
                  <a:pt x="6747" y="9500"/>
                </a:cubicBezTo>
                <a:cubicBezTo>
                  <a:pt x="6806" y="9638"/>
                  <a:pt x="6772" y="9824"/>
                  <a:pt x="6772" y="9971"/>
                </a:cubicBezTo>
                <a:cubicBezTo>
                  <a:pt x="6772" y="10062"/>
                  <a:pt x="6772" y="10153"/>
                  <a:pt x="6772" y="10244"/>
                </a:cubicBezTo>
              </a:path>
              <a:path w="1266" h="943">
                <a:moveTo>
                  <a:pt x="7144" y="9624"/>
                </a:moveTo>
                <a:cubicBezTo>
                  <a:pt x="7084" y="9763"/>
                  <a:pt x="6941" y="9987"/>
                  <a:pt x="6970" y="10145"/>
                </a:cubicBezTo>
                <a:cubicBezTo>
                  <a:pt x="6987" y="10170"/>
                  <a:pt x="7003" y="10195"/>
                  <a:pt x="7020" y="10220"/>
                </a:cubicBezTo>
                <a:cubicBezTo>
                  <a:pt x="7187" y="10210"/>
                  <a:pt x="7358" y="10196"/>
                  <a:pt x="7441" y="10021"/>
                </a:cubicBezTo>
                <a:cubicBezTo>
                  <a:pt x="7513" y="9868"/>
                  <a:pt x="7423" y="9666"/>
                  <a:pt x="7293" y="9575"/>
                </a:cubicBezTo>
                <a:cubicBezTo>
                  <a:pt x="7218" y="9522"/>
                  <a:pt x="7145" y="9535"/>
                  <a:pt x="7069" y="9550"/>
                </a:cubicBezTo>
              </a:path>
              <a:path w="1266" h="943">
                <a:moveTo>
                  <a:pt x="7590" y="9302"/>
                </a:moveTo>
                <a:cubicBezTo>
                  <a:pt x="7583" y="9336"/>
                  <a:pt x="7572" y="9367"/>
                  <a:pt x="7565" y="9401"/>
                </a:cubicBezTo>
                <a:cubicBezTo>
                  <a:pt x="7573" y="9400"/>
                  <a:pt x="7699" y="9335"/>
                  <a:pt x="7640" y="9302"/>
                </a:cubicBezTo>
                <a:cubicBezTo>
                  <a:pt x="7588" y="9302"/>
                  <a:pt x="7570" y="9303"/>
                  <a:pt x="7541" y="932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187720" y="3963960"/>
            <a:ext cx="669960" cy="314280"/>
          </a:xfrm>
          <a:custGeom>
            <a:avLst/>
            <a:gdLst/>
            <a:ahLst/>
            <a:rect l="l" t="t" r="r" b="b"/>
            <a:pathLst>
              <a:path w="1862" h="869">
                <a:moveTo>
                  <a:pt x="6424" y="11212"/>
                </a:moveTo>
                <a:cubicBezTo>
                  <a:pt x="6507" y="11212"/>
                  <a:pt x="6589" y="11212"/>
                  <a:pt x="6672" y="11212"/>
                </a:cubicBezTo>
                <a:cubicBezTo>
                  <a:pt x="6672" y="11292"/>
                  <a:pt x="6697" y="11472"/>
                  <a:pt x="6648" y="11509"/>
                </a:cubicBezTo>
                <a:cubicBezTo>
                  <a:pt x="6613" y="11536"/>
                  <a:pt x="6595" y="11567"/>
                  <a:pt x="6573" y="11584"/>
                </a:cubicBezTo>
                <a:cubicBezTo>
                  <a:pt x="6540" y="11608"/>
                  <a:pt x="6487" y="11643"/>
                  <a:pt x="6449" y="11658"/>
                </a:cubicBezTo>
                <a:cubicBezTo>
                  <a:pt x="6425" y="11667"/>
                  <a:pt x="6376" y="11658"/>
                  <a:pt x="6350" y="11658"/>
                </a:cubicBezTo>
                <a:cubicBezTo>
                  <a:pt x="6411" y="11646"/>
                  <a:pt x="6441" y="11603"/>
                  <a:pt x="6499" y="11584"/>
                </a:cubicBezTo>
                <a:cubicBezTo>
                  <a:pt x="6565" y="11562"/>
                  <a:pt x="6677" y="11584"/>
                  <a:pt x="6747" y="11584"/>
                </a:cubicBezTo>
                <a:cubicBezTo>
                  <a:pt x="6747" y="11675"/>
                  <a:pt x="6747" y="11766"/>
                  <a:pt x="6747" y="11857"/>
                </a:cubicBezTo>
                <a:cubicBezTo>
                  <a:pt x="6692" y="11857"/>
                  <a:pt x="6712" y="11876"/>
                  <a:pt x="6672" y="11881"/>
                </a:cubicBezTo>
                <a:cubicBezTo>
                  <a:pt x="6480" y="11905"/>
                  <a:pt x="6271" y="11881"/>
                  <a:pt x="6077" y="11881"/>
                </a:cubicBezTo>
              </a:path>
              <a:path w="1862" h="869">
                <a:moveTo>
                  <a:pt x="7094" y="11237"/>
                </a:moveTo>
                <a:cubicBezTo>
                  <a:pt x="7094" y="11328"/>
                  <a:pt x="7095" y="11407"/>
                  <a:pt x="7069" y="11485"/>
                </a:cubicBezTo>
                <a:cubicBezTo>
                  <a:pt x="7051" y="11537"/>
                  <a:pt x="7060" y="11602"/>
                  <a:pt x="7045" y="11633"/>
                </a:cubicBezTo>
                <a:cubicBezTo>
                  <a:pt x="7016" y="11693"/>
                  <a:pt x="7056" y="11830"/>
                  <a:pt x="7069" y="11857"/>
                </a:cubicBezTo>
                <a:cubicBezTo>
                  <a:pt x="7086" y="11891"/>
                  <a:pt x="7097" y="11881"/>
                  <a:pt x="7144" y="11881"/>
                </a:cubicBezTo>
                <a:cubicBezTo>
                  <a:pt x="7260" y="11881"/>
                  <a:pt x="7413" y="11889"/>
                  <a:pt x="7491" y="11857"/>
                </a:cubicBezTo>
                <a:cubicBezTo>
                  <a:pt x="7527" y="11842"/>
                  <a:pt x="7516" y="11829"/>
                  <a:pt x="7516" y="11782"/>
                </a:cubicBezTo>
                <a:cubicBezTo>
                  <a:pt x="7516" y="11757"/>
                  <a:pt x="7516" y="11733"/>
                  <a:pt x="7516" y="11708"/>
                </a:cubicBezTo>
                <a:cubicBezTo>
                  <a:pt x="7460" y="11708"/>
                  <a:pt x="7482" y="11688"/>
                  <a:pt x="7441" y="11683"/>
                </a:cubicBezTo>
                <a:cubicBezTo>
                  <a:pt x="7401" y="11678"/>
                  <a:pt x="7423" y="11658"/>
                  <a:pt x="7367" y="11658"/>
                </a:cubicBezTo>
                <a:cubicBezTo>
                  <a:pt x="7317" y="11658"/>
                  <a:pt x="7268" y="11658"/>
                  <a:pt x="7218" y="11658"/>
                </a:cubicBezTo>
                <a:cubicBezTo>
                  <a:pt x="7218" y="11699"/>
                  <a:pt x="7218" y="11741"/>
                  <a:pt x="7218" y="11782"/>
                </a:cubicBezTo>
              </a:path>
              <a:path w="1862" h="869">
                <a:moveTo>
                  <a:pt x="7913" y="11013"/>
                </a:moveTo>
                <a:cubicBezTo>
                  <a:pt x="7862" y="11013"/>
                  <a:pt x="7854" y="11024"/>
                  <a:pt x="7813" y="11038"/>
                </a:cubicBezTo>
                <a:cubicBezTo>
                  <a:pt x="7777" y="11050"/>
                  <a:pt x="7789" y="11068"/>
                  <a:pt x="7789" y="11112"/>
                </a:cubicBezTo>
                <a:cubicBezTo>
                  <a:pt x="7839" y="11112"/>
                  <a:pt x="7888" y="11112"/>
                  <a:pt x="7938" y="11112"/>
                </a:cubicBezTo>
                <a:cubicBezTo>
                  <a:pt x="7938" y="11079"/>
                  <a:pt x="7938" y="11046"/>
                  <a:pt x="7938" y="1101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4000" y="2187720"/>
            <a:ext cx="374760" cy="285480"/>
          </a:xfrm>
          <a:custGeom>
            <a:avLst/>
            <a:gdLst/>
            <a:ahLst/>
            <a:rect l="l" t="t" r="r" b="b"/>
            <a:pathLst>
              <a:path w="1043" h="795">
                <a:moveTo>
                  <a:pt x="149" y="6871"/>
                </a:moveTo>
                <a:cubicBezTo>
                  <a:pt x="149" y="6846"/>
                  <a:pt x="149" y="6838"/>
                  <a:pt x="174" y="6846"/>
                </a:cubicBezTo>
              </a:path>
              <a:path w="1043" h="795">
                <a:moveTo>
                  <a:pt x="248" y="6722"/>
                </a:moveTo>
                <a:cubicBezTo>
                  <a:pt x="277" y="6684"/>
                  <a:pt x="273" y="6671"/>
                  <a:pt x="273" y="6623"/>
                </a:cubicBezTo>
                <a:cubicBezTo>
                  <a:pt x="273" y="6584"/>
                  <a:pt x="298" y="6603"/>
                  <a:pt x="298" y="6548"/>
                </a:cubicBezTo>
              </a:path>
              <a:path w="1043" h="795">
                <a:moveTo>
                  <a:pt x="322" y="6400"/>
                </a:moveTo>
                <a:cubicBezTo>
                  <a:pt x="322" y="6323"/>
                  <a:pt x="346" y="6500"/>
                  <a:pt x="372" y="6573"/>
                </a:cubicBezTo>
                <a:cubicBezTo>
                  <a:pt x="419" y="6690"/>
                  <a:pt x="432" y="6724"/>
                  <a:pt x="471" y="6796"/>
                </a:cubicBezTo>
                <a:cubicBezTo>
                  <a:pt x="560" y="6855"/>
                  <a:pt x="386" y="6634"/>
                  <a:pt x="372" y="6598"/>
                </a:cubicBezTo>
                <a:cubicBezTo>
                  <a:pt x="328" y="6486"/>
                  <a:pt x="343" y="6357"/>
                  <a:pt x="397" y="6251"/>
                </a:cubicBezTo>
                <a:cubicBezTo>
                  <a:pt x="434" y="6177"/>
                  <a:pt x="528" y="6165"/>
                  <a:pt x="595" y="6201"/>
                </a:cubicBezTo>
                <a:cubicBezTo>
                  <a:pt x="720" y="6268"/>
                  <a:pt x="812" y="6422"/>
                  <a:pt x="868" y="6548"/>
                </a:cubicBezTo>
                <a:cubicBezTo>
                  <a:pt x="868" y="6556"/>
                  <a:pt x="868" y="6565"/>
                  <a:pt x="868" y="6573"/>
                </a:cubicBezTo>
                <a:cubicBezTo>
                  <a:pt x="801" y="6486"/>
                  <a:pt x="732" y="6393"/>
                  <a:pt x="744" y="6276"/>
                </a:cubicBezTo>
                <a:cubicBezTo>
                  <a:pt x="753" y="6182"/>
                  <a:pt x="819" y="6120"/>
                  <a:pt x="893" y="6077"/>
                </a:cubicBezTo>
                <a:cubicBezTo>
                  <a:pt x="1024" y="6164"/>
                  <a:pt x="1088" y="6274"/>
                  <a:pt x="1141" y="6424"/>
                </a:cubicBezTo>
                <a:cubicBezTo>
                  <a:pt x="1171" y="6510"/>
                  <a:pt x="1175" y="6526"/>
                  <a:pt x="1191" y="657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8320" y="2411280"/>
            <a:ext cx="9720" cy="44640"/>
          </a:xfrm>
          <a:custGeom>
            <a:avLst/>
            <a:gdLst/>
            <a:ahLst/>
            <a:rect l="l" t="t" r="r" b="b"/>
            <a:pathLst>
              <a:path w="26" h="125">
                <a:moveTo>
                  <a:pt x="1687" y="6722"/>
                </a:moveTo>
                <a:cubicBezTo>
                  <a:pt x="1622" y="6657"/>
                  <a:pt x="1682" y="6795"/>
                  <a:pt x="1687" y="682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15920" y="2857680"/>
            <a:ext cx="277920" cy="187200"/>
          </a:xfrm>
          <a:custGeom>
            <a:avLst/>
            <a:gdLst/>
            <a:ahLst/>
            <a:rect l="l" t="t" r="r" b="b"/>
            <a:pathLst>
              <a:path w="770" h="521">
                <a:moveTo>
                  <a:pt x="322" y="8161"/>
                </a:moveTo>
                <a:cubicBezTo>
                  <a:pt x="369" y="8145"/>
                  <a:pt x="355" y="8138"/>
                  <a:pt x="372" y="8210"/>
                </a:cubicBezTo>
                <a:cubicBezTo>
                  <a:pt x="390" y="8287"/>
                  <a:pt x="397" y="8333"/>
                  <a:pt x="397" y="8409"/>
                </a:cubicBezTo>
                <a:cubicBezTo>
                  <a:pt x="397" y="8277"/>
                  <a:pt x="390" y="8151"/>
                  <a:pt x="471" y="8037"/>
                </a:cubicBezTo>
                <a:cubicBezTo>
                  <a:pt x="534" y="7974"/>
                  <a:pt x="543" y="7957"/>
                  <a:pt x="595" y="7938"/>
                </a:cubicBezTo>
                <a:cubicBezTo>
                  <a:pt x="676" y="8008"/>
                  <a:pt x="764" y="8146"/>
                  <a:pt x="794" y="8260"/>
                </a:cubicBezTo>
                <a:cubicBezTo>
                  <a:pt x="794" y="8285"/>
                  <a:pt x="794" y="8309"/>
                  <a:pt x="794" y="8334"/>
                </a:cubicBezTo>
                <a:cubicBezTo>
                  <a:pt x="794" y="8479"/>
                  <a:pt x="741" y="8165"/>
                  <a:pt x="744" y="8136"/>
                </a:cubicBezTo>
                <a:cubicBezTo>
                  <a:pt x="751" y="8059"/>
                  <a:pt x="865" y="7983"/>
                  <a:pt x="943" y="7987"/>
                </a:cubicBezTo>
                <a:cubicBezTo>
                  <a:pt x="1070" y="7993"/>
                  <a:pt x="1087" y="8228"/>
                  <a:pt x="1091" y="8310"/>
                </a:cubicBezTo>
                <a:cubicBezTo>
                  <a:pt x="1091" y="8392"/>
                  <a:pt x="1091" y="8409"/>
                  <a:pt x="1091" y="845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25280" y="3527280"/>
            <a:ext cx="204840" cy="179640"/>
          </a:xfrm>
          <a:custGeom>
            <a:avLst/>
            <a:gdLst/>
            <a:ahLst/>
            <a:rect l="l" t="t" r="r" b="b"/>
            <a:pathLst>
              <a:path w="572" h="497">
                <a:moveTo>
                  <a:pt x="372" y="9847"/>
                </a:moveTo>
                <a:cubicBezTo>
                  <a:pt x="372" y="9959"/>
                  <a:pt x="387" y="10061"/>
                  <a:pt x="397" y="10170"/>
                </a:cubicBezTo>
                <a:cubicBezTo>
                  <a:pt x="397" y="10236"/>
                  <a:pt x="397" y="10253"/>
                  <a:pt x="397" y="10294"/>
                </a:cubicBezTo>
                <a:cubicBezTo>
                  <a:pt x="378" y="10181"/>
                  <a:pt x="323" y="10067"/>
                  <a:pt x="347" y="9947"/>
                </a:cubicBezTo>
                <a:cubicBezTo>
                  <a:pt x="376" y="9802"/>
                  <a:pt x="388" y="9809"/>
                  <a:pt x="496" y="9798"/>
                </a:cubicBezTo>
                <a:cubicBezTo>
                  <a:pt x="626" y="9916"/>
                  <a:pt x="684" y="10016"/>
                  <a:pt x="695" y="10195"/>
                </a:cubicBezTo>
                <a:cubicBezTo>
                  <a:pt x="695" y="10220"/>
                  <a:pt x="695" y="10244"/>
                  <a:pt x="695" y="10269"/>
                </a:cubicBezTo>
                <a:cubicBezTo>
                  <a:pt x="695" y="10152"/>
                  <a:pt x="654" y="10039"/>
                  <a:pt x="670" y="9922"/>
                </a:cubicBezTo>
                <a:cubicBezTo>
                  <a:pt x="678" y="9905"/>
                  <a:pt x="687" y="9889"/>
                  <a:pt x="695" y="9872"/>
                </a:cubicBezTo>
                <a:cubicBezTo>
                  <a:pt x="788" y="9888"/>
                  <a:pt x="853" y="9927"/>
                  <a:pt x="893" y="10021"/>
                </a:cubicBezTo>
                <a:cubicBezTo>
                  <a:pt x="935" y="10121"/>
                  <a:pt x="916" y="10196"/>
                  <a:pt x="893" y="1029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42920" y="4187880"/>
            <a:ext cx="241200" cy="179280"/>
          </a:xfrm>
          <a:custGeom>
            <a:avLst/>
            <a:gdLst/>
            <a:ahLst/>
            <a:rect l="l" t="t" r="r" b="b"/>
            <a:pathLst>
              <a:path w="671" h="497">
                <a:moveTo>
                  <a:pt x="422" y="11733"/>
                </a:moveTo>
                <a:cubicBezTo>
                  <a:pt x="406" y="11842"/>
                  <a:pt x="397" y="11943"/>
                  <a:pt x="397" y="12055"/>
                </a:cubicBezTo>
                <a:cubicBezTo>
                  <a:pt x="397" y="12072"/>
                  <a:pt x="397" y="12088"/>
                  <a:pt x="397" y="12105"/>
                </a:cubicBezTo>
                <a:cubicBezTo>
                  <a:pt x="397" y="11995"/>
                  <a:pt x="385" y="11888"/>
                  <a:pt x="422" y="11782"/>
                </a:cubicBezTo>
                <a:cubicBezTo>
                  <a:pt x="449" y="11704"/>
                  <a:pt x="536" y="11569"/>
                  <a:pt x="645" y="11633"/>
                </a:cubicBezTo>
                <a:cubicBezTo>
                  <a:pt x="754" y="11697"/>
                  <a:pt x="841" y="11854"/>
                  <a:pt x="819" y="11981"/>
                </a:cubicBezTo>
                <a:cubicBezTo>
                  <a:pt x="811" y="11997"/>
                  <a:pt x="802" y="12014"/>
                  <a:pt x="794" y="12030"/>
                </a:cubicBezTo>
                <a:cubicBezTo>
                  <a:pt x="810" y="11906"/>
                  <a:pt x="851" y="11800"/>
                  <a:pt x="893" y="11683"/>
                </a:cubicBezTo>
                <a:cubicBezTo>
                  <a:pt x="1001" y="11710"/>
                  <a:pt x="1047" y="11788"/>
                  <a:pt x="1067" y="11906"/>
                </a:cubicBezTo>
                <a:cubicBezTo>
                  <a:pt x="1079" y="11976"/>
                  <a:pt x="1067" y="12058"/>
                  <a:pt x="1067" y="1212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510240" y="4054320"/>
            <a:ext cx="463680" cy="285840"/>
          </a:xfrm>
          <a:custGeom>
            <a:avLst/>
            <a:gdLst/>
            <a:ahLst/>
            <a:rect l="l" t="t" r="r" b="b"/>
            <a:pathLst>
              <a:path w="1290" h="795">
                <a:moveTo>
                  <a:pt x="18380" y="11485"/>
                </a:moveTo>
                <a:cubicBezTo>
                  <a:pt x="18321" y="11492"/>
                  <a:pt x="18303" y="11497"/>
                  <a:pt x="18256" y="11534"/>
                </a:cubicBezTo>
                <a:cubicBezTo>
                  <a:pt x="18318" y="11519"/>
                  <a:pt x="18388" y="11482"/>
                  <a:pt x="18455" y="11460"/>
                </a:cubicBezTo>
                <a:cubicBezTo>
                  <a:pt x="18513" y="11560"/>
                  <a:pt x="18436" y="11620"/>
                  <a:pt x="18355" y="11683"/>
                </a:cubicBezTo>
                <a:cubicBezTo>
                  <a:pt x="18330" y="11700"/>
                  <a:pt x="18306" y="11716"/>
                  <a:pt x="18281" y="11733"/>
                </a:cubicBezTo>
                <a:cubicBezTo>
                  <a:pt x="18181" y="11700"/>
                  <a:pt x="18407" y="11717"/>
                  <a:pt x="18430" y="11733"/>
                </a:cubicBezTo>
                <a:cubicBezTo>
                  <a:pt x="18592" y="11850"/>
                  <a:pt x="18383" y="11962"/>
                  <a:pt x="18281" y="11981"/>
                </a:cubicBezTo>
                <a:cubicBezTo>
                  <a:pt x="18161" y="12003"/>
                  <a:pt x="18117" y="11987"/>
                  <a:pt x="18083" y="11906"/>
                </a:cubicBezTo>
              </a:path>
              <a:path w="1290" h="795">
                <a:moveTo>
                  <a:pt x="18703" y="11534"/>
                </a:moveTo>
                <a:cubicBezTo>
                  <a:pt x="18763" y="11574"/>
                  <a:pt x="18718" y="11705"/>
                  <a:pt x="18703" y="11782"/>
                </a:cubicBezTo>
                <a:cubicBezTo>
                  <a:pt x="18681" y="11895"/>
                  <a:pt x="18669" y="11930"/>
                  <a:pt x="18703" y="12030"/>
                </a:cubicBezTo>
                <a:cubicBezTo>
                  <a:pt x="18817" y="12030"/>
                  <a:pt x="18938" y="12021"/>
                  <a:pt x="19025" y="11931"/>
                </a:cubicBezTo>
                <a:cubicBezTo>
                  <a:pt x="19044" y="11874"/>
                  <a:pt x="19035" y="11849"/>
                  <a:pt x="19075" y="11857"/>
                </a:cubicBezTo>
                <a:cubicBezTo>
                  <a:pt x="19018" y="11852"/>
                  <a:pt x="18763" y="11930"/>
                  <a:pt x="18802" y="12030"/>
                </a:cubicBezTo>
                <a:cubicBezTo>
                  <a:pt x="18827" y="12038"/>
                  <a:pt x="18851" y="12047"/>
                  <a:pt x="18876" y="12055"/>
                </a:cubicBezTo>
              </a:path>
              <a:path w="1290" h="795">
                <a:moveTo>
                  <a:pt x="19348" y="11261"/>
                </a:moveTo>
                <a:cubicBezTo>
                  <a:pt x="19303" y="11337"/>
                  <a:pt x="19244" y="11411"/>
                  <a:pt x="19273" y="11485"/>
                </a:cubicBezTo>
                <a:cubicBezTo>
                  <a:pt x="19297" y="11470"/>
                  <a:pt x="19458" y="11309"/>
                  <a:pt x="19372" y="11286"/>
                </a:cubicBezTo>
                <a:cubicBezTo>
                  <a:pt x="19347" y="11294"/>
                  <a:pt x="19323" y="11303"/>
                  <a:pt x="19298" y="1131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77840" y="4776840"/>
            <a:ext cx="304920" cy="179280"/>
          </a:xfrm>
          <a:custGeom>
            <a:avLst/>
            <a:gdLst/>
            <a:ahLst/>
            <a:rect l="l" t="t" r="r" b="b"/>
            <a:pathLst>
              <a:path w="844" h="497">
                <a:moveTo>
                  <a:pt x="496" y="13419"/>
                </a:moveTo>
                <a:cubicBezTo>
                  <a:pt x="496" y="13535"/>
                  <a:pt x="496" y="13651"/>
                  <a:pt x="496" y="13767"/>
                </a:cubicBezTo>
                <a:cubicBezTo>
                  <a:pt x="534" y="13754"/>
                  <a:pt x="521" y="13737"/>
                  <a:pt x="521" y="13692"/>
                </a:cubicBezTo>
                <a:cubicBezTo>
                  <a:pt x="521" y="13623"/>
                  <a:pt x="537" y="13552"/>
                  <a:pt x="546" y="13519"/>
                </a:cubicBezTo>
                <a:cubicBezTo>
                  <a:pt x="563" y="13456"/>
                  <a:pt x="567" y="13471"/>
                  <a:pt x="620" y="13419"/>
                </a:cubicBezTo>
                <a:cubicBezTo>
                  <a:pt x="649" y="13390"/>
                  <a:pt x="679" y="13360"/>
                  <a:pt x="719" y="13345"/>
                </a:cubicBezTo>
                <a:cubicBezTo>
                  <a:pt x="759" y="13330"/>
                  <a:pt x="795" y="13300"/>
                  <a:pt x="843" y="13295"/>
                </a:cubicBezTo>
                <a:cubicBezTo>
                  <a:pt x="876" y="13292"/>
                  <a:pt x="910" y="13295"/>
                  <a:pt x="943" y="13295"/>
                </a:cubicBezTo>
                <a:cubicBezTo>
                  <a:pt x="943" y="13411"/>
                  <a:pt x="943" y="13709"/>
                  <a:pt x="943" y="13593"/>
                </a:cubicBezTo>
                <a:cubicBezTo>
                  <a:pt x="943" y="13547"/>
                  <a:pt x="961" y="13509"/>
                  <a:pt x="967" y="13494"/>
                </a:cubicBezTo>
                <a:cubicBezTo>
                  <a:pt x="974" y="13477"/>
                  <a:pt x="989" y="13433"/>
                  <a:pt x="1017" y="13419"/>
                </a:cubicBezTo>
                <a:cubicBezTo>
                  <a:pt x="1049" y="13403"/>
                  <a:pt x="1094" y="13373"/>
                  <a:pt x="1116" y="13370"/>
                </a:cubicBezTo>
                <a:cubicBezTo>
                  <a:pt x="1142" y="13367"/>
                  <a:pt x="1186" y="13330"/>
                  <a:pt x="1191" y="13320"/>
                </a:cubicBezTo>
                <a:cubicBezTo>
                  <a:pt x="1204" y="13294"/>
                  <a:pt x="1205" y="13275"/>
                  <a:pt x="1240" y="13271"/>
                </a:cubicBezTo>
                <a:cubicBezTo>
                  <a:pt x="1267" y="13268"/>
                  <a:pt x="1328" y="13260"/>
                  <a:pt x="1339" y="13295"/>
                </a:cubicBezTo>
                <a:cubicBezTo>
                  <a:pt x="1370" y="13396"/>
                  <a:pt x="1339" y="13559"/>
                  <a:pt x="1339" y="1366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232000" y="4653000"/>
            <a:ext cx="750960" cy="463680"/>
          </a:xfrm>
          <a:custGeom>
            <a:avLst/>
            <a:gdLst/>
            <a:ahLst/>
            <a:rect l="l" t="t" r="r" b="b"/>
            <a:pathLst>
              <a:path w="2085" h="1291">
                <a:moveTo>
                  <a:pt x="6201" y="13246"/>
                </a:moveTo>
                <a:cubicBezTo>
                  <a:pt x="6201" y="13568"/>
                  <a:pt x="6201" y="13891"/>
                  <a:pt x="6201" y="14213"/>
                </a:cubicBezTo>
              </a:path>
              <a:path w="2085" h="1291">
                <a:moveTo>
                  <a:pt x="6970" y="13295"/>
                </a:moveTo>
                <a:cubicBezTo>
                  <a:pt x="6910" y="13287"/>
                  <a:pt x="6896" y="13263"/>
                  <a:pt x="6846" y="13246"/>
                </a:cubicBezTo>
                <a:cubicBezTo>
                  <a:pt x="6809" y="13234"/>
                  <a:pt x="6790" y="13221"/>
                  <a:pt x="6747" y="13221"/>
                </a:cubicBezTo>
                <a:cubicBezTo>
                  <a:pt x="6691" y="13221"/>
                  <a:pt x="6640" y="13209"/>
                  <a:pt x="6598" y="13246"/>
                </a:cubicBezTo>
                <a:cubicBezTo>
                  <a:pt x="6557" y="13283"/>
                  <a:pt x="6548" y="13261"/>
                  <a:pt x="6548" y="13320"/>
                </a:cubicBezTo>
                <a:cubicBezTo>
                  <a:pt x="6548" y="13358"/>
                  <a:pt x="6530" y="13423"/>
                  <a:pt x="6573" y="13444"/>
                </a:cubicBezTo>
                <a:cubicBezTo>
                  <a:pt x="6623" y="13469"/>
                  <a:pt x="6716" y="13509"/>
                  <a:pt x="6772" y="13519"/>
                </a:cubicBezTo>
                <a:cubicBezTo>
                  <a:pt x="6818" y="13527"/>
                  <a:pt x="6880" y="13543"/>
                  <a:pt x="6921" y="13568"/>
                </a:cubicBezTo>
                <a:cubicBezTo>
                  <a:pt x="6968" y="13597"/>
                  <a:pt x="6983" y="13660"/>
                  <a:pt x="7020" y="13692"/>
                </a:cubicBezTo>
                <a:cubicBezTo>
                  <a:pt x="7074" y="13738"/>
                  <a:pt x="7114" y="13777"/>
                  <a:pt x="7144" y="13841"/>
                </a:cubicBezTo>
                <a:cubicBezTo>
                  <a:pt x="7150" y="13853"/>
                  <a:pt x="7193" y="13944"/>
                  <a:pt x="7169" y="13965"/>
                </a:cubicBezTo>
                <a:cubicBezTo>
                  <a:pt x="7126" y="14004"/>
                  <a:pt x="7046" y="13990"/>
                  <a:pt x="6995" y="13990"/>
                </a:cubicBezTo>
                <a:cubicBezTo>
                  <a:pt x="6929" y="13990"/>
                  <a:pt x="6897" y="14011"/>
                  <a:pt x="6871" y="13940"/>
                </a:cubicBezTo>
                <a:cubicBezTo>
                  <a:pt x="6839" y="13851"/>
                  <a:pt x="6870" y="13696"/>
                  <a:pt x="6896" y="13618"/>
                </a:cubicBezTo>
                <a:cubicBezTo>
                  <a:pt x="6914" y="13564"/>
                  <a:pt x="6919" y="13596"/>
                  <a:pt x="6970" y="13568"/>
                </a:cubicBezTo>
                <a:cubicBezTo>
                  <a:pt x="6999" y="13552"/>
                  <a:pt x="7042" y="13515"/>
                  <a:pt x="7045" y="13494"/>
                </a:cubicBezTo>
                <a:cubicBezTo>
                  <a:pt x="7051" y="13442"/>
                  <a:pt x="7030" y="13439"/>
                  <a:pt x="7020" y="13419"/>
                </a:cubicBezTo>
                <a:cubicBezTo>
                  <a:pt x="7005" y="13390"/>
                  <a:pt x="6981" y="13390"/>
                  <a:pt x="6970" y="13345"/>
                </a:cubicBezTo>
              </a:path>
              <a:path w="2085" h="1291">
                <a:moveTo>
                  <a:pt x="7466" y="13171"/>
                </a:moveTo>
                <a:cubicBezTo>
                  <a:pt x="7424" y="13227"/>
                  <a:pt x="7441" y="13297"/>
                  <a:pt x="7441" y="13370"/>
                </a:cubicBezTo>
                <a:cubicBezTo>
                  <a:pt x="7441" y="13489"/>
                  <a:pt x="7436" y="13551"/>
                  <a:pt x="7516" y="13643"/>
                </a:cubicBezTo>
                <a:cubicBezTo>
                  <a:pt x="7545" y="13677"/>
                  <a:pt x="7574" y="13667"/>
                  <a:pt x="7615" y="13667"/>
                </a:cubicBezTo>
                <a:cubicBezTo>
                  <a:pt x="7681" y="13667"/>
                  <a:pt x="7729" y="13671"/>
                  <a:pt x="7789" y="13643"/>
                </a:cubicBezTo>
                <a:cubicBezTo>
                  <a:pt x="7847" y="13616"/>
                  <a:pt x="7909" y="13584"/>
                  <a:pt x="7962" y="13568"/>
                </a:cubicBezTo>
                <a:cubicBezTo>
                  <a:pt x="7987" y="13568"/>
                  <a:pt x="7995" y="13568"/>
                  <a:pt x="8012" y="13568"/>
                </a:cubicBezTo>
                <a:cubicBezTo>
                  <a:pt x="8012" y="13517"/>
                  <a:pt x="8021" y="13482"/>
                  <a:pt x="7987" y="13444"/>
                </a:cubicBezTo>
                <a:cubicBezTo>
                  <a:pt x="7941" y="13392"/>
                  <a:pt x="7867" y="13362"/>
                  <a:pt x="7813" y="13320"/>
                </a:cubicBezTo>
                <a:cubicBezTo>
                  <a:pt x="7784" y="13298"/>
                  <a:pt x="7758" y="13262"/>
                  <a:pt x="7739" y="13246"/>
                </a:cubicBezTo>
                <a:cubicBezTo>
                  <a:pt x="7709" y="13222"/>
                  <a:pt x="7657" y="13205"/>
                  <a:pt x="7640" y="13171"/>
                </a:cubicBezTo>
                <a:cubicBezTo>
                  <a:pt x="7622" y="13135"/>
                  <a:pt x="7601" y="13147"/>
                  <a:pt x="7565" y="13122"/>
                </a:cubicBezTo>
                <a:cubicBezTo>
                  <a:pt x="7529" y="13097"/>
                  <a:pt x="7536" y="13097"/>
                  <a:pt x="7491" y="13097"/>
                </a:cubicBezTo>
              </a:path>
              <a:path w="2085" h="1291">
                <a:moveTo>
                  <a:pt x="8012" y="13047"/>
                </a:moveTo>
                <a:cubicBezTo>
                  <a:pt x="8103" y="13047"/>
                  <a:pt x="8194" y="13047"/>
                  <a:pt x="8285" y="13047"/>
                </a:cubicBezTo>
                <a:cubicBezTo>
                  <a:pt x="8285" y="12958"/>
                  <a:pt x="8280" y="13018"/>
                  <a:pt x="8235" y="12973"/>
                </a:cubicBezTo>
                <a:cubicBezTo>
                  <a:pt x="8216" y="12954"/>
                  <a:pt x="8208" y="12928"/>
                  <a:pt x="8161" y="12923"/>
                </a:cubicBezTo>
                <a:cubicBezTo>
                  <a:pt x="8117" y="12918"/>
                  <a:pt x="8017" y="12908"/>
                  <a:pt x="8012" y="12948"/>
                </a:cubicBezTo>
                <a:cubicBezTo>
                  <a:pt x="8012" y="12973"/>
                  <a:pt x="8012" y="12981"/>
                  <a:pt x="8012" y="1299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69920" y="5411880"/>
            <a:ext cx="330120" cy="241200"/>
          </a:xfrm>
          <a:custGeom>
            <a:avLst/>
            <a:gdLst/>
            <a:ahLst/>
            <a:rect l="l" t="t" r="r" b="b"/>
            <a:pathLst>
              <a:path w="919" h="670">
                <a:moveTo>
                  <a:pt x="471" y="15131"/>
                </a:moveTo>
                <a:cubicBezTo>
                  <a:pt x="471" y="15329"/>
                  <a:pt x="471" y="15875"/>
                  <a:pt x="471" y="15677"/>
                </a:cubicBezTo>
                <a:cubicBezTo>
                  <a:pt x="471" y="15596"/>
                  <a:pt x="468" y="15522"/>
                  <a:pt x="496" y="15453"/>
                </a:cubicBezTo>
                <a:cubicBezTo>
                  <a:pt x="520" y="15394"/>
                  <a:pt x="551" y="15338"/>
                  <a:pt x="571" y="15280"/>
                </a:cubicBezTo>
                <a:cubicBezTo>
                  <a:pt x="583" y="15243"/>
                  <a:pt x="546" y="15209"/>
                  <a:pt x="595" y="15205"/>
                </a:cubicBezTo>
                <a:cubicBezTo>
                  <a:pt x="674" y="15199"/>
                  <a:pt x="795" y="15183"/>
                  <a:pt x="868" y="15156"/>
                </a:cubicBezTo>
                <a:cubicBezTo>
                  <a:pt x="909" y="15140"/>
                  <a:pt x="916" y="15131"/>
                  <a:pt x="967" y="15131"/>
                </a:cubicBezTo>
                <a:cubicBezTo>
                  <a:pt x="975" y="15131"/>
                  <a:pt x="984" y="15131"/>
                  <a:pt x="992" y="15131"/>
                </a:cubicBezTo>
                <a:cubicBezTo>
                  <a:pt x="992" y="15238"/>
                  <a:pt x="992" y="15346"/>
                  <a:pt x="992" y="15453"/>
                </a:cubicBezTo>
                <a:cubicBezTo>
                  <a:pt x="992" y="15521"/>
                  <a:pt x="992" y="15346"/>
                  <a:pt x="992" y="15329"/>
                </a:cubicBezTo>
                <a:cubicBezTo>
                  <a:pt x="992" y="15268"/>
                  <a:pt x="981" y="15209"/>
                  <a:pt x="1017" y="15156"/>
                </a:cubicBezTo>
                <a:cubicBezTo>
                  <a:pt x="1047" y="15112"/>
                  <a:pt x="1117" y="15108"/>
                  <a:pt x="1141" y="15056"/>
                </a:cubicBezTo>
                <a:cubicBezTo>
                  <a:pt x="1158" y="15018"/>
                  <a:pt x="1187" y="15032"/>
                  <a:pt x="1240" y="15032"/>
                </a:cubicBezTo>
                <a:cubicBezTo>
                  <a:pt x="1265" y="15032"/>
                  <a:pt x="1290" y="15032"/>
                  <a:pt x="1315" y="15032"/>
                </a:cubicBezTo>
                <a:cubicBezTo>
                  <a:pt x="1315" y="15115"/>
                  <a:pt x="1328" y="15079"/>
                  <a:pt x="1364" y="15131"/>
                </a:cubicBezTo>
                <a:cubicBezTo>
                  <a:pt x="1398" y="15180"/>
                  <a:pt x="1389" y="15224"/>
                  <a:pt x="1389" y="15280"/>
                </a:cubicBezTo>
                <a:cubicBezTo>
                  <a:pt x="1389" y="15379"/>
                  <a:pt x="1389" y="15478"/>
                  <a:pt x="1389" y="1557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276640" y="5384880"/>
            <a:ext cx="9360" cy="231840"/>
          </a:xfrm>
          <a:custGeom>
            <a:avLst/>
            <a:gdLst/>
            <a:ahLst/>
            <a:rect l="l" t="t" r="r" b="b"/>
            <a:pathLst>
              <a:path w="26" h="646">
                <a:moveTo>
                  <a:pt x="6350" y="14957"/>
                </a:moveTo>
                <a:cubicBezTo>
                  <a:pt x="6350" y="15126"/>
                  <a:pt x="6352" y="15292"/>
                  <a:pt x="6325" y="15453"/>
                </a:cubicBezTo>
                <a:cubicBezTo>
                  <a:pt x="6317" y="15499"/>
                  <a:pt x="6325" y="15555"/>
                  <a:pt x="6325" y="1560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482920" y="5276880"/>
            <a:ext cx="554040" cy="376200"/>
          </a:xfrm>
          <a:custGeom>
            <a:avLst/>
            <a:gdLst/>
            <a:ahLst/>
            <a:rect l="l" t="t" r="r" b="b"/>
            <a:pathLst>
              <a:path w="1539" h="1042">
                <a:moveTo>
                  <a:pt x="6896" y="14908"/>
                </a:moveTo>
                <a:cubicBezTo>
                  <a:pt x="6896" y="14977"/>
                  <a:pt x="6869" y="15133"/>
                  <a:pt x="6921" y="15156"/>
                </a:cubicBezTo>
                <a:cubicBezTo>
                  <a:pt x="7006" y="15195"/>
                  <a:pt x="7099" y="15180"/>
                  <a:pt x="7193" y="15180"/>
                </a:cubicBezTo>
                <a:cubicBezTo>
                  <a:pt x="7292" y="15180"/>
                  <a:pt x="7392" y="15180"/>
                  <a:pt x="7491" y="15180"/>
                </a:cubicBezTo>
              </a:path>
              <a:path w="1539" h="1042">
                <a:moveTo>
                  <a:pt x="7441" y="14957"/>
                </a:moveTo>
                <a:cubicBezTo>
                  <a:pt x="7441" y="15197"/>
                  <a:pt x="7441" y="15437"/>
                  <a:pt x="7441" y="15677"/>
                </a:cubicBezTo>
              </a:path>
              <a:path w="1539" h="1042">
                <a:moveTo>
                  <a:pt x="7813" y="15081"/>
                </a:moveTo>
                <a:cubicBezTo>
                  <a:pt x="7813" y="15202"/>
                  <a:pt x="7817" y="15315"/>
                  <a:pt x="7789" y="15429"/>
                </a:cubicBezTo>
                <a:cubicBezTo>
                  <a:pt x="7770" y="15509"/>
                  <a:pt x="7789" y="15619"/>
                  <a:pt x="7789" y="15701"/>
                </a:cubicBezTo>
              </a:path>
              <a:path w="1539" h="1042">
                <a:moveTo>
                  <a:pt x="7565" y="14908"/>
                </a:moveTo>
                <a:cubicBezTo>
                  <a:pt x="7565" y="15040"/>
                  <a:pt x="7565" y="15172"/>
                  <a:pt x="7565" y="15304"/>
                </a:cubicBezTo>
                <a:cubicBezTo>
                  <a:pt x="7689" y="15304"/>
                  <a:pt x="7814" y="15304"/>
                  <a:pt x="7938" y="15304"/>
                </a:cubicBezTo>
              </a:path>
              <a:path w="1539" h="1042">
                <a:moveTo>
                  <a:pt x="8434" y="14660"/>
                </a:moveTo>
                <a:cubicBezTo>
                  <a:pt x="8367" y="14660"/>
                  <a:pt x="8315" y="14653"/>
                  <a:pt x="8260" y="14684"/>
                </a:cubicBezTo>
                <a:cubicBezTo>
                  <a:pt x="8219" y="14707"/>
                  <a:pt x="8188" y="14769"/>
                  <a:pt x="8161" y="14784"/>
                </a:cubicBezTo>
                <a:cubicBezTo>
                  <a:pt x="8135" y="14799"/>
                  <a:pt x="8116" y="14813"/>
                  <a:pt x="8111" y="14858"/>
                </a:cubicBezTo>
                <a:cubicBezTo>
                  <a:pt x="8107" y="14890"/>
                  <a:pt x="8111" y="14925"/>
                  <a:pt x="8111" y="14957"/>
                </a:cubicBezTo>
                <a:cubicBezTo>
                  <a:pt x="8155" y="14957"/>
                  <a:pt x="8262" y="14978"/>
                  <a:pt x="8285" y="14932"/>
                </a:cubicBezTo>
                <a:cubicBezTo>
                  <a:pt x="8303" y="14896"/>
                  <a:pt x="8339" y="14892"/>
                  <a:pt x="8384" y="14858"/>
                </a:cubicBezTo>
                <a:cubicBezTo>
                  <a:pt x="8409" y="14839"/>
                  <a:pt x="8432" y="14803"/>
                  <a:pt x="8434" y="14784"/>
                </a:cubicBezTo>
                <a:cubicBezTo>
                  <a:pt x="8439" y="14743"/>
                  <a:pt x="8440" y="14744"/>
                  <a:pt x="8409" y="1473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Homework: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urse 1:  Page 119  1 – 4 and 8-1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urse 2:  Page 127-128 1-1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25909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Calisto MT"/>
              </a:rPr>
              <a:t>Objective:  Students will measure and classify angle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304920"/>
            <a:ext cx="1371600" cy="1371600"/>
          </a:xfrm>
          <a:prstGeom prst="smileyFace">
            <a:avLst>
              <a:gd name="adj" fmla="val 9282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b0a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27080" y="6456240"/>
            <a:ext cx="1800" cy="9720"/>
          </a:xfrm>
          <a:custGeom>
            <a:avLst/>
            <a:gdLst/>
            <a:ahLst/>
            <a:rect l="l" t="t" r="r" b="b"/>
            <a:pathLst>
              <a:path w="1" h="26">
                <a:moveTo>
                  <a:pt x="2853" y="17934"/>
                </a:moveTo>
                <a:cubicBezTo>
                  <a:pt x="2853" y="17942"/>
                  <a:pt x="2853" y="17951"/>
                  <a:pt x="2853" y="1795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04920" y="6392880"/>
            <a:ext cx="1440" cy="9360"/>
          </a:xfrm>
          <a:custGeom>
            <a:avLst/>
            <a:gdLst/>
            <a:ahLst/>
            <a:rect l="l" t="t" r="r" b="b"/>
            <a:pathLst>
              <a:path w="1" h="26">
                <a:moveTo>
                  <a:pt x="3349" y="17785"/>
                </a:moveTo>
                <a:cubicBezTo>
                  <a:pt x="3349" y="17777"/>
                  <a:pt x="3349" y="17768"/>
                  <a:pt x="3349" y="1776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90760" y="67690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4142" y="18802"/>
                </a:moveTo>
                <a:lnTo>
                  <a:pt x="4142" y="18802"/>
                </a:lnTo>
                <a:lnTo>
                  <a:pt x="4142" y="18802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This Next Section Includes…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2113920" y="1657440"/>
            <a:ext cx="5124600" cy="5124960"/>
            <a:chOff x="2113920" y="1657440"/>
            <a:chExt cx="5124600" cy="5124960"/>
          </a:xfrm>
        </p:grpSpPr>
        <p:sp>
          <p:nvSpPr>
            <p:cNvPr id="169" name="_s41995"/>
            <p:cNvSpPr/>
            <p:nvPr/>
          </p:nvSpPr>
          <p:spPr>
            <a:xfrm flipH="1">
              <a:off x="3394080" y="4220280"/>
              <a:ext cx="641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41994"/>
            <p:cNvSpPr/>
            <p:nvPr/>
          </p:nvSpPr>
          <p:spPr>
            <a:xfrm>
              <a:off x="2113920" y="3579840"/>
              <a:ext cx="1280160" cy="127980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Straight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42001"/>
            <p:cNvSpPr/>
            <p:nvPr/>
          </p:nvSpPr>
          <p:spPr>
            <a:xfrm>
              <a:off x="4676400" y="4860000"/>
              <a:ext cx="0" cy="642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42000"/>
            <p:cNvSpPr/>
            <p:nvPr/>
          </p:nvSpPr>
          <p:spPr>
            <a:xfrm>
              <a:off x="4036320" y="5502600"/>
              <a:ext cx="1280160" cy="1279800"/>
            </a:xfrm>
            <a:prstGeom prst="ellipse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Obtus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41999"/>
            <p:cNvSpPr/>
            <p:nvPr/>
          </p:nvSpPr>
          <p:spPr>
            <a:xfrm>
              <a:off x="5316840" y="4220280"/>
              <a:ext cx="641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41998"/>
            <p:cNvSpPr/>
            <p:nvPr/>
          </p:nvSpPr>
          <p:spPr>
            <a:xfrm>
              <a:off x="5958720" y="3579840"/>
              <a:ext cx="1279800" cy="12798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Right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41993"/>
            <p:cNvSpPr/>
            <p:nvPr/>
          </p:nvSpPr>
          <p:spPr>
            <a:xfrm flipV="1">
              <a:off x="4676400" y="2937600"/>
              <a:ext cx="0" cy="641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_s41992"/>
            <p:cNvSpPr/>
            <p:nvPr/>
          </p:nvSpPr>
          <p:spPr>
            <a:xfrm>
              <a:off x="4036320" y="1657440"/>
              <a:ext cx="1280160" cy="1280160"/>
            </a:xfrm>
            <a:prstGeom prst="ellipse">
              <a:avLst/>
            </a:pr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Acut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41991"/>
            <p:cNvSpPr/>
            <p:nvPr/>
          </p:nvSpPr>
          <p:spPr>
            <a:xfrm>
              <a:off x="4036320" y="3579840"/>
              <a:ext cx="1280160" cy="12798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Angles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howcard Gothic"/>
              </a:rPr>
              <a:t>Classifying Angles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u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An angle less than 90 degree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tus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An angle greater than 90 degre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200400" y="2514600"/>
            <a:ext cx="1981080" cy="12747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3505320" y="4952880"/>
            <a:ext cx="2771640" cy="1251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5875200" y="2482920"/>
            <a:ext cx="947880" cy="339480"/>
          </a:xfrm>
          <a:custGeom>
            <a:avLst/>
            <a:gdLst/>
            <a:ahLst/>
            <a:rect l="l" t="t" r="r" b="b"/>
            <a:pathLst>
              <a:path w="2631" h="943">
                <a:moveTo>
                  <a:pt x="16594" y="7045"/>
                </a:moveTo>
                <a:cubicBezTo>
                  <a:pt x="16536" y="7218"/>
                  <a:pt x="16470" y="7380"/>
                  <a:pt x="16421" y="7565"/>
                </a:cubicBezTo>
                <a:cubicBezTo>
                  <a:pt x="16391" y="7680"/>
                  <a:pt x="16354" y="7741"/>
                  <a:pt x="16321" y="7838"/>
                </a:cubicBezTo>
                <a:cubicBezTo>
                  <a:pt x="16381" y="7611"/>
                  <a:pt x="16415" y="7363"/>
                  <a:pt x="16495" y="7144"/>
                </a:cubicBezTo>
                <a:cubicBezTo>
                  <a:pt x="16562" y="7012"/>
                  <a:pt x="16578" y="6979"/>
                  <a:pt x="16619" y="6896"/>
                </a:cubicBezTo>
                <a:cubicBezTo>
                  <a:pt x="16764" y="7079"/>
                  <a:pt x="16784" y="7297"/>
                  <a:pt x="16793" y="7541"/>
                </a:cubicBezTo>
                <a:cubicBezTo>
                  <a:pt x="16796" y="7615"/>
                  <a:pt x="16793" y="7690"/>
                  <a:pt x="16793" y="7764"/>
                </a:cubicBezTo>
              </a:path>
              <a:path w="2631" h="943">
                <a:moveTo>
                  <a:pt x="16421" y="7491"/>
                </a:moveTo>
                <a:cubicBezTo>
                  <a:pt x="16547" y="7484"/>
                  <a:pt x="16666" y="7472"/>
                  <a:pt x="16793" y="7466"/>
                </a:cubicBezTo>
              </a:path>
              <a:path w="2631" h="943">
                <a:moveTo>
                  <a:pt x="17289" y="7441"/>
                </a:moveTo>
                <a:cubicBezTo>
                  <a:pt x="17289" y="7362"/>
                  <a:pt x="17270" y="7340"/>
                  <a:pt x="17214" y="7293"/>
                </a:cubicBezTo>
                <a:cubicBezTo>
                  <a:pt x="17120" y="7327"/>
                  <a:pt x="16975" y="7497"/>
                  <a:pt x="17016" y="7640"/>
                </a:cubicBezTo>
                <a:cubicBezTo>
                  <a:pt x="17066" y="7817"/>
                  <a:pt x="17287" y="7669"/>
                  <a:pt x="17363" y="7640"/>
                </a:cubicBezTo>
              </a:path>
              <a:path w="2631" h="943">
                <a:moveTo>
                  <a:pt x="17636" y="7417"/>
                </a:moveTo>
                <a:cubicBezTo>
                  <a:pt x="17610" y="7518"/>
                  <a:pt x="17613" y="7599"/>
                  <a:pt x="17636" y="7714"/>
                </a:cubicBezTo>
                <a:cubicBezTo>
                  <a:pt x="17644" y="7747"/>
                  <a:pt x="17653" y="7780"/>
                  <a:pt x="17661" y="7813"/>
                </a:cubicBezTo>
                <a:cubicBezTo>
                  <a:pt x="17826" y="7826"/>
                  <a:pt x="17917" y="7746"/>
                  <a:pt x="17959" y="7565"/>
                </a:cubicBezTo>
                <a:cubicBezTo>
                  <a:pt x="17959" y="7532"/>
                  <a:pt x="17959" y="7499"/>
                  <a:pt x="17959" y="7466"/>
                </a:cubicBezTo>
                <a:cubicBezTo>
                  <a:pt x="18005" y="7585"/>
                  <a:pt x="18002" y="7636"/>
                  <a:pt x="18132" y="7665"/>
                </a:cubicBezTo>
              </a:path>
              <a:path w="2631" h="943">
                <a:moveTo>
                  <a:pt x="18157" y="7069"/>
                </a:moveTo>
                <a:cubicBezTo>
                  <a:pt x="18220" y="7274"/>
                  <a:pt x="18273" y="7477"/>
                  <a:pt x="18306" y="7689"/>
                </a:cubicBezTo>
                <a:cubicBezTo>
                  <a:pt x="18306" y="7722"/>
                  <a:pt x="18306" y="7722"/>
                  <a:pt x="18306" y="7665"/>
                </a:cubicBezTo>
              </a:path>
              <a:path w="2631" h="943">
                <a:moveTo>
                  <a:pt x="18083" y="7392"/>
                </a:moveTo>
                <a:cubicBezTo>
                  <a:pt x="18297" y="7326"/>
                  <a:pt x="18482" y="7267"/>
                  <a:pt x="18703" y="7293"/>
                </a:cubicBezTo>
              </a:path>
              <a:path w="2631" h="943">
                <a:moveTo>
                  <a:pt x="18752" y="7392"/>
                </a:moveTo>
                <a:cubicBezTo>
                  <a:pt x="18805" y="7384"/>
                  <a:pt x="18837" y="7378"/>
                  <a:pt x="18876" y="7342"/>
                </a:cubicBezTo>
                <a:cubicBezTo>
                  <a:pt x="18923" y="7296"/>
                  <a:pt x="18941" y="7284"/>
                  <a:pt x="18901" y="7243"/>
                </a:cubicBezTo>
                <a:cubicBezTo>
                  <a:pt x="18785" y="7204"/>
                  <a:pt x="18662" y="7217"/>
                  <a:pt x="18628" y="7367"/>
                </a:cubicBezTo>
                <a:cubicBezTo>
                  <a:pt x="18562" y="7656"/>
                  <a:pt x="18795" y="7597"/>
                  <a:pt x="18951" y="754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108920" y="2357280"/>
            <a:ext cx="812880" cy="428760"/>
          </a:xfrm>
          <a:custGeom>
            <a:avLst/>
            <a:gdLst/>
            <a:ahLst/>
            <a:rect l="l" t="t" r="r" b="b"/>
            <a:pathLst>
              <a:path w="2258" h="1192">
                <a:moveTo>
                  <a:pt x="19993" y="7144"/>
                </a:moveTo>
                <a:cubicBezTo>
                  <a:pt x="19910" y="7245"/>
                  <a:pt x="19855" y="7343"/>
                  <a:pt x="19745" y="7417"/>
                </a:cubicBezTo>
                <a:cubicBezTo>
                  <a:pt x="19836" y="7417"/>
                  <a:pt x="19929" y="7446"/>
                  <a:pt x="20017" y="7466"/>
                </a:cubicBezTo>
                <a:cubicBezTo>
                  <a:pt x="20079" y="7480"/>
                  <a:pt x="20133" y="7504"/>
                  <a:pt x="20191" y="7516"/>
                </a:cubicBezTo>
              </a:path>
              <a:path w="2258" h="1192">
                <a:moveTo>
                  <a:pt x="21258" y="7119"/>
                </a:moveTo>
                <a:cubicBezTo>
                  <a:pt x="21174" y="7067"/>
                  <a:pt x="21095" y="6963"/>
                  <a:pt x="21010" y="6921"/>
                </a:cubicBezTo>
                <a:cubicBezTo>
                  <a:pt x="20862" y="6847"/>
                  <a:pt x="20644" y="6975"/>
                  <a:pt x="20588" y="7119"/>
                </a:cubicBezTo>
                <a:cubicBezTo>
                  <a:pt x="20588" y="7160"/>
                  <a:pt x="20588" y="7202"/>
                  <a:pt x="20588" y="7243"/>
                </a:cubicBezTo>
                <a:cubicBezTo>
                  <a:pt x="20757" y="7335"/>
                  <a:pt x="20943" y="7268"/>
                  <a:pt x="21084" y="7119"/>
                </a:cubicBezTo>
                <a:cubicBezTo>
                  <a:pt x="21121" y="7046"/>
                  <a:pt x="21166" y="7013"/>
                  <a:pt x="21109" y="7020"/>
                </a:cubicBezTo>
                <a:cubicBezTo>
                  <a:pt x="21109" y="7183"/>
                  <a:pt x="21118" y="7354"/>
                  <a:pt x="21134" y="7516"/>
                </a:cubicBezTo>
                <a:cubicBezTo>
                  <a:pt x="21154" y="7640"/>
                  <a:pt x="21162" y="7664"/>
                  <a:pt x="21158" y="7739"/>
                </a:cubicBezTo>
              </a:path>
              <a:path w="2258" h="1192">
                <a:moveTo>
                  <a:pt x="21605" y="6921"/>
                </a:moveTo>
                <a:cubicBezTo>
                  <a:pt x="21487" y="6980"/>
                  <a:pt x="21402" y="7141"/>
                  <a:pt x="21357" y="7268"/>
                </a:cubicBezTo>
                <a:cubicBezTo>
                  <a:pt x="21281" y="7481"/>
                  <a:pt x="21455" y="7592"/>
                  <a:pt x="21654" y="7516"/>
                </a:cubicBezTo>
                <a:cubicBezTo>
                  <a:pt x="21874" y="7432"/>
                  <a:pt x="21968" y="7216"/>
                  <a:pt x="21828" y="7020"/>
                </a:cubicBezTo>
                <a:cubicBezTo>
                  <a:pt x="21696" y="6836"/>
                  <a:pt x="21509" y="6966"/>
                  <a:pt x="21357" y="7020"/>
                </a:cubicBezTo>
              </a:path>
              <a:path w="2258" h="1192">
                <a:moveTo>
                  <a:pt x="21927" y="6548"/>
                </a:moveTo>
                <a:cubicBezTo>
                  <a:pt x="21882" y="6633"/>
                  <a:pt x="21853" y="6661"/>
                  <a:pt x="21878" y="6747"/>
                </a:cubicBezTo>
                <a:cubicBezTo>
                  <a:pt x="21902" y="6732"/>
                  <a:pt x="22090" y="6598"/>
                  <a:pt x="21952" y="6598"/>
                </a:cubicBezTo>
                <a:cubicBezTo>
                  <a:pt x="21911" y="6606"/>
                  <a:pt x="21869" y="6615"/>
                  <a:pt x="21828" y="662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902280" y="4884840"/>
            <a:ext cx="1162080" cy="322200"/>
          </a:xfrm>
          <a:custGeom>
            <a:avLst/>
            <a:gdLst/>
            <a:ahLst/>
            <a:rect l="l" t="t" r="r" b="b"/>
            <a:pathLst>
              <a:path w="3226" h="894">
                <a:moveTo>
                  <a:pt x="19496" y="13990"/>
                </a:moveTo>
                <a:cubicBezTo>
                  <a:pt x="19478" y="13918"/>
                  <a:pt x="19419" y="13803"/>
                  <a:pt x="19323" y="13866"/>
                </a:cubicBezTo>
                <a:cubicBezTo>
                  <a:pt x="19140" y="13987"/>
                  <a:pt x="19185" y="14243"/>
                  <a:pt x="19224" y="14412"/>
                </a:cubicBezTo>
                <a:cubicBezTo>
                  <a:pt x="19392" y="14449"/>
                  <a:pt x="19615" y="14427"/>
                  <a:pt x="19645" y="14188"/>
                </a:cubicBezTo>
                <a:cubicBezTo>
                  <a:pt x="19669" y="13996"/>
                  <a:pt x="19498" y="13932"/>
                  <a:pt x="19348" y="13915"/>
                </a:cubicBezTo>
                <a:cubicBezTo>
                  <a:pt x="19340" y="13915"/>
                  <a:pt x="19331" y="13915"/>
                  <a:pt x="19323" y="13915"/>
                </a:cubicBezTo>
              </a:path>
              <a:path w="3226" h="894">
                <a:moveTo>
                  <a:pt x="19670" y="13667"/>
                </a:moveTo>
                <a:cubicBezTo>
                  <a:pt x="19752" y="13832"/>
                  <a:pt x="19832" y="14006"/>
                  <a:pt x="19869" y="14188"/>
                </a:cubicBezTo>
                <a:cubicBezTo>
                  <a:pt x="19869" y="14213"/>
                  <a:pt x="19869" y="14238"/>
                  <a:pt x="19869" y="14263"/>
                </a:cubicBezTo>
                <a:cubicBezTo>
                  <a:pt x="19869" y="14156"/>
                  <a:pt x="19858" y="14044"/>
                  <a:pt x="19893" y="13940"/>
                </a:cubicBezTo>
                <a:cubicBezTo>
                  <a:pt x="19910" y="13915"/>
                  <a:pt x="19926" y="13891"/>
                  <a:pt x="19943" y="13866"/>
                </a:cubicBezTo>
                <a:cubicBezTo>
                  <a:pt x="20109" y="13874"/>
                  <a:pt x="20303" y="13956"/>
                  <a:pt x="20216" y="14188"/>
                </a:cubicBezTo>
                <a:cubicBezTo>
                  <a:pt x="20157" y="14345"/>
                  <a:pt x="19904" y="14353"/>
                  <a:pt x="19819" y="14213"/>
                </a:cubicBezTo>
                <a:cubicBezTo>
                  <a:pt x="19819" y="14188"/>
                  <a:pt x="19819" y="14164"/>
                  <a:pt x="19819" y="14139"/>
                </a:cubicBezTo>
              </a:path>
              <a:path w="3226" h="894">
                <a:moveTo>
                  <a:pt x="20464" y="13593"/>
                </a:moveTo>
                <a:cubicBezTo>
                  <a:pt x="20518" y="13796"/>
                  <a:pt x="20558" y="13977"/>
                  <a:pt x="20563" y="14188"/>
                </a:cubicBezTo>
                <a:cubicBezTo>
                  <a:pt x="20565" y="14280"/>
                  <a:pt x="20586" y="14365"/>
                  <a:pt x="20538" y="14238"/>
                </a:cubicBezTo>
              </a:path>
              <a:path w="3226" h="894">
                <a:moveTo>
                  <a:pt x="20290" y="13915"/>
                </a:moveTo>
                <a:cubicBezTo>
                  <a:pt x="20464" y="13883"/>
                  <a:pt x="20638" y="13860"/>
                  <a:pt x="20811" y="13841"/>
                </a:cubicBezTo>
                <a:cubicBezTo>
                  <a:pt x="20828" y="13841"/>
                  <a:pt x="20844" y="13841"/>
                  <a:pt x="20861" y="13841"/>
                </a:cubicBezTo>
                <a:cubicBezTo>
                  <a:pt x="20861" y="13977"/>
                  <a:pt x="20836" y="14146"/>
                  <a:pt x="20886" y="14263"/>
                </a:cubicBezTo>
                <a:cubicBezTo>
                  <a:pt x="20997" y="14200"/>
                  <a:pt x="21178" y="14120"/>
                  <a:pt x="21183" y="13965"/>
                </a:cubicBezTo>
                <a:cubicBezTo>
                  <a:pt x="21175" y="13940"/>
                  <a:pt x="21166" y="13916"/>
                  <a:pt x="21158" y="13891"/>
                </a:cubicBezTo>
                <a:cubicBezTo>
                  <a:pt x="21089" y="13771"/>
                  <a:pt x="21127" y="14019"/>
                  <a:pt x="21134" y="14064"/>
                </a:cubicBezTo>
                <a:cubicBezTo>
                  <a:pt x="21158" y="14219"/>
                  <a:pt x="21230" y="14166"/>
                  <a:pt x="21332" y="14139"/>
                </a:cubicBezTo>
              </a:path>
              <a:path w="3226" h="894">
                <a:moveTo>
                  <a:pt x="21779" y="13667"/>
                </a:moveTo>
                <a:cubicBezTo>
                  <a:pt x="21700" y="13677"/>
                  <a:pt x="21481" y="13715"/>
                  <a:pt x="21456" y="13816"/>
                </a:cubicBezTo>
                <a:cubicBezTo>
                  <a:pt x="21464" y="13833"/>
                  <a:pt x="21473" y="13849"/>
                  <a:pt x="21481" y="13866"/>
                </a:cubicBezTo>
                <a:cubicBezTo>
                  <a:pt x="21625" y="13898"/>
                  <a:pt x="21767" y="13891"/>
                  <a:pt x="21828" y="14015"/>
                </a:cubicBezTo>
                <a:cubicBezTo>
                  <a:pt x="21770" y="14057"/>
                  <a:pt x="21488" y="14220"/>
                  <a:pt x="21431" y="14089"/>
                </a:cubicBezTo>
                <a:cubicBezTo>
                  <a:pt x="21439" y="14056"/>
                  <a:pt x="21448" y="14023"/>
                  <a:pt x="21456" y="13990"/>
                </a:cubicBezTo>
              </a:path>
              <a:path w="3226" h="894">
                <a:moveTo>
                  <a:pt x="21952" y="13742"/>
                </a:moveTo>
                <a:cubicBezTo>
                  <a:pt x="22075" y="13742"/>
                  <a:pt x="22219" y="13762"/>
                  <a:pt x="22324" y="13717"/>
                </a:cubicBezTo>
                <a:cubicBezTo>
                  <a:pt x="22288" y="13658"/>
                  <a:pt x="22299" y="13561"/>
                  <a:pt x="22200" y="13568"/>
                </a:cubicBezTo>
                <a:cubicBezTo>
                  <a:pt x="22065" y="13578"/>
                  <a:pt x="21856" y="13766"/>
                  <a:pt x="21878" y="13915"/>
                </a:cubicBezTo>
                <a:cubicBezTo>
                  <a:pt x="21906" y="14105"/>
                  <a:pt x="22254" y="14096"/>
                  <a:pt x="22374" y="14039"/>
                </a:cubicBezTo>
                <a:cubicBezTo>
                  <a:pt x="22382" y="14023"/>
                  <a:pt x="22391" y="14006"/>
                  <a:pt x="22399" y="1399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304040" y="5402160"/>
            <a:ext cx="233280" cy="285840"/>
          </a:xfrm>
          <a:custGeom>
            <a:avLst/>
            <a:gdLst/>
            <a:ahLst/>
            <a:rect l="l" t="t" r="r" b="b"/>
            <a:pathLst>
              <a:path w="646" h="795">
                <a:moveTo>
                  <a:pt x="20290" y="15032"/>
                </a:moveTo>
                <a:cubicBezTo>
                  <a:pt x="20311" y="14970"/>
                  <a:pt x="20442" y="15069"/>
                  <a:pt x="20489" y="15081"/>
                </a:cubicBezTo>
                <a:cubicBezTo>
                  <a:pt x="20632" y="15117"/>
                  <a:pt x="20810" y="15102"/>
                  <a:pt x="20935" y="15156"/>
                </a:cubicBezTo>
                <a:cubicBezTo>
                  <a:pt x="20781" y="15324"/>
                  <a:pt x="20632" y="15499"/>
                  <a:pt x="20489" y="15677"/>
                </a:cubicBezTo>
                <a:cubicBezTo>
                  <a:pt x="20414" y="15770"/>
                  <a:pt x="20361" y="15785"/>
                  <a:pt x="20439" y="1580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732800" y="5153040"/>
            <a:ext cx="428400" cy="482760"/>
          </a:xfrm>
          <a:custGeom>
            <a:avLst/>
            <a:gdLst/>
            <a:ahLst/>
            <a:rect l="l" t="t" r="r" b="b"/>
            <a:pathLst>
              <a:path w="1191" h="1341">
                <a:moveTo>
                  <a:pt x="21828" y="15106"/>
                </a:moveTo>
                <a:cubicBezTo>
                  <a:pt x="21898" y="15089"/>
                  <a:pt x="21895" y="15030"/>
                  <a:pt x="21853" y="14957"/>
                </a:cubicBezTo>
                <a:cubicBezTo>
                  <a:pt x="21753" y="14783"/>
                  <a:pt x="21589" y="14927"/>
                  <a:pt x="21530" y="15032"/>
                </a:cubicBezTo>
                <a:cubicBezTo>
                  <a:pt x="21482" y="15154"/>
                  <a:pt x="21465" y="15193"/>
                  <a:pt x="21506" y="15280"/>
                </a:cubicBezTo>
                <a:cubicBezTo>
                  <a:pt x="21755" y="15293"/>
                  <a:pt x="21809" y="15227"/>
                  <a:pt x="21903" y="15007"/>
                </a:cubicBezTo>
                <a:cubicBezTo>
                  <a:pt x="21911" y="14990"/>
                  <a:pt x="21919" y="14974"/>
                  <a:pt x="21927" y="14957"/>
                </a:cubicBezTo>
                <a:cubicBezTo>
                  <a:pt x="21905" y="15113"/>
                  <a:pt x="21865" y="15270"/>
                  <a:pt x="21853" y="15429"/>
                </a:cubicBezTo>
                <a:cubicBezTo>
                  <a:pt x="21845" y="15534"/>
                  <a:pt x="21771" y="15713"/>
                  <a:pt x="21878" y="15577"/>
                </a:cubicBezTo>
                <a:cubicBezTo>
                  <a:pt x="21919" y="15528"/>
                  <a:pt x="21961" y="15478"/>
                  <a:pt x="22002" y="15429"/>
                </a:cubicBezTo>
              </a:path>
              <a:path w="1191" h="1341">
                <a:moveTo>
                  <a:pt x="22250" y="14858"/>
                </a:moveTo>
                <a:cubicBezTo>
                  <a:pt x="22166" y="15024"/>
                  <a:pt x="22145" y="15166"/>
                  <a:pt x="22175" y="15354"/>
                </a:cubicBezTo>
                <a:cubicBezTo>
                  <a:pt x="22183" y="15387"/>
                  <a:pt x="22192" y="15420"/>
                  <a:pt x="22200" y="15453"/>
                </a:cubicBezTo>
                <a:cubicBezTo>
                  <a:pt x="22394" y="15477"/>
                  <a:pt x="22499" y="15438"/>
                  <a:pt x="22572" y="15230"/>
                </a:cubicBezTo>
                <a:cubicBezTo>
                  <a:pt x="22640" y="15036"/>
                  <a:pt x="22549" y="14805"/>
                  <a:pt x="22324" y="14784"/>
                </a:cubicBezTo>
                <a:cubicBezTo>
                  <a:pt x="22283" y="14792"/>
                  <a:pt x="22241" y="14800"/>
                  <a:pt x="22200" y="14808"/>
                </a:cubicBezTo>
              </a:path>
              <a:path w="1191" h="1341">
                <a:moveTo>
                  <a:pt x="22547" y="14312"/>
                </a:moveTo>
                <a:cubicBezTo>
                  <a:pt x="22500" y="14373"/>
                  <a:pt x="22496" y="14406"/>
                  <a:pt x="22473" y="14486"/>
                </a:cubicBezTo>
                <a:cubicBezTo>
                  <a:pt x="22571" y="14523"/>
                  <a:pt x="22605" y="14515"/>
                  <a:pt x="22671" y="14436"/>
                </a:cubicBezTo>
                <a:cubicBezTo>
                  <a:pt x="22617" y="14370"/>
                  <a:pt x="22621" y="14387"/>
                  <a:pt x="22523" y="1438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  <p:sndAc>
      <p:stSnd>
        <p:snd r:embed="rId3" name="chimes.wav"/>
      </p:stSnd>
    </p:sndAc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howcard Gothic"/>
              </a:rPr>
              <a:t>More classifying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ight Angl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An angle that is 90 degre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raight Angl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An angle that is 180 degrees or a straight lin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276720" y="2438280"/>
            <a:ext cx="2100240" cy="13716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2666880" y="5562720"/>
            <a:ext cx="4067280" cy="2952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7134120" y="4303800"/>
            <a:ext cx="27000" cy="169920"/>
          </a:xfrm>
          <a:custGeom>
            <a:avLst/>
            <a:gdLst/>
            <a:ahLst/>
            <a:rect l="l" t="t" r="r" b="b"/>
            <a:pathLst>
              <a:path w="75" h="472">
                <a:moveTo>
                  <a:pt x="19844" y="11981"/>
                </a:moveTo>
                <a:cubicBezTo>
                  <a:pt x="19819" y="11981"/>
                  <a:pt x="19811" y="11981"/>
                  <a:pt x="19819" y="11956"/>
                </a:cubicBezTo>
                <a:cubicBezTo>
                  <a:pt x="19836" y="12092"/>
                  <a:pt x="19844" y="12246"/>
                  <a:pt x="19869" y="12378"/>
                </a:cubicBezTo>
                <a:cubicBezTo>
                  <a:pt x="19891" y="12496"/>
                  <a:pt x="19893" y="12399"/>
                  <a:pt x="19893" y="1237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081840" y="2938320"/>
            <a:ext cx="973080" cy="554040"/>
          </a:xfrm>
          <a:custGeom>
            <a:avLst/>
            <a:gdLst/>
            <a:ahLst/>
            <a:rect l="l" t="t" r="r" b="b"/>
            <a:pathLst>
              <a:path w="2705" h="1539">
                <a:moveTo>
                  <a:pt x="16917" y="8483"/>
                </a:moveTo>
                <a:cubicBezTo>
                  <a:pt x="16957" y="8696"/>
                  <a:pt x="17032" y="8878"/>
                  <a:pt x="17041" y="9103"/>
                </a:cubicBezTo>
                <a:cubicBezTo>
                  <a:pt x="17041" y="9178"/>
                  <a:pt x="17041" y="9186"/>
                  <a:pt x="17041" y="9227"/>
                </a:cubicBezTo>
                <a:cubicBezTo>
                  <a:pt x="16987" y="8978"/>
                  <a:pt x="16910" y="8746"/>
                  <a:pt x="16892" y="8483"/>
                </a:cubicBezTo>
                <a:cubicBezTo>
                  <a:pt x="16892" y="8319"/>
                  <a:pt x="16884" y="8267"/>
                  <a:pt x="17016" y="8235"/>
                </a:cubicBezTo>
                <a:cubicBezTo>
                  <a:pt x="17142" y="8273"/>
                  <a:pt x="17437" y="8348"/>
                  <a:pt x="17314" y="8558"/>
                </a:cubicBezTo>
                <a:cubicBezTo>
                  <a:pt x="17262" y="8647"/>
                  <a:pt x="17040" y="8732"/>
                  <a:pt x="17041" y="8682"/>
                </a:cubicBezTo>
                <a:cubicBezTo>
                  <a:pt x="17188" y="8762"/>
                  <a:pt x="17355" y="8850"/>
                  <a:pt x="17438" y="9004"/>
                </a:cubicBezTo>
                <a:cubicBezTo>
                  <a:pt x="17462" y="9103"/>
                  <a:pt x="17470" y="9136"/>
                  <a:pt x="17487" y="9004"/>
                </a:cubicBezTo>
              </a:path>
              <a:path w="2705" h="1539">
                <a:moveTo>
                  <a:pt x="17686" y="8731"/>
                </a:moveTo>
                <a:cubicBezTo>
                  <a:pt x="17717" y="8854"/>
                  <a:pt x="17737" y="8929"/>
                  <a:pt x="17810" y="9029"/>
                </a:cubicBezTo>
              </a:path>
              <a:path w="2705" h="1539">
                <a:moveTo>
                  <a:pt x="17537" y="8458"/>
                </a:moveTo>
                <a:cubicBezTo>
                  <a:pt x="17570" y="8475"/>
                  <a:pt x="17603" y="8491"/>
                  <a:pt x="17636" y="8508"/>
                </a:cubicBezTo>
              </a:path>
              <a:path w="2705" h="1539">
                <a:moveTo>
                  <a:pt x="18256" y="8731"/>
                </a:moveTo>
                <a:cubicBezTo>
                  <a:pt x="18144" y="8712"/>
                  <a:pt x="18101" y="8698"/>
                  <a:pt x="18033" y="8830"/>
                </a:cubicBezTo>
                <a:cubicBezTo>
                  <a:pt x="17995" y="8903"/>
                  <a:pt x="17881" y="9289"/>
                  <a:pt x="18107" y="9103"/>
                </a:cubicBezTo>
                <a:cubicBezTo>
                  <a:pt x="18182" y="9003"/>
                  <a:pt x="18208" y="8970"/>
                  <a:pt x="18207" y="8880"/>
                </a:cubicBezTo>
                <a:cubicBezTo>
                  <a:pt x="18094" y="8767"/>
                  <a:pt x="18276" y="9069"/>
                  <a:pt x="18281" y="9079"/>
                </a:cubicBezTo>
                <a:cubicBezTo>
                  <a:pt x="18405" y="9332"/>
                  <a:pt x="18460" y="9571"/>
                  <a:pt x="18132" y="9674"/>
                </a:cubicBezTo>
                <a:cubicBezTo>
                  <a:pt x="17834" y="9768"/>
                  <a:pt x="17804" y="9608"/>
                  <a:pt x="17686" y="9401"/>
                </a:cubicBezTo>
              </a:path>
              <a:path w="2705" h="1539">
                <a:moveTo>
                  <a:pt x="18430" y="8334"/>
                </a:moveTo>
                <a:cubicBezTo>
                  <a:pt x="18516" y="8506"/>
                  <a:pt x="18549" y="8716"/>
                  <a:pt x="18604" y="8905"/>
                </a:cubicBezTo>
                <a:cubicBezTo>
                  <a:pt x="18623" y="8962"/>
                  <a:pt x="18631" y="8969"/>
                  <a:pt x="18628" y="9004"/>
                </a:cubicBezTo>
                <a:cubicBezTo>
                  <a:pt x="18628" y="8869"/>
                  <a:pt x="18587" y="8681"/>
                  <a:pt x="18653" y="8558"/>
                </a:cubicBezTo>
                <a:cubicBezTo>
                  <a:pt x="18678" y="8533"/>
                  <a:pt x="18703" y="8508"/>
                  <a:pt x="18728" y="8483"/>
                </a:cubicBezTo>
                <a:cubicBezTo>
                  <a:pt x="18892" y="8612"/>
                  <a:pt x="18962" y="8714"/>
                  <a:pt x="19000" y="8930"/>
                </a:cubicBezTo>
                <a:cubicBezTo>
                  <a:pt x="19000" y="8946"/>
                  <a:pt x="19000" y="8963"/>
                  <a:pt x="19000" y="8979"/>
                </a:cubicBezTo>
              </a:path>
              <a:path w="2705" h="1539">
                <a:moveTo>
                  <a:pt x="19224" y="8434"/>
                </a:moveTo>
                <a:cubicBezTo>
                  <a:pt x="19277" y="8607"/>
                  <a:pt x="19474" y="9103"/>
                  <a:pt x="19372" y="8954"/>
                </a:cubicBezTo>
                <a:cubicBezTo>
                  <a:pt x="19356" y="8921"/>
                  <a:pt x="19339" y="8888"/>
                  <a:pt x="19323" y="8855"/>
                </a:cubicBezTo>
              </a:path>
              <a:path w="2705" h="1539">
                <a:moveTo>
                  <a:pt x="19100" y="8508"/>
                </a:moveTo>
                <a:cubicBezTo>
                  <a:pt x="19267" y="8500"/>
                  <a:pt x="19428" y="8483"/>
                  <a:pt x="19596" y="8483"/>
                </a:cubicBezTo>
              </a:path>
              <a:path w="2705" h="1539">
                <a:moveTo>
                  <a:pt x="19149" y="8310"/>
                </a:moveTo>
                <a:cubicBezTo>
                  <a:pt x="19149" y="8259"/>
                  <a:pt x="19138" y="8251"/>
                  <a:pt x="19124" y="8210"/>
                </a:cubicBezTo>
                <a:cubicBezTo>
                  <a:pt x="19124" y="8182"/>
                  <a:pt x="19122" y="8172"/>
                  <a:pt x="19100" y="8161"/>
                </a:cubicBezTo>
                <a:cubicBezTo>
                  <a:pt x="19124" y="8262"/>
                  <a:pt x="19190" y="8376"/>
                  <a:pt x="19224" y="8483"/>
                </a:cubicBezTo>
                <a:cubicBezTo>
                  <a:pt x="19266" y="8617"/>
                  <a:pt x="19292" y="8620"/>
                  <a:pt x="19224" y="853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296120" y="2830680"/>
            <a:ext cx="865080" cy="465120"/>
          </a:xfrm>
          <a:custGeom>
            <a:avLst/>
            <a:gdLst/>
            <a:ahLst/>
            <a:rect l="l" t="t" r="r" b="b"/>
            <a:pathLst>
              <a:path w="2407" h="1291">
                <a:moveTo>
                  <a:pt x="20265" y="8657"/>
                </a:moveTo>
                <a:cubicBezTo>
                  <a:pt x="20436" y="8649"/>
                  <a:pt x="20643" y="8578"/>
                  <a:pt x="20811" y="8607"/>
                </a:cubicBezTo>
                <a:cubicBezTo>
                  <a:pt x="20819" y="8615"/>
                  <a:pt x="20828" y="8624"/>
                  <a:pt x="20836" y="8632"/>
                </a:cubicBezTo>
              </a:path>
              <a:path w="2407" h="1291">
                <a:moveTo>
                  <a:pt x="20439" y="8954"/>
                </a:moveTo>
                <a:cubicBezTo>
                  <a:pt x="20623" y="8918"/>
                  <a:pt x="20802" y="8873"/>
                  <a:pt x="20985" y="8830"/>
                </a:cubicBezTo>
              </a:path>
              <a:path w="2407" h="1291">
                <a:moveTo>
                  <a:pt x="21878" y="8558"/>
                </a:moveTo>
                <a:cubicBezTo>
                  <a:pt x="21857" y="8454"/>
                  <a:pt x="21780" y="8266"/>
                  <a:pt x="21630" y="8285"/>
                </a:cubicBezTo>
                <a:cubicBezTo>
                  <a:pt x="21340" y="8321"/>
                  <a:pt x="21327" y="8567"/>
                  <a:pt x="21406" y="8756"/>
                </a:cubicBezTo>
                <a:cubicBezTo>
                  <a:pt x="21687" y="8770"/>
                  <a:pt x="21717" y="8664"/>
                  <a:pt x="21853" y="8434"/>
                </a:cubicBezTo>
                <a:cubicBezTo>
                  <a:pt x="21861" y="8426"/>
                  <a:pt x="21870" y="8417"/>
                  <a:pt x="21878" y="8409"/>
                </a:cubicBezTo>
                <a:cubicBezTo>
                  <a:pt x="21852" y="8562"/>
                  <a:pt x="21881" y="8697"/>
                  <a:pt x="21903" y="8855"/>
                </a:cubicBezTo>
                <a:cubicBezTo>
                  <a:pt x="21927" y="9025"/>
                  <a:pt x="21883" y="9228"/>
                  <a:pt x="22027" y="9054"/>
                </a:cubicBezTo>
              </a:path>
              <a:path w="2407" h="1291">
                <a:moveTo>
                  <a:pt x="22349" y="8260"/>
                </a:moveTo>
                <a:cubicBezTo>
                  <a:pt x="22222" y="8429"/>
                  <a:pt x="22130" y="8637"/>
                  <a:pt x="22126" y="8855"/>
                </a:cubicBezTo>
                <a:cubicBezTo>
                  <a:pt x="22151" y="8978"/>
                  <a:pt x="22159" y="9019"/>
                  <a:pt x="22250" y="9054"/>
                </a:cubicBezTo>
                <a:cubicBezTo>
                  <a:pt x="22488" y="8985"/>
                  <a:pt x="22686" y="8887"/>
                  <a:pt x="22622" y="8582"/>
                </a:cubicBezTo>
                <a:cubicBezTo>
                  <a:pt x="22565" y="8309"/>
                  <a:pt x="22277" y="8355"/>
                  <a:pt x="22076" y="8384"/>
                </a:cubicBezTo>
              </a:path>
              <a:path w="2407" h="1291">
                <a:moveTo>
                  <a:pt x="22647" y="7863"/>
                </a:moveTo>
                <a:cubicBezTo>
                  <a:pt x="22555" y="7932"/>
                  <a:pt x="22523" y="7975"/>
                  <a:pt x="22547" y="8086"/>
                </a:cubicBezTo>
                <a:cubicBezTo>
                  <a:pt x="22670" y="8073"/>
                  <a:pt x="22699" y="8067"/>
                  <a:pt x="22622" y="796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384720" y="3581280"/>
            <a:ext cx="268200" cy="177840"/>
          </a:xfrm>
          <a:custGeom>
            <a:avLst/>
            <a:gdLst/>
            <a:ahLst/>
            <a:rect l="l" t="t" r="r" b="b"/>
            <a:pathLst>
              <a:path w="745" h="497">
                <a:moveTo>
                  <a:pt x="9401" y="9947"/>
                </a:moveTo>
                <a:cubicBezTo>
                  <a:pt x="9446" y="9947"/>
                  <a:pt x="9460" y="9967"/>
                  <a:pt x="9500" y="9971"/>
                </a:cubicBezTo>
                <a:cubicBezTo>
                  <a:pt x="9540" y="9975"/>
                  <a:pt x="9554" y="9996"/>
                  <a:pt x="9599" y="9996"/>
                </a:cubicBezTo>
                <a:cubicBezTo>
                  <a:pt x="9662" y="9996"/>
                  <a:pt x="9696" y="10004"/>
                  <a:pt x="9748" y="10021"/>
                </a:cubicBezTo>
                <a:cubicBezTo>
                  <a:pt x="9780" y="10032"/>
                  <a:pt x="9818" y="10036"/>
                  <a:pt x="9847" y="10046"/>
                </a:cubicBezTo>
                <a:cubicBezTo>
                  <a:pt x="9916" y="10069"/>
                  <a:pt x="10023" y="10046"/>
                  <a:pt x="10096" y="10046"/>
                </a:cubicBezTo>
                <a:cubicBezTo>
                  <a:pt x="10096" y="10151"/>
                  <a:pt x="10090" y="10253"/>
                  <a:pt x="10120" y="10344"/>
                </a:cubicBezTo>
                <a:cubicBezTo>
                  <a:pt x="10135" y="10391"/>
                  <a:pt x="10112" y="10399"/>
                  <a:pt x="10145" y="1044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786120" y="3089160"/>
            <a:ext cx="428760" cy="358920"/>
          </a:xfrm>
          <a:custGeom>
            <a:avLst/>
            <a:gdLst/>
            <a:ahLst/>
            <a:rect l="l" t="t" r="r" b="b"/>
            <a:pathLst>
              <a:path w="1192" h="994">
                <a:moveTo>
                  <a:pt x="10964" y="9004"/>
                </a:moveTo>
                <a:cubicBezTo>
                  <a:pt x="10930" y="8911"/>
                  <a:pt x="10889" y="8806"/>
                  <a:pt x="10765" y="8806"/>
                </a:cubicBezTo>
                <a:cubicBezTo>
                  <a:pt x="10610" y="8806"/>
                  <a:pt x="10541" y="9043"/>
                  <a:pt x="10517" y="9153"/>
                </a:cubicBezTo>
                <a:cubicBezTo>
                  <a:pt x="10680" y="9183"/>
                  <a:pt x="10771" y="9124"/>
                  <a:pt x="10864" y="8979"/>
                </a:cubicBezTo>
                <a:cubicBezTo>
                  <a:pt x="10864" y="8971"/>
                  <a:pt x="10864" y="8962"/>
                  <a:pt x="10864" y="8954"/>
                </a:cubicBezTo>
                <a:cubicBezTo>
                  <a:pt x="10843" y="9107"/>
                  <a:pt x="10820" y="9248"/>
                  <a:pt x="10790" y="9401"/>
                </a:cubicBezTo>
                <a:cubicBezTo>
                  <a:pt x="10777" y="9467"/>
                  <a:pt x="10765" y="9617"/>
                  <a:pt x="10765" y="9550"/>
                </a:cubicBezTo>
              </a:path>
              <a:path w="1192" h="994">
                <a:moveTo>
                  <a:pt x="11187" y="8905"/>
                </a:moveTo>
                <a:cubicBezTo>
                  <a:pt x="11145" y="9029"/>
                  <a:pt x="11064" y="9270"/>
                  <a:pt x="11088" y="9401"/>
                </a:cubicBezTo>
                <a:cubicBezTo>
                  <a:pt x="11104" y="9418"/>
                  <a:pt x="11121" y="9434"/>
                  <a:pt x="11137" y="9451"/>
                </a:cubicBezTo>
                <a:cubicBezTo>
                  <a:pt x="11282" y="9409"/>
                  <a:pt x="11455" y="9297"/>
                  <a:pt x="11435" y="9103"/>
                </a:cubicBezTo>
                <a:cubicBezTo>
                  <a:pt x="11419" y="8949"/>
                  <a:pt x="11242" y="8934"/>
                  <a:pt x="11137" y="8954"/>
                </a:cubicBezTo>
              </a:path>
              <a:path w="1192" h="994">
                <a:moveTo>
                  <a:pt x="11584" y="8607"/>
                </a:moveTo>
                <a:cubicBezTo>
                  <a:pt x="11558" y="8712"/>
                  <a:pt x="11540" y="8712"/>
                  <a:pt x="11609" y="8781"/>
                </a:cubicBezTo>
                <a:cubicBezTo>
                  <a:pt x="11709" y="8756"/>
                  <a:pt x="11755" y="8693"/>
                  <a:pt x="11658" y="8607"/>
                </a:cubicBezTo>
                <a:cubicBezTo>
                  <a:pt x="11599" y="8577"/>
                  <a:pt x="11572" y="8575"/>
                  <a:pt x="11534" y="863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46040" y="5875200"/>
            <a:ext cx="162000" cy="9720"/>
          </a:xfrm>
          <a:custGeom>
            <a:avLst/>
            <a:gdLst/>
            <a:ahLst/>
            <a:rect l="l" t="t" r="r" b="b"/>
            <a:pathLst>
              <a:path w="448" h="26">
                <a:moveTo>
                  <a:pt x="1687" y="16321"/>
                </a:moveTo>
                <a:cubicBezTo>
                  <a:pt x="1633" y="16321"/>
                  <a:pt x="1692" y="16334"/>
                  <a:pt x="1588" y="16346"/>
                </a:cubicBezTo>
              </a:path>
              <a:path w="448" h="26">
                <a:moveTo>
                  <a:pt x="1240" y="16321"/>
                </a:moveTo>
                <a:cubicBezTo>
                  <a:pt x="1270" y="16328"/>
                  <a:pt x="1285" y="16339"/>
                  <a:pt x="1315" y="1634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30160" y="6438960"/>
            <a:ext cx="27000" cy="27000"/>
          </a:xfrm>
          <a:custGeom>
            <a:avLst/>
            <a:gdLst/>
            <a:ahLst/>
            <a:rect l="l" t="t" r="r" b="b"/>
            <a:pathLst>
              <a:path w="75" h="76">
                <a:moveTo>
                  <a:pt x="2307" y="17884"/>
                </a:moveTo>
                <a:cubicBezTo>
                  <a:pt x="2340" y="17917"/>
                  <a:pt x="2357" y="17934"/>
                  <a:pt x="2381" y="1795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71680" y="6456240"/>
            <a:ext cx="17280" cy="17640"/>
          </a:xfrm>
          <a:custGeom>
            <a:avLst/>
            <a:gdLst/>
            <a:ahLst/>
            <a:rect l="l" t="t" r="r" b="b"/>
            <a:pathLst>
              <a:path w="50" h="50">
                <a:moveTo>
                  <a:pt x="1588" y="17934"/>
                </a:moveTo>
                <a:cubicBezTo>
                  <a:pt x="1623" y="17961"/>
                  <a:pt x="1637" y="17991"/>
                  <a:pt x="1637" y="1795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96960" y="6089760"/>
            <a:ext cx="61920" cy="54000"/>
          </a:xfrm>
          <a:custGeom>
            <a:avLst/>
            <a:gdLst/>
            <a:ahLst/>
            <a:rect l="l" t="t" r="r" b="b"/>
            <a:pathLst>
              <a:path w="174" h="150">
                <a:moveTo>
                  <a:pt x="2108" y="16917"/>
                </a:moveTo>
                <a:cubicBezTo>
                  <a:pt x="2108" y="16942"/>
                  <a:pt x="2108" y="16950"/>
                  <a:pt x="2108" y="16966"/>
                </a:cubicBezTo>
              </a:path>
              <a:path w="174" h="150">
                <a:moveTo>
                  <a:pt x="1935" y="17016"/>
                </a:moveTo>
                <a:cubicBezTo>
                  <a:pt x="1981" y="17078"/>
                  <a:pt x="1959" y="17081"/>
                  <a:pt x="2034" y="1701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599000" y="5867280"/>
            <a:ext cx="133200" cy="223920"/>
          </a:xfrm>
          <a:custGeom>
            <a:avLst/>
            <a:gdLst/>
            <a:ahLst/>
            <a:rect l="l" t="t" r="r" b="b"/>
            <a:pathLst>
              <a:path w="373" h="621">
                <a:moveTo>
                  <a:pt x="12973" y="16396"/>
                </a:moveTo>
                <a:cubicBezTo>
                  <a:pt x="12933" y="16343"/>
                  <a:pt x="12934" y="16329"/>
                  <a:pt x="12898" y="16470"/>
                </a:cubicBezTo>
                <a:cubicBezTo>
                  <a:pt x="12863" y="16608"/>
                  <a:pt x="12845" y="16695"/>
                  <a:pt x="12774" y="16818"/>
                </a:cubicBezTo>
                <a:cubicBezTo>
                  <a:pt x="12774" y="16876"/>
                  <a:pt x="12785" y="16751"/>
                  <a:pt x="12799" y="16694"/>
                </a:cubicBezTo>
                <a:cubicBezTo>
                  <a:pt x="12831" y="16561"/>
                  <a:pt x="12892" y="16432"/>
                  <a:pt x="12973" y="16321"/>
                </a:cubicBezTo>
                <a:cubicBezTo>
                  <a:pt x="12981" y="16313"/>
                  <a:pt x="12990" y="16305"/>
                  <a:pt x="12998" y="16297"/>
                </a:cubicBezTo>
                <a:cubicBezTo>
                  <a:pt x="13035" y="16427"/>
                  <a:pt x="13067" y="16558"/>
                  <a:pt x="13097" y="16694"/>
                </a:cubicBezTo>
                <a:cubicBezTo>
                  <a:pt x="13114" y="16769"/>
                  <a:pt x="13146" y="16994"/>
                  <a:pt x="13146" y="16917"/>
                </a:cubicBezTo>
                <a:cubicBezTo>
                  <a:pt x="13146" y="16909"/>
                  <a:pt x="13146" y="16900"/>
                  <a:pt x="13146" y="16892"/>
                </a:cubicBezTo>
              </a:path>
              <a:path w="373" h="621">
                <a:moveTo>
                  <a:pt x="12874" y="16718"/>
                </a:moveTo>
                <a:cubicBezTo>
                  <a:pt x="12921" y="16709"/>
                  <a:pt x="13003" y="16641"/>
                  <a:pt x="13047" y="16644"/>
                </a:cubicBezTo>
                <a:cubicBezTo>
                  <a:pt x="13055" y="16652"/>
                  <a:pt x="13064" y="16661"/>
                  <a:pt x="13072" y="1666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830920" y="5830920"/>
            <a:ext cx="152280" cy="277920"/>
          </a:xfrm>
          <a:custGeom>
            <a:avLst/>
            <a:gdLst/>
            <a:ahLst/>
            <a:rect l="l" t="t" r="r" b="b"/>
            <a:pathLst>
              <a:path w="423" h="770">
                <a:moveTo>
                  <a:pt x="16321" y="16371"/>
                </a:moveTo>
                <a:cubicBezTo>
                  <a:pt x="16281" y="16361"/>
                  <a:pt x="16262" y="16335"/>
                  <a:pt x="16247" y="16396"/>
                </a:cubicBezTo>
                <a:cubicBezTo>
                  <a:pt x="16210" y="16551"/>
                  <a:pt x="16222" y="16713"/>
                  <a:pt x="16197" y="16867"/>
                </a:cubicBezTo>
                <a:cubicBezTo>
                  <a:pt x="16197" y="16875"/>
                  <a:pt x="16197" y="16884"/>
                  <a:pt x="16197" y="16892"/>
                </a:cubicBezTo>
                <a:cubicBezTo>
                  <a:pt x="16197" y="16789"/>
                  <a:pt x="16219" y="16697"/>
                  <a:pt x="16222" y="16594"/>
                </a:cubicBezTo>
                <a:cubicBezTo>
                  <a:pt x="16225" y="16473"/>
                  <a:pt x="16225" y="16386"/>
                  <a:pt x="16272" y="16272"/>
                </a:cubicBezTo>
                <a:cubicBezTo>
                  <a:pt x="16297" y="16222"/>
                  <a:pt x="16305" y="16206"/>
                  <a:pt x="16346" y="16197"/>
                </a:cubicBezTo>
                <a:cubicBezTo>
                  <a:pt x="16435" y="16257"/>
                  <a:pt x="16421" y="16338"/>
                  <a:pt x="16396" y="16446"/>
                </a:cubicBezTo>
                <a:cubicBezTo>
                  <a:pt x="16384" y="16499"/>
                  <a:pt x="16267" y="16657"/>
                  <a:pt x="16321" y="16545"/>
                </a:cubicBezTo>
                <a:cubicBezTo>
                  <a:pt x="16413" y="16514"/>
                  <a:pt x="16569" y="16454"/>
                  <a:pt x="16619" y="16594"/>
                </a:cubicBezTo>
                <a:cubicBezTo>
                  <a:pt x="16661" y="16713"/>
                  <a:pt x="16543" y="16865"/>
                  <a:pt x="16446" y="16917"/>
                </a:cubicBezTo>
                <a:cubicBezTo>
                  <a:pt x="16415" y="16934"/>
                  <a:pt x="16325" y="16992"/>
                  <a:pt x="16321" y="16942"/>
                </a:cubicBezTo>
                <a:cubicBezTo>
                  <a:pt x="16321" y="16925"/>
                  <a:pt x="16321" y="16909"/>
                  <a:pt x="16321" y="1689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571920" y="5884920"/>
            <a:ext cx="160200" cy="241200"/>
          </a:xfrm>
          <a:custGeom>
            <a:avLst/>
            <a:gdLst/>
            <a:ahLst/>
            <a:rect l="l" t="t" r="r" b="b"/>
            <a:pathLst>
              <a:path w="447" h="671">
                <a:moveTo>
                  <a:pt x="10269" y="16396"/>
                </a:moveTo>
                <a:cubicBezTo>
                  <a:pt x="10203" y="16396"/>
                  <a:pt x="10162" y="16359"/>
                  <a:pt x="10096" y="16346"/>
                </a:cubicBezTo>
                <a:cubicBezTo>
                  <a:pt x="9990" y="16326"/>
                  <a:pt x="9972" y="16375"/>
                  <a:pt x="9947" y="16470"/>
                </a:cubicBezTo>
                <a:cubicBezTo>
                  <a:pt x="9910" y="16613"/>
                  <a:pt x="9930" y="16854"/>
                  <a:pt x="10046" y="16966"/>
                </a:cubicBezTo>
                <a:cubicBezTo>
                  <a:pt x="10132" y="17049"/>
                  <a:pt x="10234" y="17016"/>
                  <a:pt x="10319" y="16991"/>
                </a:cubicBezTo>
                <a:cubicBezTo>
                  <a:pt x="10355" y="16980"/>
                  <a:pt x="10347" y="16967"/>
                  <a:pt x="10368" y="1691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393920" y="64119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3870" y="17810"/>
                </a:moveTo>
                <a:lnTo>
                  <a:pt x="3870" y="17810"/>
                </a:lnTo>
                <a:lnTo>
                  <a:pt x="3870" y="17810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554280" y="5099040"/>
            <a:ext cx="2367000" cy="669960"/>
          </a:xfrm>
          <a:custGeom>
            <a:avLst/>
            <a:gdLst/>
            <a:ahLst/>
            <a:rect l="l" t="t" r="r" b="b"/>
            <a:pathLst>
              <a:path w="6575" h="1862">
                <a:moveTo>
                  <a:pt x="16446" y="15801"/>
                </a:moveTo>
                <a:cubicBezTo>
                  <a:pt x="16434" y="15743"/>
                  <a:pt x="16440" y="15704"/>
                  <a:pt x="16421" y="15652"/>
                </a:cubicBezTo>
                <a:cubicBezTo>
                  <a:pt x="16404" y="15605"/>
                  <a:pt x="16380" y="15561"/>
                  <a:pt x="16371" y="15528"/>
                </a:cubicBezTo>
                <a:cubicBezTo>
                  <a:pt x="16358" y="15481"/>
                  <a:pt x="16365" y="15447"/>
                  <a:pt x="16346" y="15404"/>
                </a:cubicBezTo>
                <a:cubicBezTo>
                  <a:pt x="16331" y="15370"/>
                  <a:pt x="16312" y="15338"/>
                  <a:pt x="16297" y="15304"/>
                </a:cubicBezTo>
                <a:cubicBezTo>
                  <a:pt x="16283" y="15272"/>
                  <a:pt x="16261" y="15248"/>
                  <a:pt x="16247" y="15230"/>
                </a:cubicBezTo>
                <a:cubicBezTo>
                  <a:pt x="16235" y="15214"/>
                  <a:pt x="16212" y="15169"/>
                  <a:pt x="16197" y="15156"/>
                </a:cubicBezTo>
                <a:cubicBezTo>
                  <a:pt x="16143" y="15108"/>
                  <a:pt x="16145" y="15134"/>
                  <a:pt x="16098" y="15106"/>
                </a:cubicBezTo>
                <a:cubicBezTo>
                  <a:pt x="16087" y="15099"/>
                  <a:pt x="16050" y="15074"/>
                  <a:pt x="16024" y="15056"/>
                </a:cubicBezTo>
                <a:cubicBezTo>
                  <a:pt x="15981" y="15026"/>
                  <a:pt x="15926" y="14963"/>
                  <a:pt x="15875" y="14932"/>
                </a:cubicBezTo>
                <a:cubicBezTo>
                  <a:pt x="15850" y="14917"/>
                  <a:pt x="15783" y="14898"/>
                  <a:pt x="15751" y="14883"/>
                </a:cubicBezTo>
                <a:cubicBezTo>
                  <a:pt x="15716" y="14867"/>
                  <a:pt x="15662" y="14851"/>
                  <a:pt x="15627" y="14833"/>
                </a:cubicBezTo>
                <a:cubicBezTo>
                  <a:pt x="15586" y="14812"/>
                  <a:pt x="15545" y="14787"/>
                  <a:pt x="15503" y="14759"/>
                </a:cubicBezTo>
                <a:cubicBezTo>
                  <a:pt x="15475" y="14741"/>
                  <a:pt x="15444" y="14694"/>
                  <a:pt x="15429" y="14684"/>
                </a:cubicBezTo>
                <a:cubicBezTo>
                  <a:pt x="15402" y="14666"/>
                  <a:pt x="15360" y="14653"/>
                  <a:pt x="15329" y="14635"/>
                </a:cubicBezTo>
                <a:cubicBezTo>
                  <a:pt x="15245" y="14587"/>
                  <a:pt x="15163" y="14539"/>
                  <a:pt x="15081" y="14486"/>
                </a:cubicBezTo>
                <a:cubicBezTo>
                  <a:pt x="15047" y="14464"/>
                  <a:pt x="14999" y="14422"/>
                  <a:pt x="14982" y="14412"/>
                </a:cubicBezTo>
                <a:cubicBezTo>
                  <a:pt x="14907" y="14369"/>
                  <a:pt x="14792" y="14314"/>
                  <a:pt x="14709" y="14288"/>
                </a:cubicBezTo>
                <a:cubicBezTo>
                  <a:pt x="14657" y="14272"/>
                  <a:pt x="14615" y="14274"/>
                  <a:pt x="14560" y="14263"/>
                </a:cubicBezTo>
                <a:cubicBezTo>
                  <a:pt x="14526" y="14256"/>
                  <a:pt x="14478" y="14246"/>
                  <a:pt x="14436" y="14238"/>
                </a:cubicBezTo>
                <a:cubicBezTo>
                  <a:pt x="14383" y="14228"/>
                  <a:pt x="14320" y="14192"/>
                  <a:pt x="14263" y="14188"/>
                </a:cubicBezTo>
                <a:cubicBezTo>
                  <a:pt x="14133" y="14178"/>
                  <a:pt x="13990" y="14170"/>
                  <a:pt x="13866" y="14163"/>
                </a:cubicBezTo>
                <a:cubicBezTo>
                  <a:pt x="13740" y="14156"/>
                  <a:pt x="13604" y="14171"/>
                  <a:pt x="13494" y="14188"/>
                </a:cubicBezTo>
                <a:cubicBezTo>
                  <a:pt x="13450" y="14195"/>
                  <a:pt x="13404" y="14207"/>
                  <a:pt x="13370" y="14213"/>
                </a:cubicBezTo>
                <a:cubicBezTo>
                  <a:pt x="13339" y="14215"/>
                  <a:pt x="13274" y="14205"/>
                  <a:pt x="13221" y="14213"/>
                </a:cubicBezTo>
                <a:cubicBezTo>
                  <a:pt x="13140" y="14225"/>
                  <a:pt x="13054" y="14248"/>
                  <a:pt x="12973" y="14263"/>
                </a:cubicBezTo>
                <a:cubicBezTo>
                  <a:pt x="12891" y="14278"/>
                  <a:pt x="12810" y="14277"/>
                  <a:pt x="12725" y="14288"/>
                </a:cubicBezTo>
                <a:cubicBezTo>
                  <a:pt x="12681" y="14294"/>
                  <a:pt x="12644" y="14306"/>
                  <a:pt x="12601" y="14312"/>
                </a:cubicBezTo>
                <a:cubicBezTo>
                  <a:pt x="12532" y="14322"/>
                  <a:pt x="12469" y="14324"/>
                  <a:pt x="12402" y="14337"/>
                </a:cubicBezTo>
                <a:cubicBezTo>
                  <a:pt x="12342" y="14348"/>
                  <a:pt x="12292" y="14350"/>
                  <a:pt x="12229" y="14362"/>
                </a:cubicBezTo>
                <a:cubicBezTo>
                  <a:pt x="12168" y="14374"/>
                  <a:pt x="12118" y="14383"/>
                  <a:pt x="12055" y="14387"/>
                </a:cubicBezTo>
                <a:cubicBezTo>
                  <a:pt x="11959" y="14393"/>
                  <a:pt x="11875" y="14396"/>
                  <a:pt x="11782" y="14412"/>
                </a:cubicBezTo>
                <a:cubicBezTo>
                  <a:pt x="11704" y="14425"/>
                  <a:pt x="11636" y="14468"/>
                  <a:pt x="11559" y="14486"/>
                </a:cubicBezTo>
                <a:cubicBezTo>
                  <a:pt x="11478" y="14505"/>
                  <a:pt x="11404" y="14510"/>
                  <a:pt x="11336" y="14560"/>
                </a:cubicBezTo>
                <a:cubicBezTo>
                  <a:pt x="11264" y="14612"/>
                  <a:pt x="11200" y="14673"/>
                  <a:pt x="11137" y="14734"/>
                </a:cubicBezTo>
                <a:cubicBezTo>
                  <a:pt x="11088" y="14782"/>
                  <a:pt x="11030" y="14815"/>
                  <a:pt x="10988" y="14858"/>
                </a:cubicBezTo>
                <a:cubicBezTo>
                  <a:pt x="10963" y="14884"/>
                  <a:pt x="10949" y="14917"/>
                  <a:pt x="10914" y="14957"/>
                </a:cubicBezTo>
                <a:cubicBezTo>
                  <a:pt x="10855" y="15024"/>
                  <a:pt x="10809" y="15096"/>
                  <a:pt x="10740" y="15156"/>
                </a:cubicBezTo>
                <a:cubicBezTo>
                  <a:pt x="10724" y="15170"/>
                  <a:pt x="10662" y="15210"/>
                  <a:pt x="10641" y="15230"/>
                </a:cubicBezTo>
                <a:cubicBezTo>
                  <a:pt x="10598" y="15269"/>
                  <a:pt x="10565" y="15314"/>
                  <a:pt x="10517" y="15354"/>
                </a:cubicBezTo>
                <a:cubicBezTo>
                  <a:pt x="10494" y="15373"/>
                  <a:pt x="10439" y="15420"/>
                  <a:pt x="10393" y="15453"/>
                </a:cubicBezTo>
                <a:cubicBezTo>
                  <a:pt x="10365" y="15473"/>
                  <a:pt x="10314" y="15511"/>
                  <a:pt x="10294" y="15528"/>
                </a:cubicBezTo>
                <a:cubicBezTo>
                  <a:pt x="10247" y="15569"/>
                  <a:pt x="10206" y="15644"/>
                  <a:pt x="10170" y="15677"/>
                </a:cubicBezTo>
                <a:cubicBezTo>
                  <a:pt x="10111" y="15731"/>
                  <a:pt x="10097" y="15741"/>
                  <a:pt x="10046" y="15801"/>
                </a:cubicBezTo>
                <a:cubicBezTo>
                  <a:pt x="10033" y="15816"/>
                  <a:pt x="9993" y="15842"/>
                  <a:pt x="9971" y="15875"/>
                </a:cubicBezTo>
                <a:cubicBezTo>
                  <a:pt x="9952" y="15903"/>
                  <a:pt x="9946" y="15931"/>
                  <a:pt x="9922" y="15974"/>
                </a:cubicBezTo>
                <a:cubicBezTo>
                  <a:pt x="9907" y="16002"/>
                  <a:pt x="9914" y="15997"/>
                  <a:pt x="9897" y="1602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  <p:sndAc>
      <p:stSnd>
        <p:snd r:embed="rId3" name="applause.wav"/>
      </p:stSnd>
    </p:sndAc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9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Showcard Gothic"/>
              </a:rPr>
              <a:t>Naming Angles</a:t>
            </a: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gles can be named with one letter (Its’ vertex) or three.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2057400" y="2743200"/>
            <a:ext cx="4362480" cy="2882880"/>
            <a:chOff x="2057400" y="2743200"/>
            <a:chExt cx="4362480" cy="2882880"/>
          </a:xfrm>
        </p:grpSpPr>
        <p:grpSp>
          <p:nvGrpSpPr>
            <p:cNvPr id="208" name=""/>
            <p:cNvGrpSpPr/>
            <p:nvPr/>
          </p:nvGrpSpPr>
          <p:grpSpPr>
            <a:xfrm>
              <a:off x="2057400" y="2743200"/>
              <a:ext cx="4362480" cy="2882880"/>
              <a:chOff x="2057400" y="2743200"/>
              <a:chExt cx="4362480" cy="2882880"/>
            </a:xfrm>
          </p:grpSpPr>
          <p:pic>
            <p:nvPicPr>
              <p:cNvPr id="20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438280" y="2743200"/>
                <a:ext cx="3981600" cy="2562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>
                <a:off x="4419360" y="2971800"/>
                <a:ext cx="609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352680" y="3809880"/>
                <a:ext cx="609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057400" y="4952880"/>
                <a:ext cx="609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257800" y="5257800"/>
                <a:ext cx="76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>
              <a:off x="3733920" y="41148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768240" y="2857680"/>
            <a:ext cx="847800" cy="544320"/>
          </a:xfrm>
          <a:custGeom>
            <a:avLst/>
            <a:gdLst/>
            <a:ahLst/>
            <a:rect l="l" t="t" r="r" b="b"/>
            <a:pathLst>
              <a:path w="2358" h="1514">
                <a:moveTo>
                  <a:pt x="3746" y="9079"/>
                </a:moveTo>
                <a:cubicBezTo>
                  <a:pt x="3779" y="9054"/>
                  <a:pt x="3812" y="9029"/>
                  <a:pt x="3845" y="9004"/>
                </a:cubicBezTo>
              </a:path>
              <a:path w="2358" h="1514">
                <a:moveTo>
                  <a:pt x="4093" y="8855"/>
                </a:moveTo>
                <a:cubicBezTo>
                  <a:pt x="4093" y="8822"/>
                  <a:pt x="4093" y="8789"/>
                  <a:pt x="4093" y="8756"/>
                </a:cubicBezTo>
                <a:cubicBezTo>
                  <a:pt x="4031" y="8756"/>
                  <a:pt x="3916" y="8735"/>
                  <a:pt x="3870" y="8781"/>
                </a:cubicBezTo>
                <a:cubicBezTo>
                  <a:pt x="3843" y="8808"/>
                  <a:pt x="3809" y="8940"/>
                  <a:pt x="3795" y="8979"/>
                </a:cubicBezTo>
                <a:cubicBezTo>
                  <a:pt x="3768" y="9056"/>
                  <a:pt x="3728" y="9147"/>
                  <a:pt x="3770" y="9227"/>
                </a:cubicBezTo>
                <a:cubicBezTo>
                  <a:pt x="3806" y="9295"/>
                  <a:pt x="3927" y="9397"/>
                  <a:pt x="3994" y="9426"/>
                </a:cubicBezTo>
                <a:cubicBezTo>
                  <a:pt x="4104" y="9474"/>
                  <a:pt x="4200" y="9450"/>
                  <a:pt x="4291" y="9376"/>
                </a:cubicBezTo>
                <a:cubicBezTo>
                  <a:pt x="4377" y="9306"/>
                  <a:pt x="4411" y="9259"/>
                  <a:pt x="4465" y="9178"/>
                </a:cubicBezTo>
                <a:cubicBezTo>
                  <a:pt x="4492" y="9139"/>
                  <a:pt x="4490" y="9128"/>
                  <a:pt x="4490" y="9079"/>
                </a:cubicBezTo>
                <a:cubicBezTo>
                  <a:pt x="4490" y="9071"/>
                  <a:pt x="4490" y="9062"/>
                  <a:pt x="4490" y="9054"/>
                </a:cubicBezTo>
                <a:cubicBezTo>
                  <a:pt x="4360" y="9054"/>
                  <a:pt x="4246" y="9083"/>
                  <a:pt x="4118" y="9103"/>
                </a:cubicBezTo>
                <a:cubicBezTo>
                  <a:pt x="4110" y="9103"/>
                  <a:pt x="4101" y="9103"/>
                  <a:pt x="4093" y="9103"/>
                </a:cubicBezTo>
              </a:path>
              <a:path w="2358" h="1514">
                <a:moveTo>
                  <a:pt x="3944" y="8706"/>
                </a:moveTo>
                <a:cubicBezTo>
                  <a:pt x="4012" y="8693"/>
                  <a:pt x="4070" y="8662"/>
                  <a:pt x="4142" y="8657"/>
                </a:cubicBezTo>
                <a:cubicBezTo>
                  <a:pt x="4167" y="8657"/>
                  <a:pt x="4175" y="8657"/>
                  <a:pt x="4192" y="8657"/>
                </a:cubicBezTo>
              </a:path>
              <a:path w="2358" h="1514">
                <a:moveTo>
                  <a:pt x="2133" y="7938"/>
                </a:moveTo>
                <a:lnTo>
                  <a:pt x="2133" y="7938"/>
                </a:lnTo>
              </a:path>
              <a:path w="2358" h="1514">
                <a:moveTo>
                  <a:pt x="2753" y="8235"/>
                </a:moveTo>
                <a:cubicBezTo>
                  <a:pt x="2761" y="8227"/>
                  <a:pt x="2770" y="8218"/>
                  <a:pt x="2778" y="8210"/>
                </a:cubicBezTo>
              </a:path>
              <a:path w="2358" h="1514">
                <a:moveTo>
                  <a:pt x="2952" y="8161"/>
                </a:moveTo>
                <a:cubicBezTo>
                  <a:pt x="2960" y="8161"/>
                  <a:pt x="2969" y="8161"/>
                  <a:pt x="2977" y="8161"/>
                </a:cubicBezTo>
              </a:path>
              <a:path w="2358" h="1514">
                <a:moveTo>
                  <a:pt x="3076" y="8731"/>
                </a:moveTo>
                <a:cubicBezTo>
                  <a:pt x="2954" y="8819"/>
                  <a:pt x="2810" y="8938"/>
                  <a:pt x="2679" y="9029"/>
                </a:cubicBezTo>
                <a:cubicBezTo>
                  <a:pt x="2589" y="9091"/>
                  <a:pt x="2493" y="9112"/>
                  <a:pt x="2406" y="9153"/>
                </a:cubicBezTo>
                <a:cubicBezTo>
                  <a:pt x="2406" y="9153"/>
                  <a:pt x="2343" y="9210"/>
                  <a:pt x="2332" y="9227"/>
                </a:cubicBezTo>
                <a:cubicBezTo>
                  <a:pt x="2301" y="9275"/>
                  <a:pt x="2260" y="9308"/>
                  <a:pt x="2208" y="9351"/>
                </a:cubicBezTo>
                <a:cubicBezTo>
                  <a:pt x="2267" y="9358"/>
                  <a:pt x="2300" y="9373"/>
                  <a:pt x="2356" y="9376"/>
                </a:cubicBezTo>
                <a:cubicBezTo>
                  <a:pt x="2548" y="9387"/>
                  <a:pt x="2750" y="9366"/>
                  <a:pt x="2927" y="9401"/>
                </a:cubicBezTo>
                <a:cubicBezTo>
                  <a:pt x="2998" y="9415"/>
                  <a:pt x="3087" y="9413"/>
                  <a:pt x="3150" y="9426"/>
                </a:cubicBezTo>
                <a:cubicBezTo>
                  <a:pt x="3195" y="9435"/>
                  <a:pt x="3258" y="9446"/>
                  <a:pt x="3274" y="9451"/>
                </a:cubicBezTo>
                <a:cubicBezTo>
                  <a:pt x="3282" y="9451"/>
                  <a:pt x="3291" y="9451"/>
                  <a:pt x="3299" y="945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58880" y="3697200"/>
            <a:ext cx="1527120" cy="393840"/>
          </a:xfrm>
          <a:custGeom>
            <a:avLst/>
            <a:gdLst/>
            <a:ahLst/>
            <a:rect l="l" t="t" r="r" b="b"/>
            <a:pathLst>
              <a:path w="4243" h="1093">
                <a:moveTo>
                  <a:pt x="3051" y="10269"/>
                </a:moveTo>
                <a:cubicBezTo>
                  <a:pt x="2960" y="10400"/>
                  <a:pt x="2855" y="10528"/>
                  <a:pt x="2729" y="10641"/>
                </a:cubicBezTo>
                <a:cubicBezTo>
                  <a:pt x="2569" y="10785"/>
                  <a:pt x="2391" y="10884"/>
                  <a:pt x="2208" y="10988"/>
                </a:cubicBezTo>
                <a:cubicBezTo>
                  <a:pt x="2117" y="11040"/>
                  <a:pt x="2147" y="11036"/>
                  <a:pt x="2108" y="11088"/>
                </a:cubicBezTo>
                <a:cubicBezTo>
                  <a:pt x="2202" y="11099"/>
                  <a:pt x="2281" y="11112"/>
                  <a:pt x="2381" y="11112"/>
                </a:cubicBezTo>
                <a:cubicBezTo>
                  <a:pt x="2543" y="11112"/>
                  <a:pt x="2690" y="11117"/>
                  <a:pt x="2853" y="11112"/>
                </a:cubicBezTo>
                <a:cubicBezTo>
                  <a:pt x="2935" y="11110"/>
                  <a:pt x="2985" y="11110"/>
                  <a:pt x="3051" y="11137"/>
                </a:cubicBezTo>
                <a:cubicBezTo>
                  <a:pt x="3089" y="11152"/>
                  <a:pt x="3139" y="11174"/>
                  <a:pt x="3175" y="11187"/>
                </a:cubicBezTo>
                <a:cubicBezTo>
                  <a:pt x="3183" y="11187"/>
                  <a:pt x="3192" y="11187"/>
                  <a:pt x="3200" y="11187"/>
                </a:cubicBezTo>
              </a:path>
              <a:path w="4243" h="1093">
                <a:moveTo>
                  <a:pt x="3696" y="11311"/>
                </a:moveTo>
                <a:cubicBezTo>
                  <a:pt x="3708" y="11274"/>
                  <a:pt x="3846" y="11305"/>
                  <a:pt x="3894" y="11311"/>
                </a:cubicBezTo>
                <a:cubicBezTo>
                  <a:pt x="3969" y="11321"/>
                  <a:pt x="4235" y="11369"/>
                  <a:pt x="4266" y="11361"/>
                </a:cubicBezTo>
                <a:cubicBezTo>
                  <a:pt x="4289" y="11338"/>
                  <a:pt x="4297" y="11327"/>
                  <a:pt x="4291" y="11361"/>
                </a:cubicBezTo>
              </a:path>
              <a:path w="4243" h="1093">
                <a:moveTo>
                  <a:pt x="4936" y="11286"/>
                </a:moveTo>
                <a:cubicBezTo>
                  <a:pt x="5037" y="11353"/>
                  <a:pt x="5139" y="11336"/>
                  <a:pt x="5259" y="11336"/>
                </a:cubicBezTo>
                <a:cubicBezTo>
                  <a:pt x="5292" y="11336"/>
                  <a:pt x="5325" y="11336"/>
                  <a:pt x="5358" y="11336"/>
                </a:cubicBezTo>
              </a:path>
              <a:path w="4243" h="1093">
                <a:moveTo>
                  <a:pt x="5804" y="11286"/>
                </a:moveTo>
                <a:cubicBezTo>
                  <a:pt x="5860" y="11305"/>
                  <a:pt x="5938" y="11311"/>
                  <a:pt x="6028" y="11311"/>
                </a:cubicBezTo>
                <a:cubicBezTo>
                  <a:pt x="6136" y="11311"/>
                  <a:pt x="6233" y="11311"/>
                  <a:pt x="6325" y="11336"/>
                </a:cubicBezTo>
                <a:cubicBezTo>
                  <a:pt x="6333" y="11336"/>
                  <a:pt x="6342" y="11336"/>
                  <a:pt x="6350" y="11336"/>
                </a:cubicBezTo>
              </a:path>
              <a:path w="4243" h="1093">
                <a:moveTo>
                  <a:pt x="5209" y="10641"/>
                </a:moveTo>
                <a:cubicBezTo>
                  <a:pt x="5165" y="10630"/>
                  <a:pt x="5135" y="10597"/>
                  <a:pt x="5085" y="10592"/>
                </a:cubicBezTo>
                <a:cubicBezTo>
                  <a:pt x="5023" y="10586"/>
                  <a:pt x="5026" y="10558"/>
                  <a:pt x="4961" y="10592"/>
                </a:cubicBezTo>
                <a:cubicBezTo>
                  <a:pt x="4875" y="10637"/>
                  <a:pt x="4837" y="10711"/>
                  <a:pt x="4787" y="10790"/>
                </a:cubicBezTo>
                <a:cubicBezTo>
                  <a:pt x="4744" y="10859"/>
                  <a:pt x="4738" y="10908"/>
                  <a:pt x="4738" y="10988"/>
                </a:cubicBezTo>
                <a:cubicBezTo>
                  <a:pt x="4738" y="11055"/>
                  <a:pt x="4757" y="11121"/>
                  <a:pt x="4812" y="11162"/>
                </a:cubicBezTo>
                <a:cubicBezTo>
                  <a:pt x="4897" y="11225"/>
                  <a:pt x="4928" y="11237"/>
                  <a:pt x="5035" y="11237"/>
                </a:cubicBezTo>
                <a:cubicBezTo>
                  <a:pt x="5106" y="11237"/>
                  <a:pt x="5219" y="11218"/>
                  <a:pt x="5259" y="11162"/>
                </a:cubicBezTo>
                <a:cubicBezTo>
                  <a:pt x="5278" y="11135"/>
                  <a:pt x="5315" y="11136"/>
                  <a:pt x="5333" y="11112"/>
                </a:cubicBezTo>
                <a:cubicBezTo>
                  <a:pt x="5369" y="11063"/>
                  <a:pt x="5383" y="11069"/>
                  <a:pt x="5383" y="11013"/>
                </a:cubicBezTo>
                <a:cubicBezTo>
                  <a:pt x="5383" y="10986"/>
                  <a:pt x="5397" y="10923"/>
                  <a:pt x="5358" y="10914"/>
                </a:cubicBezTo>
                <a:cubicBezTo>
                  <a:pt x="5260" y="10892"/>
                  <a:pt x="5141" y="10950"/>
                  <a:pt x="5060" y="10889"/>
                </a:cubicBezTo>
              </a:path>
              <a:path w="4243" h="1093">
                <a:moveTo>
                  <a:pt x="3671" y="10592"/>
                </a:moveTo>
                <a:cubicBezTo>
                  <a:pt x="3671" y="10730"/>
                  <a:pt x="3663" y="10877"/>
                  <a:pt x="3646" y="11013"/>
                </a:cubicBezTo>
                <a:cubicBezTo>
                  <a:pt x="3626" y="11112"/>
                  <a:pt x="3618" y="11128"/>
                  <a:pt x="3621" y="11187"/>
                </a:cubicBezTo>
              </a:path>
              <a:path w="4243" h="1093">
                <a:moveTo>
                  <a:pt x="3919" y="10492"/>
                </a:moveTo>
                <a:cubicBezTo>
                  <a:pt x="3929" y="10684"/>
                  <a:pt x="3965" y="10870"/>
                  <a:pt x="3969" y="11063"/>
                </a:cubicBezTo>
                <a:cubicBezTo>
                  <a:pt x="3969" y="11137"/>
                  <a:pt x="3969" y="11146"/>
                  <a:pt x="3969" y="11187"/>
                </a:cubicBezTo>
              </a:path>
              <a:path w="4243" h="1093">
                <a:moveTo>
                  <a:pt x="3621" y="10964"/>
                </a:moveTo>
                <a:cubicBezTo>
                  <a:pt x="3731" y="10956"/>
                  <a:pt x="3835" y="10925"/>
                  <a:pt x="3944" y="10914"/>
                </a:cubicBezTo>
              </a:path>
              <a:path w="4243" h="1093">
                <a:moveTo>
                  <a:pt x="5680" y="10790"/>
                </a:moveTo>
                <a:cubicBezTo>
                  <a:pt x="5688" y="10766"/>
                  <a:pt x="5689" y="10744"/>
                  <a:pt x="5705" y="10716"/>
                </a:cubicBezTo>
                <a:cubicBezTo>
                  <a:pt x="5725" y="10680"/>
                  <a:pt x="5746" y="10660"/>
                  <a:pt x="5755" y="10616"/>
                </a:cubicBezTo>
                <a:cubicBezTo>
                  <a:pt x="5735" y="10738"/>
                  <a:pt x="5692" y="10863"/>
                  <a:pt x="5680" y="10988"/>
                </a:cubicBezTo>
                <a:cubicBezTo>
                  <a:pt x="5662" y="11170"/>
                  <a:pt x="5752" y="11165"/>
                  <a:pt x="5904" y="11137"/>
                </a:cubicBezTo>
                <a:cubicBezTo>
                  <a:pt x="5979" y="11123"/>
                  <a:pt x="6051" y="11098"/>
                  <a:pt x="6127" y="11088"/>
                </a:cubicBezTo>
              </a:path>
              <a:path w="4243" h="1093">
                <a:moveTo>
                  <a:pt x="5779" y="10889"/>
                </a:moveTo>
                <a:cubicBezTo>
                  <a:pt x="5927" y="10889"/>
                  <a:pt x="6056" y="10865"/>
                  <a:pt x="6201" y="10840"/>
                </a:cubicBezTo>
                <a:cubicBezTo>
                  <a:pt x="6209" y="10840"/>
                  <a:pt x="6218" y="10840"/>
                  <a:pt x="6226" y="10840"/>
                </a:cubicBezTo>
              </a:path>
              <a:path w="4243" h="1093">
                <a:moveTo>
                  <a:pt x="5829" y="10592"/>
                </a:moveTo>
                <a:cubicBezTo>
                  <a:pt x="5982" y="10574"/>
                  <a:pt x="6118" y="10522"/>
                  <a:pt x="6276" y="10517"/>
                </a:cubicBezTo>
                <a:cubicBezTo>
                  <a:pt x="6301" y="10517"/>
                  <a:pt x="6325" y="10517"/>
                  <a:pt x="6350" y="1051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76160" y="4340160"/>
            <a:ext cx="1455840" cy="320760"/>
          </a:xfrm>
          <a:custGeom>
            <a:avLst/>
            <a:gdLst/>
            <a:ahLst/>
            <a:rect l="l" t="t" r="r" b="b"/>
            <a:pathLst>
              <a:path w="4044" h="894">
                <a:moveTo>
                  <a:pt x="3001" y="12055"/>
                </a:moveTo>
                <a:cubicBezTo>
                  <a:pt x="2921" y="12163"/>
                  <a:pt x="2874" y="12234"/>
                  <a:pt x="2778" y="12328"/>
                </a:cubicBezTo>
                <a:cubicBezTo>
                  <a:pt x="2589" y="12514"/>
                  <a:pt x="2342" y="12640"/>
                  <a:pt x="2158" y="12824"/>
                </a:cubicBezTo>
                <a:cubicBezTo>
                  <a:pt x="2158" y="12832"/>
                  <a:pt x="2158" y="12841"/>
                  <a:pt x="2158" y="12849"/>
                </a:cubicBezTo>
                <a:cubicBezTo>
                  <a:pt x="2343" y="12849"/>
                  <a:pt x="2520" y="12832"/>
                  <a:pt x="2704" y="12824"/>
                </a:cubicBezTo>
                <a:cubicBezTo>
                  <a:pt x="2827" y="12819"/>
                  <a:pt x="3074" y="12783"/>
                  <a:pt x="3200" y="12799"/>
                </a:cubicBezTo>
                <a:cubicBezTo>
                  <a:pt x="3214" y="12801"/>
                  <a:pt x="3250" y="12820"/>
                  <a:pt x="3274" y="12824"/>
                </a:cubicBezTo>
              </a:path>
              <a:path w="4044" h="894">
                <a:moveTo>
                  <a:pt x="3646" y="12254"/>
                </a:moveTo>
                <a:cubicBezTo>
                  <a:pt x="3733" y="12315"/>
                  <a:pt x="3749" y="12414"/>
                  <a:pt x="3721" y="12526"/>
                </a:cubicBezTo>
                <a:cubicBezTo>
                  <a:pt x="3691" y="12649"/>
                  <a:pt x="3647" y="12681"/>
                  <a:pt x="3671" y="12799"/>
                </a:cubicBezTo>
                <a:cubicBezTo>
                  <a:pt x="3847" y="12847"/>
                  <a:pt x="3970" y="12787"/>
                  <a:pt x="4142" y="12750"/>
                </a:cubicBezTo>
                <a:cubicBezTo>
                  <a:pt x="4184" y="12750"/>
                  <a:pt x="4209" y="12750"/>
                  <a:pt x="4167" y="12750"/>
                </a:cubicBezTo>
              </a:path>
              <a:path w="4044" h="894">
                <a:moveTo>
                  <a:pt x="3870" y="12601"/>
                </a:moveTo>
                <a:cubicBezTo>
                  <a:pt x="3934" y="12575"/>
                  <a:pt x="4156" y="12554"/>
                  <a:pt x="4192" y="12502"/>
                </a:cubicBezTo>
                <a:cubicBezTo>
                  <a:pt x="4192" y="12477"/>
                  <a:pt x="4192" y="12452"/>
                  <a:pt x="4192" y="12427"/>
                </a:cubicBezTo>
              </a:path>
              <a:path w="4044" h="894">
                <a:moveTo>
                  <a:pt x="3820" y="12278"/>
                </a:moveTo>
                <a:cubicBezTo>
                  <a:pt x="3922" y="12216"/>
                  <a:pt x="4015" y="12180"/>
                  <a:pt x="4118" y="12154"/>
                </a:cubicBezTo>
                <a:cubicBezTo>
                  <a:pt x="4142" y="12154"/>
                  <a:pt x="4151" y="12154"/>
                  <a:pt x="4167" y="12154"/>
                </a:cubicBezTo>
              </a:path>
              <a:path w="4044" h="894">
                <a:moveTo>
                  <a:pt x="3398" y="12948"/>
                </a:moveTo>
                <a:lnTo>
                  <a:pt x="3398" y="12948"/>
                </a:lnTo>
              </a:path>
              <a:path w="4044" h="894">
                <a:moveTo>
                  <a:pt x="5135" y="12229"/>
                </a:moveTo>
                <a:cubicBezTo>
                  <a:pt x="5120" y="12275"/>
                  <a:pt x="5043" y="12231"/>
                  <a:pt x="4986" y="12229"/>
                </a:cubicBezTo>
                <a:cubicBezTo>
                  <a:pt x="4852" y="12224"/>
                  <a:pt x="4782" y="12319"/>
                  <a:pt x="4713" y="12427"/>
                </a:cubicBezTo>
                <a:cubicBezTo>
                  <a:pt x="4630" y="12559"/>
                  <a:pt x="4604" y="12714"/>
                  <a:pt x="4688" y="12849"/>
                </a:cubicBezTo>
                <a:cubicBezTo>
                  <a:pt x="4769" y="12979"/>
                  <a:pt x="4972" y="12903"/>
                  <a:pt x="5085" y="12874"/>
                </a:cubicBezTo>
                <a:cubicBezTo>
                  <a:pt x="5223" y="12839"/>
                  <a:pt x="5209" y="12773"/>
                  <a:pt x="5209" y="12650"/>
                </a:cubicBezTo>
                <a:cubicBezTo>
                  <a:pt x="5209" y="12620"/>
                  <a:pt x="5121" y="12574"/>
                  <a:pt x="5085" y="12576"/>
                </a:cubicBezTo>
                <a:cubicBezTo>
                  <a:pt x="5026" y="12579"/>
                  <a:pt x="4893" y="12603"/>
                  <a:pt x="4837" y="12626"/>
                </a:cubicBezTo>
                <a:cubicBezTo>
                  <a:pt x="4829" y="12634"/>
                  <a:pt x="4820" y="12642"/>
                  <a:pt x="4812" y="12650"/>
                </a:cubicBezTo>
              </a:path>
              <a:path w="4044" h="894">
                <a:moveTo>
                  <a:pt x="5804" y="12328"/>
                </a:moveTo>
                <a:cubicBezTo>
                  <a:pt x="5804" y="12283"/>
                  <a:pt x="5819" y="12268"/>
                  <a:pt x="5829" y="12229"/>
                </a:cubicBezTo>
                <a:cubicBezTo>
                  <a:pt x="5814" y="12403"/>
                  <a:pt x="5787" y="12578"/>
                  <a:pt x="5755" y="12750"/>
                </a:cubicBezTo>
                <a:cubicBezTo>
                  <a:pt x="5743" y="12816"/>
                  <a:pt x="5730" y="12965"/>
                  <a:pt x="5730" y="12898"/>
                </a:cubicBezTo>
              </a:path>
              <a:path w="4044" h="894">
                <a:moveTo>
                  <a:pt x="6152" y="12204"/>
                </a:moveTo>
                <a:cubicBezTo>
                  <a:pt x="6152" y="12384"/>
                  <a:pt x="6192" y="12572"/>
                  <a:pt x="6176" y="12750"/>
                </a:cubicBezTo>
                <a:cubicBezTo>
                  <a:pt x="6156" y="12832"/>
                  <a:pt x="6148" y="12847"/>
                  <a:pt x="6152" y="12898"/>
                </a:cubicBezTo>
              </a:path>
              <a:path w="4044" h="894">
                <a:moveTo>
                  <a:pt x="5779" y="12650"/>
                </a:moveTo>
                <a:cubicBezTo>
                  <a:pt x="5921" y="12619"/>
                  <a:pt x="6062" y="12577"/>
                  <a:pt x="6201" y="1255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84160" y="4813200"/>
            <a:ext cx="1251000" cy="339840"/>
          </a:xfrm>
          <a:custGeom>
            <a:avLst/>
            <a:gdLst/>
            <a:ahLst/>
            <a:rect l="l" t="t" r="r" b="b"/>
            <a:pathLst>
              <a:path w="3473" h="943">
                <a:moveTo>
                  <a:pt x="3373" y="13370"/>
                </a:moveTo>
                <a:cubicBezTo>
                  <a:pt x="3202" y="13500"/>
                  <a:pt x="3056" y="13637"/>
                  <a:pt x="2902" y="13791"/>
                </a:cubicBezTo>
                <a:cubicBezTo>
                  <a:pt x="2793" y="13900"/>
                  <a:pt x="2564" y="14056"/>
                  <a:pt x="2480" y="14188"/>
                </a:cubicBezTo>
                <a:cubicBezTo>
                  <a:pt x="2452" y="14188"/>
                  <a:pt x="2447" y="14191"/>
                  <a:pt x="2480" y="14213"/>
                </a:cubicBezTo>
                <a:cubicBezTo>
                  <a:pt x="2728" y="14188"/>
                  <a:pt x="2973" y="14130"/>
                  <a:pt x="3225" y="14114"/>
                </a:cubicBezTo>
                <a:cubicBezTo>
                  <a:pt x="3306" y="14109"/>
                  <a:pt x="3391" y="14114"/>
                  <a:pt x="3473" y="14114"/>
                </a:cubicBezTo>
              </a:path>
              <a:path w="3473" h="943">
                <a:moveTo>
                  <a:pt x="3820" y="13568"/>
                </a:moveTo>
                <a:cubicBezTo>
                  <a:pt x="3853" y="13745"/>
                  <a:pt x="3863" y="13931"/>
                  <a:pt x="3870" y="14114"/>
                </a:cubicBezTo>
                <a:cubicBezTo>
                  <a:pt x="3870" y="14139"/>
                  <a:pt x="3870" y="14147"/>
                  <a:pt x="3870" y="14163"/>
                </a:cubicBezTo>
                <a:cubicBezTo>
                  <a:pt x="3819" y="13995"/>
                  <a:pt x="3821" y="13797"/>
                  <a:pt x="3795" y="13618"/>
                </a:cubicBezTo>
                <a:cubicBezTo>
                  <a:pt x="3776" y="13502"/>
                  <a:pt x="3767" y="13486"/>
                  <a:pt x="3770" y="13419"/>
                </a:cubicBezTo>
                <a:cubicBezTo>
                  <a:pt x="3897" y="13437"/>
                  <a:pt x="4011" y="13466"/>
                  <a:pt x="4142" y="13469"/>
                </a:cubicBezTo>
                <a:cubicBezTo>
                  <a:pt x="4213" y="13471"/>
                  <a:pt x="4271" y="13448"/>
                  <a:pt x="4291" y="13469"/>
                </a:cubicBezTo>
              </a:path>
              <a:path w="3473" h="943">
                <a:moveTo>
                  <a:pt x="3894" y="13866"/>
                </a:moveTo>
                <a:cubicBezTo>
                  <a:pt x="4001" y="13843"/>
                  <a:pt x="4107" y="13833"/>
                  <a:pt x="4217" y="13816"/>
                </a:cubicBezTo>
              </a:path>
              <a:path w="3473" h="943">
                <a:moveTo>
                  <a:pt x="4688" y="13543"/>
                </a:moveTo>
                <a:cubicBezTo>
                  <a:pt x="4659" y="13487"/>
                  <a:pt x="4605" y="13477"/>
                  <a:pt x="4539" y="13469"/>
                </a:cubicBezTo>
                <a:cubicBezTo>
                  <a:pt x="4453" y="13642"/>
                  <a:pt x="4319" y="13861"/>
                  <a:pt x="4341" y="14064"/>
                </a:cubicBezTo>
                <a:cubicBezTo>
                  <a:pt x="4369" y="14329"/>
                  <a:pt x="4782" y="14120"/>
                  <a:pt x="4887" y="14039"/>
                </a:cubicBezTo>
                <a:cubicBezTo>
                  <a:pt x="4903" y="14014"/>
                  <a:pt x="4920" y="13990"/>
                  <a:pt x="4936" y="13965"/>
                </a:cubicBezTo>
                <a:cubicBezTo>
                  <a:pt x="4889" y="13854"/>
                  <a:pt x="4763" y="13864"/>
                  <a:pt x="4638" y="13891"/>
                </a:cubicBezTo>
                <a:cubicBezTo>
                  <a:pt x="4613" y="13899"/>
                  <a:pt x="4589" y="13907"/>
                  <a:pt x="4564" y="13915"/>
                </a:cubicBezTo>
              </a:path>
              <a:path w="3473" h="943">
                <a:moveTo>
                  <a:pt x="5035" y="14064"/>
                </a:moveTo>
                <a:lnTo>
                  <a:pt x="5035" y="14064"/>
                </a:lnTo>
              </a:path>
              <a:path w="3473" h="943">
                <a:moveTo>
                  <a:pt x="5507" y="13469"/>
                </a:moveTo>
                <a:cubicBezTo>
                  <a:pt x="5507" y="13345"/>
                  <a:pt x="5507" y="13667"/>
                  <a:pt x="5507" y="13791"/>
                </a:cubicBezTo>
                <a:cubicBezTo>
                  <a:pt x="5507" y="13955"/>
                  <a:pt x="5452" y="14166"/>
                  <a:pt x="5507" y="14312"/>
                </a:cubicBezTo>
              </a:path>
              <a:path w="3473" h="943">
                <a:moveTo>
                  <a:pt x="5928" y="13444"/>
                </a:moveTo>
                <a:cubicBezTo>
                  <a:pt x="5928" y="13684"/>
                  <a:pt x="5928" y="13923"/>
                  <a:pt x="5928" y="14163"/>
                </a:cubicBezTo>
              </a:path>
              <a:path w="3473" h="943">
                <a:moveTo>
                  <a:pt x="5581" y="13940"/>
                </a:moveTo>
                <a:cubicBezTo>
                  <a:pt x="5680" y="13923"/>
                  <a:pt x="5779" y="13885"/>
                  <a:pt x="5879" y="13866"/>
                </a:cubicBezTo>
                <a:cubicBezTo>
                  <a:pt x="5904" y="13866"/>
                  <a:pt x="5912" y="13866"/>
                  <a:pt x="5928" y="1386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2"/>
    <p:sndAc>
      <p:stSnd>
        <p:snd r:embed="rId2" name="cashreg.wav"/>
      </p:stSnd>
    </p:sndAc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Showcard Gothic"/>
              </a:rPr>
              <a:t>Complementary Angles</a:t>
            </a: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mplementary Angles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Angles that have a sum of 90 degree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838080" y="3200400"/>
            <a:ext cx="2043360" cy="2495520"/>
          </a:xfrm>
          <a:prstGeom prst="rect">
            <a:avLst/>
          </a:prstGeom>
          <a:ln w="0">
            <a:noFill/>
          </a:ln>
        </p:spPr>
      </p:pic>
      <p:grpSp>
        <p:nvGrpSpPr>
          <p:cNvPr id="222" name=""/>
          <p:cNvGrpSpPr/>
          <p:nvPr/>
        </p:nvGrpSpPr>
        <p:grpSpPr>
          <a:xfrm>
            <a:off x="4952880" y="3581280"/>
            <a:ext cx="2362320" cy="2346480"/>
            <a:chOff x="4952880" y="3581280"/>
            <a:chExt cx="2362320" cy="2346480"/>
          </a:xfrm>
        </p:grpSpPr>
        <p:pic>
          <p:nvPicPr>
            <p:cNvPr id="223" name="" descr=""/>
            <p:cNvPicPr/>
            <p:nvPr/>
          </p:nvPicPr>
          <p:blipFill>
            <a:blip r:embed="rId2"/>
            <a:stretch/>
          </p:blipFill>
          <p:spPr>
            <a:xfrm>
              <a:off x="4952880" y="3581280"/>
              <a:ext cx="2362320" cy="23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5181480" y="487692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5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5867280" y="53341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384720" y="5062680"/>
            <a:ext cx="9360" cy="1440"/>
          </a:xfrm>
          <a:custGeom>
            <a:avLst/>
            <a:gdLst/>
            <a:ahLst/>
            <a:rect l="l" t="t" r="r" b="b"/>
            <a:pathLst>
              <a:path w="26" h="1">
                <a:moveTo>
                  <a:pt x="9426" y="14064"/>
                </a:moveTo>
                <a:cubicBezTo>
                  <a:pt x="9418" y="14064"/>
                  <a:pt x="9409" y="14064"/>
                  <a:pt x="9401" y="1406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313240" y="5224320"/>
            <a:ext cx="250920" cy="44640"/>
          </a:xfrm>
          <a:custGeom>
            <a:avLst/>
            <a:gdLst/>
            <a:ahLst/>
            <a:rect l="l" t="t" r="r" b="b"/>
            <a:pathLst>
              <a:path w="695" h="125">
                <a:moveTo>
                  <a:pt x="14808" y="14635"/>
                </a:moveTo>
                <a:cubicBezTo>
                  <a:pt x="14769" y="14622"/>
                  <a:pt x="14798" y="14623"/>
                  <a:pt x="14759" y="14610"/>
                </a:cubicBezTo>
                <a:cubicBezTo>
                  <a:pt x="14938" y="14610"/>
                  <a:pt x="15101" y="14550"/>
                  <a:pt x="15280" y="14536"/>
                </a:cubicBezTo>
                <a:cubicBezTo>
                  <a:pt x="15391" y="14536"/>
                  <a:pt x="15414" y="14563"/>
                  <a:pt x="15453" y="1451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983200" y="5680080"/>
            <a:ext cx="312840" cy="17280"/>
          </a:xfrm>
          <a:custGeom>
            <a:avLst/>
            <a:gdLst/>
            <a:ahLst/>
            <a:rect l="l" t="t" r="r" b="b"/>
            <a:pathLst>
              <a:path w="869" h="50">
                <a:moveTo>
                  <a:pt x="16619" y="15825"/>
                </a:moveTo>
                <a:cubicBezTo>
                  <a:pt x="16811" y="15825"/>
                  <a:pt x="16999" y="15827"/>
                  <a:pt x="17190" y="15801"/>
                </a:cubicBezTo>
                <a:cubicBezTo>
                  <a:pt x="17193" y="15801"/>
                  <a:pt x="17595" y="15776"/>
                  <a:pt x="17438" y="1577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108920" y="2670120"/>
            <a:ext cx="169920" cy="152280"/>
          </a:xfrm>
          <a:custGeom>
            <a:avLst/>
            <a:gdLst/>
            <a:ahLst/>
            <a:rect l="l" t="t" r="r" b="b"/>
            <a:pathLst>
              <a:path w="472" h="422">
                <a:moveTo>
                  <a:pt x="19794" y="7441"/>
                </a:moveTo>
                <a:cubicBezTo>
                  <a:pt x="19794" y="7403"/>
                  <a:pt x="19748" y="7613"/>
                  <a:pt x="19745" y="7665"/>
                </a:cubicBezTo>
                <a:cubicBezTo>
                  <a:pt x="19741" y="7734"/>
                  <a:pt x="19758" y="7825"/>
                  <a:pt x="19844" y="7838"/>
                </a:cubicBezTo>
                <a:cubicBezTo>
                  <a:pt x="19983" y="7859"/>
                  <a:pt x="20149" y="7763"/>
                  <a:pt x="20216" y="7640"/>
                </a:cubicBezTo>
                <a:cubicBezTo>
                  <a:pt x="20216" y="7623"/>
                  <a:pt x="20216" y="7607"/>
                  <a:pt x="20216" y="7590"/>
                </a:cubicBezTo>
                <a:cubicBezTo>
                  <a:pt x="20131" y="7526"/>
                  <a:pt x="20073" y="7595"/>
                  <a:pt x="20017" y="7665"/>
                </a:cubicBezTo>
                <a:cubicBezTo>
                  <a:pt x="19958" y="7739"/>
                  <a:pt x="19955" y="7765"/>
                  <a:pt x="20017" y="781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313760" y="2571840"/>
            <a:ext cx="133200" cy="179280"/>
          </a:xfrm>
          <a:custGeom>
            <a:avLst/>
            <a:gdLst/>
            <a:ahLst/>
            <a:rect l="l" t="t" r="r" b="b"/>
            <a:pathLst>
              <a:path w="373" h="497">
                <a:moveTo>
                  <a:pt x="20538" y="7169"/>
                </a:moveTo>
                <a:cubicBezTo>
                  <a:pt x="20496" y="7152"/>
                  <a:pt x="20409" y="7170"/>
                  <a:pt x="20365" y="7218"/>
                </a:cubicBezTo>
                <a:cubicBezTo>
                  <a:pt x="20315" y="7272"/>
                  <a:pt x="20320" y="7352"/>
                  <a:pt x="20315" y="7417"/>
                </a:cubicBezTo>
                <a:cubicBezTo>
                  <a:pt x="20425" y="7444"/>
                  <a:pt x="20475" y="7342"/>
                  <a:pt x="20588" y="7342"/>
                </a:cubicBezTo>
                <a:cubicBezTo>
                  <a:pt x="20698" y="7342"/>
                  <a:pt x="20690" y="7505"/>
                  <a:pt x="20662" y="7565"/>
                </a:cubicBezTo>
                <a:cubicBezTo>
                  <a:pt x="20572" y="7755"/>
                  <a:pt x="20406" y="7557"/>
                  <a:pt x="20340" y="749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367760" y="2509920"/>
            <a:ext cx="142560" cy="44280"/>
          </a:xfrm>
          <a:custGeom>
            <a:avLst/>
            <a:gdLst/>
            <a:ahLst/>
            <a:rect l="l" t="t" r="r" b="b"/>
            <a:pathLst>
              <a:path w="398" h="125">
                <a:moveTo>
                  <a:pt x="20464" y="7094"/>
                </a:moveTo>
                <a:cubicBezTo>
                  <a:pt x="20596" y="7042"/>
                  <a:pt x="20743" y="7014"/>
                  <a:pt x="20861" y="697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912000" y="3071880"/>
            <a:ext cx="17280" cy="142920"/>
          </a:xfrm>
          <a:custGeom>
            <a:avLst/>
            <a:gdLst/>
            <a:ahLst/>
            <a:rect l="l" t="t" r="r" b="b"/>
            <a:pathLst>
              <a:path w="50" h="398">
                <a:moveTo>
                  <a:pt x="19199" y="8533"/>
                </a:moveTo>
                <a:cubicBezTo>
                  <a:pt x="19214" y="8651"/>
                  <a:pt x="19269" y="8785"/>
                  <a:pt x="19248" y="8905"/>
                </a:cubicBezTo>
                <a:cubicBezTo>
                  <a:pt x="19240" y="8913"/>
                  <a:pt x="19232" y="8922"/>
                  <a:pt x="19224" y="893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875640" y="3071880"/>
            <a:ext cx="152280" cy="54000"/>
          </a:xfrm>
          <a:custGeom>
            <a:avLst/>
            <a:gdLst/>
            <a:ahLst/>
            <a:rect l="l" t="t" r="r" b="b"/>
            <a:pathLst>
              <a:path w="422" h="150">
                <a:moveTo>
                  <a:pt x="19100" y="8682"/>
                </a:moveTo>
                <a:cubicBezTo>
                  <a:pt x="19239" y="8628"/>
                  <a:pt x="19379" y="8580"/>
                  <a:pt x="19521" y="853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161120" y="3000240"/>
            <a:ext cx="135000" cy="152640"/>
          </a:xfrm>
          <a:custGeom>
            <a:avLst/>
            <a:gdLst/>
            <a:ahLst/>
            <a:rect l="l" t="t" r="r" b="b"/>
            <a:pathLst>
              <a:path w="373" h="423">
                <a:moveTo>
                  <a:pt x="19893" y="8359"/>
                </a:moveTo>
                <a:cubicBezTo>
                  <a:pt x="19996" y="8335"/>
                  <a:pt x="20174" y="8287"/>
                  <a:pt x="20216" y="8434"/>
                </a:cubicBezTo>
                <a:cubicBezTo>
                  <a:pt x="20261" y="8593"/>
                  <a:pt x="20125" y="8750"/>
                  <a:pt x="19968" y="8756"/>
                </a:cubicBezTo>
                <a:cubicBezTo>
                  <a:pt x="19951" y="8748"/>
                  <a:pt x="19935" y="8739"/>
                  <a:pt x="19918" y="8731"/>
                </a:cubicBezTo>
                <a:cubicBezTo>
                  <a:pt x="19946" y="8566"/>
                  <a:pt x="20017" y="8531"/>
                  <a:pt x="20191" y="8582"/>
                </a:cubicBezTo>
                <a:cubicBezTo>
                  <a:pt x="20221" y="8612"/>
                  <a:pt x="20235" y="8623"/>
                  <a:pt x="20265" y="863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358040" y="2955960"/>
            <a:ext cx="108000" cy="142920"/>
          </a:xfrm>
          <a:custGeom>
            <a:avLst/>
            <a:gdLst/>
            <a:ahLst/>
            <a:rect l="l" t="t" r="r" b="b"/>
            <a:pathLst>
              <a:path w="299" h="398">
                <a:moveTo>
                  <a:pt x="20439" y="8210"/>
                </a:moveTo>
                <a:cubicBezTo>
                  <a:pt x="20439" y="8315"/>
                  <a:pt x="20429" y="8326"/>
                  <a:pt x="20538" y="8359"/>
                </a:cubicBezTo>
                <a:cubicBezTo>
                  <a:pt x="20609" y="8380"/>
                  <a:pt x="20801" y="8400"/>
                  <a:pt x="20737" y="8533"/>
                </a:cubicBezTo>
                <a:cubicBezTo>
                  <a:pt x="20674" y="8663"/>
                  <a:pt x="20587" y="8572"/>
                  <a:pt x="20513" y="853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375680" y="2901960"/>
            <a:ext cx="134640" cy="46080"/>
          </a:xfrm>
          <a:custGeom>
            <a:avLst/>
            <a:gdLst/>
            <a:ahLst/>
            <a:rect l="l" t="t" r="r" b="b"/>
            <a:pathLst>
              <a:path w="373" h="125">
                <a:moveTo>
                  <a:pt x="20489" y="8136"/>
                </a:moveTo>
                <a:cubicBezTo>
                  <a:pt x="20536" y="8120"/>
                  <a:pt x="20835" y="7987"/>
                  <a:pt x="20861" y="8086"/>
                </a:cubicBezTo>
                <a:cubicBezTo>
                  <a:pt x="20861" y="8119"/>
                  <a:pt x="20861" y="8153"/>
                  <a:pt x="20861" y="818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43840" y="3125880"/>
            <a:ext cx="401400" cy="106200"/>
          </a:xfrm>
          <a:custGeom>
            <a:avLst/>
            <a:gdLst/>
            <a:ahLst/>
            <a:rect l="l" t="t" r="r" b="b"/>
            <a:pathLst>
              <a:path w="1117" h="298">
                <a:moveTo>
                  <a:pt x="19844" y="8979"/>
                </a:moveTo>
                <a:cubicBezTo>
                  <a:pt x="20022" y="8953"/>
                  <a:pt x="20215" y="8878"/>
                  <a:pt x="20389" y="8830"/>
                </a:cubicBezTo>
                <a:cubicBezTo>
                  <a:pt x="20563" y="8782"/>
                  <a:pt x="20738" y="8718"/>
                  <a:pt x="20910" y="8682"/>
                </a:cubicBezTo>
                <a:cubicBezTo>
                  <a:pt x="20949" y="8674"/>
                  <a:pt x="20950" y="8678"/>
                  <a:pt x="20960" y="870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232760" y="3259080"/>
            <a:ext cx="135000" cy="241200"/>
          </a:xfrm>
          <a:custGeom>
            <a:avLst/>
            <a:gdLst/>
            <a:ahLst/>
            <a:rect l="l" t="t" r="r" b="b"/>
            <a:pathLst>
              <a:path w="373" h="670">
                <a:moveTo>
                  <a:pt x="20464" y="9128"/>
                </a:moveTo>
                <a:cubicBezTo>
                  <a:pt x="20437" y="9088"/>
                  <a:pt x="20316" y="9046"/>
                  <a:pt x="20241" y="9054"/>
                </a:cubicBezTo>
                <a:cubicBezTo>
                  <a:pt x="20124" y="9067"/>
                  <a:pt x="20038" y="9253"/>
                  <a:pt x="20117" y="9351"/>
                </a:cubicBezTo>
                <a:cubicBezTo>
                  <a:pt x="20217" y="9476"/>
                  <a:pt x="20374" y="9263"/>
                  <a:pt x="20414" y="9203"/>
                </a:cubicBezTo>
                <a:cubicBezTo>
                  <a:pt x="20422" y="9186"/>
                  <a:pt x="20431" y="9170"/>
                  <a:pt x="20439" y="9153"/>
                </a:cubicBezTo>
                <a:cubicBezTo>
                  <a:pt x="20459" y="9311"/>
                  <a:pt x="20469" y="9440"/>
                  <a:pt x="20439" y="9599"/>
                </a:cubicBezTo>
                <a:cubicBezTo>
                  <a:pt x="20438" y="9603"/>
                  <a:pt x="20414" y="9807"/>
                  <a:pt x="20414" y="967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439040" y="3286080"/>
            <a:ext cx="142920" cy="196920"/>
          </a:xfrm>
          <a:custGeom>
            <a:avLst/>
            <a:gdLst/>
            <a:ahLst/>
            <a:rect l="l" t="t" r="r" b="b"/>
            <a:pathLst>
              <a:path w="398" h="547">
                <a:moveTo>
                  <a:pt x="20836" y="9128"/>
                </a:moveTo>
                <a:cubicBezTo>
                  <a:pt x="20765" y="9152"/>
                  <a:pt x="20710" y="9349"/>
                  <a:pt x="20687" y="9426"/>
                </a:cubicBezTo>
                <a:cubicBezTo>
                  <a:pt x="20664" y="9542"/>
                  <a:pt x="20653" y="9575"/>
                  <a:pt x="20687" y="9649"/>
                </a:cubicBezTo>
                <a:cubicBezTo>
                  <a:pt x="20871" y="9677"/>
                  <a:pt x="20967" y="9611"/>
                  <a:pt x="21034" y="9426"/>
                </a:cubicBezTo>
                <a:cubicBezTo>
                  <a:pt x="21092" y="9266"/>
                  <a:pt x="20983" y="9148"/>
                  <a:pt x="20836" y="9128"/>
                </a:cubicBezTo>
                <a:cubicBezTo>
                  <a:pt x="20819" y="9128"/>
                  <a:pt x="20803" y="9128"/>
                  <a:pt x="20786" y="912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626240" y="3160800"/>
            <a:ext cx="44640" cy="46080"/>
          </a:xfrm>
          <a:custGeom>
            <a:avLst/>
            <a:gdLst/>
            <a:ahLst/>
            <a:rect l="l" t="t" r="r" b="b"/>
            <a:pathLst>
              <a:path w="125" h="125">
                <a:moveTo>
                  <a:pt x="21258" y="8781"/>
                </a:moveTo>
                <a:cubicBezTo>
                  <a:pt x="21193" y="8827"/>
                  <a:pt x="21193" y="8825"/>
                  <a:pt x="21183" y="8905"/>
                </a:cubicBezTo>
                <a:cubicBezTo>
                  <a:pt x="21244" y="8905"/>
                  <a:pt x="21299" y="8926"/>
                  <a:pt x="21307" y="8855"/>
                </a:cubicBezTo>
                <a:cubicBezTo>
                  <a:pt x="21307" y="8822"/>
                  <a:pt x="21299" y="8814"/>
                  <a:pt x="21258" y="883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9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Showcard Gothic"/>
              </a:rPr>
              <a:t>Supplementary Angles</a:t>
            </a: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upplementary Angles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Angles whose sum is 180 degree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762120" y="3200400"/>
            <a:ext cx="4066920" cy="1361880"/>
            <a:chOff x="762120" y="3200400"/>
            <a:chExt cx="4066920" cy="1361880"/>
          </a:xfrm>
        </p:grpSpPr>
        <p:grpSp>
          <p:nvGrpSpPr>
            <p:cNvPr id="244" name=""/>
            <p:cNvGrpSpPr/>
            <p:nvPr/>
          </p:nvGrpSpPr>
          <p:grpSpPr>
            <a:xfrm>
              <a:off x="762120" y="3200400"/>
              <a:ext cx="4066920" cy="1361880"/>
              <a:chOff x="762120" y="3200400"/>
              <a:chExt cx="4066920" cy="1361880"/>
            </a:xfrm>
          </p:grpSpPr>
          <p:pic>
            <p:nvPicPr>
              <p:cNvPr id="24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62120" y="4267080"/>
                <a:ext cx="406692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6" name=""/>
              <p:cNvSpPr/>
              <p:nvPr/>
            </p:nvSpPr>
            <p:spPr>
              <a:xfrm flipV="1">
                <a:off x="2743200" y="3200400"/>
                <a:ext cx="990000" cy="121896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" name=""/>
            <p:cNvSpPr/>
            <p:nvPr/>
          </p:nvSpPr>
          <p:spPr>
            <a:xfrm>
              <a:off x="1905120" y="38862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3276720" y="3886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554800" y="2705040"/>
            <a:ext cx="669960" cy="295200"/>
          </a:xfrm>
          <a:custGeom>
            <a:avLst/>
            <a:gdLst/>
            <a:ahLst/>
            <a:rect l="l" t="t" r="r" b="b"/>
            <a:pathLst>
              <a:path w="1861" h="819">
                <a:moveTo>
                  <a:pt x="15429" y="7689"/>
                </a:moveTo>
                <a:cubicBezTo>
                  <a:pt x="15429" y="7648"/>
                  <a:pt x="15421" y="7632"/>
                  <a:pt x="15453" y="7640"/>
                </a:cubicBezTo>
                <a:cubicBezTo>
                  <a:pt x="15505" y="7819"/>
                  <a:pt x="15522" y="8021"/>
                  <a:pt x="15503" y="8210"/>
                </a:cubicBezTo>
                <a:cubicBezTo>
                  <a:pt x="15485" y="8301"/>
                  <a:pt x="15443" y="8342"/>
                  <a:pt x="15503" y="8334"/>
                </a:cubicBezTo>
              </a:path>
              <a:path w="1861" h="819">
                <a:moveTo>
                  <a:pt x="15949" y="7590"/>
                </a:moveTo>
                <a:cubicBezTo>
                  <a:pt x="16138" y="7658"/>
                  <a:pt x="16474" y="7729"/>
                  <a:pt x="16396" y="8012"/>
                </a:cubicBezTo>
                <a:cubicBezTo>
                  <a:pt x="16329" y="8254"/>
                  <a:pt x="16046" y="8295"/>
                  <a:pt x="15850" y="8285"/>
                </a:cubicBezTo>
                <a:cubicBezTo>
                  <a:pt x="15946" y="8092"/>
                  <a:pt x="16060" y="7981"/>
                  <a:pt x="16297" y="8062"/>
                </a:cubicBezTo>
                <a:cubicBezTo>
                  <a:pt x="16366" y="8086"/>
                  <a:pt x="16424" y="8162"/>
                  <a:pt x="16495" y="8186"/>
                </a:cubicBezTo>
              </a:path>
              <a:path w="1861" h="819">
                <a:moveTo>
                  <a:pt x="16917" y="7516"/>
                </a:moveTo>
                <a:cubicBezTo>
                  <a:pt x="16757" y="7625"/>
                  <a:pt x="16589" y="7788"/>
                  <a:pt x="16694" y="8012"/>
                </a:cubicBezTo>
                <a:cubicBezTo>
                  <a:pt x="16815" y="8271"/>
                  <a:pt x="17166" y="8079"/>
                  <a:pt x="17264" y="7913"/>
                </a:cubicBezTo>
                <a:cubicBezTo>
                  <a:pt x="17272" y="7863"/>
                  <a:pt x="17281" y="7814"/>
                  <a:pt x="17289" y="7764"/>
                </a:cubicBezTo>
                <a:cubicBezTo>
                  <a:pt x="17092" y="7619"/>
                  <a:pt x="17009" y="7611"/>
                  <a:pt x="16768" y="766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30880" y="3170160"/>
            <a:ext cx="1179360" cy="384120"/>
          </a:xfrm>
          <a:custGeom>
            <a:avLst/>
            <a:gdLst/>
            <a:ahLst/>
            <a:rect l="l" t="t" r="r" b="b"/>
            <a:pathLst>
              <a:path w="3276" h="1067">
                <a:moveTo>
                  <a:pt x="14932" y="9128"/>
                </a:moveTo>
                <a:cubicBezTo>
                  <a:pt x="14942" y="9305"/>
                  <a:pt x="15013" y="9500"/>
                  <a:pt x="15007" y="9674"/>
                </a:cubicBezTo>
                <a:cubicBezTo>
                  <a:pt x="14999" y="9682"/>
                  <a:pt x="14990" y="9691"/>
                  <a:pt x="14982" y="9699"/>
                </a:cubicBezTo>
              </a:path>
              <a:path w="3276" h="1067">
                <a:moveTo>
                  <a:pt x="14808" y="9376"/>
                </a:moveTo>
                <a:cubicBezTo>
                  <a:pt x="15048" y="9337"/>
                  <a:pt x="15288" y="9294"/>
                  <a:pt x="15528" y="9252"/>
                </a:cubicBezTo>
              </a:path>
              <a:path w="3276" h="1067">
                <a:moveTo>
                  <a:pt x="16272" y="8880"/>
                </a:moveTo>
                <a:cubicBezTo>
                  <a:pt x="16337" y="8837"/>
                  <a:pt x="16255" y="9010"/>
                  <a:pt x="16247" y="9054"/>
                </a:cubicBezTo>
                <a:cubicBezTo>
                  <a:pt x="16228" y="9163"/>
                  <a:pt x="16154" y="9535"/>
                  <a:pt x="16371" y="9550"/>
                </a:cubicBezTo>
                <a:cubicBezTo>
                  <a:pt x="16627" y="9567"/>
                  <a:pt x="16773" y="9315"/>
                  <a:pt x="16818" y="9128"/>
                </a:cubicBezTo>
                <a:cubicBezTo>
                  <a:pt x="16656" y="9083"/>
                  <a:pt x="16507" y="9137"/>
                  <a:pt x="16495" y="9351"/>
                </a:cubicBezTo>
                <a:cubicBezTo>
                  <a:pt x="16527" y="9448"/>
                  <a:pt x="16559" y="9473"/>
                  <a:pt x="16669" y="9426"/>
                </a:cubicBezTo>
              </a:path>
              <a:path w="3276" h="1067">
                <a:moveTo>
                  <a:pt x="17140" y="8855"/>
                </a:moveTo>
                <a:cubicBezTo>
                  <a:pt x="17045" y="8989"/>
                  <a:pt x="16970" y="9164"/>
                  <a:pt x="17165" y="9277"/>
                </a:cubicBezTo>
                <a:cubicBezTo>
                  <a:pt x="17342" y="9379"/>
                  <a:pt x="17523" y="9170"/>
                  <a:pt x="17512" y="9004"/>
                </a:cubicBezTo>
                <a:cubicBezTo>
                  <a:pt x="17491" y="8678"/>
                  <a:pt x="17149" y="8849"/>
                  <a:pt x="17016" y="8954"/>
                </a:cubicBezTo>
                <a:cubicBezTo>
                  <a:pt x="16975" y="8996"/>
                  <a:pt x="16933" y="9037"/>
                  <a:pt x="16892" y="9079"/>
                </a:cubicBezTo>
              </a:path>
              <a:path w="3276" h="1067">
                <a:moveTo>
                  <a:pt x="15379" y="9872"/>
                </a:moveTo>
                <a:cubicBezTo>
                  <a:pt x="15811" y="9822"/>
                  <a:pt x="16239" y="9720"/>
                  <a:pt x="16669" y="9649"/>
                </a:cubicBezTo>
                <a:cubicBezTo>
                  <a:pt x="17144" y="9570"/>
                  <a:pt x="17581" y="9534"/>
                  <a:pt x="18058" y="9550"/>
                </a:cubicBezTo>
                <a:cubicBezTo>
                  <a:pt x="18083" y="9550"/>
                  <a:pt x="18091" y="9550"/>
                  <a:pt x="18058" y="955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776920" y="3571920"/>
            <a:ext cx="689040" cy="268200"/>
          </a:xfrm>
          <a:custGeom>
            <a:avLst/>
            <a:gdLst/>
            <a:ahLst/>
            <a:rect l="l" t="t" r="r" b="b"/>
            <a:pathLst>
              <a:path w="1911" h="745">
                <a:moveTo>
                  <a:pt x="16049" y="9922"/>
                </a:moveTo>
                <a:cubicBezTo>
                  <a:pt x="16123" y="10117"/>
                  <a:pt x="16145" y="10307"/>
                  <a:pt x="16123" y="10517"/>
                </a:cubicBezTo>
                <a:cubicBezTo>
                  <a:pt x="16102" y="10599"/>
                  <a:pt x="16094" y="10650"/>
                  <a:pt x="16098" y="10567"/>
                </a:cubicBezTo>
              </a:path>
              <a:path w="1911" h="745">
                <a:moveTo>
                  <a:pt x="16842" y="10021"/>
                </a:moveTo>
                <a:cubicBezTo>
                  <a:pt x="16812" y="10034"/>
                  <a:pt x="16374" y="10214"/>
                  <a:pt x="16545" y="10319"/>
                </a:cubicBezTo>
                <a:cubicBezTo>
                  <a:pt x="16679" y="10401"/>
                  <a:pt x="16851" y="10429"/>
                  <a:pt x="16991" y="10517"/>
                </a:cubicBezTo>
                <a:cubicBezTo>
                  <a:pt x="16957" y="10592"/>
                  <a:pt x="16673" y="10791"/>
                  <a:pt x="16570" y="10641"/>
                </a:cubicBezTo>
                <a:cubicBezTo>
                  <a:pt x="16419" y="10421"/>
                  <a:pt x="16896" y="10190"/>
                  <a:pt x="16991" y="10071"/>
                </a:cubicBezTo>
                <a:cubicBezTo>
                  <a:pt x="17034" y="10018"/>
                  <a:pt x="16859" y="10103"/>
                  <a:pt x="16793" y="10120"/>
                </a:cubicBezTo>
              </a:path>
              <a:path w="1911" h="745">
                <a:moveTo>
                  <a:pt x="17537" y="9947"/>
                </a:moveTo>
                <a:cubicBezTo>
                  <a:pt x="17399" y="10072"/>
                  <a:pt x="17123" y="10266"/>
                  <a:pt x="17338" y="10468"/>
                </a:cubicBezTo>
                <a:cubicBezTo>
                  <a:pt x="17550" y="10667"/>
                  <a:pt x="17824" y="10404"/>
                  <a:pt x="17959" y="10269"/>
                </a:cubicBezTo>
                <a:cubicBezTo>
                  <a:pt x="17805" y="10038"/>
                  <a:pt x="17783" y="10071"/>
                  <a:pt x="17487" y="1004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820880" y="65008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5060" y="18058"/>
                </a:moveTo>
                <a:lnTo>
                  <a:pt x="5060" y="18058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  <p:sndAc>
      <p:stSnd>
        <p:snd r:embed="rId2" name="drumroll.wav"/>
      </p:stSnd>
    </p:sndAc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9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Showcard Gothic"/>
              </a:rPr>
              <a:t>Adjacent Angles</a:t>
            </a: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djacent Angles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Angles that share a common ray (side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3352680" y="3200400"/>
            <a:ext cx="2371680" cy="23544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  <p:sndAc>
      <p:stSnd>
        <p:snd r:embed="rId2" name="hammer.wav"/>
      </p:stSnd>
    </p:sndAc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1T17:13:49Z</dcterms:created>
  <dc:creator>ccps</dc:creator>
  <dc:description/>
  <dc:language>en-US</dc:language>
  <cp:lastModifiedBy>ccps</cp:lastModifiedBy>
  <dcterms:modified xsi:type="dcterms:W3CDTF">2010-01-27T18:42:07Z</dcterms:modified>
  <cp:revision>15</cp:revision>
  <dc:subject/>
  <dc:title>Obj 10.1:  To classify angles by their measure.</dc:title>
</cp:coreProperties>
</file>